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FAFF-67FF-4900-8538-0F2F2710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C75-8E2C-4CE1-816B-1D9E54A4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6D4A-00DA-46A6-8394-566BF4D6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C6DF-105E-4F47-AABE-9446B57F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407-ACD2-464D-939E-7E802D28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750-C180-46EF-A547-6581D81F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EE3-C192-45D8-A967-59BEA054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B5B-074D-4D9B-9665-A41335FC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36D-85D1-4F17-B1AD-13056D4E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B0A-09D8-4A8F-AF4C-F5551B90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33A8-DDF7-4532-9883-83C8D11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21D-DBA9-4F17-966D-3F6F158E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89F-871F-4AB8-821E-27F6430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820-8ACF-45ED-9752-642B8BB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7F3-F65B-49D8-9AD3-A865ABE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63CD-8665-4854-8003-A6798E64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895C-FBBA-4939-93EC-B92C7F99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inting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4093" t="5807" r="48629" b="71457"/>
          <a:stretch/>
        </p:blipFill>
        <p:spPr>
          <a:xfrm>
            <a:off x="20520" y="1447920"/>
            <a:ext cx="904716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4093" t="5807" r="48629" b="71457"/>
          <a:stretch/>
        </p:blipFill>
        <p:spPr>
          <a:xfrm>
            <a:off x="20520" y="1447920"/>
            <a:ext cx="904716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8440" y="1523880"/>
            <a:ext cx="8734680" cy="4559760"/>
            <a:chOff x="28440" y="1523880"/>
            <a:chExt cx="8734680" cy="455976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hole in fence, ball, paint bucket, girl’s hair, ice cream c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2438280" y="167616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3843360" y="3733920"/>
              <a:ext cx="45720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685440" y="4038480"/>
              <a:ext cx="45720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8440" y="2057040"/>
              <a:ext cx="609480" cy="1143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662880" y="4176720"/>
              <a:ext cx="6094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562720" y="1523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02Z</dcterms:modified>
  <cp:revision>52</cp:revision>
  <dc:subject/>
  <dc:title>Slide 1</dc:title>
</cp:coreProperties>
</file>