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8B56C-A7AA-4C7F-BFB8-75EB98945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7B427-A4B0-436B-8804-B2B4C63C7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F6A9C-ED9F-472D-BB03-D84211010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42341-BAB1-4825-B2B4-E512BF129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648D-60C9-4C4F-B354-6CE818993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2BB9-BB51-45F5-9D3A-719774A21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BD48-EAD6-427A-8CCE-3E7799AE3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810E-675B-4665-B2F7-677DE50D4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C1A7-C109-40A2-A354-A1AAEC8F2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D797-AAFE-42C7-8CCB-F650429B2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8B07-9651-4064-B099-2748058FE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2988-8CA7-4C4D-8C5B-B04AB3E70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61E6-79DE-48C7-A1D6-744A8165E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074C-1369-447A-B299-6521523D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F17D-E7E9-4A8D-99FE-F340A828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D485-D5C8-4B96-B2FE-DDEFBCAD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39C05-6AE6-4B01-969A-5CDAF63D2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304920" y="304920"/>
            <a:ext cx="2425680" cy="2361600"/>
            <a:chOff x="304920" y="304920"/>
            <a:chExt cx="2425680" cy="2361600"/>
          </a:xfrm>
        </p:grpSpPr>
        <p:pic>
          <p:nvPicPr>
            <p:cNvPr id="49" name="Picture 3" descr="j0308091"/>
            <p:cNvPicPr/>
            <p:nvPr/>
          </p:nvPicPr>
          <p:blipFill>
            <a:blip r:embed="rId1"/>
            <a:stretch/>
          </p:blipFill>
          <p:spPr>
            <a:xfrm>
              <a:off x="466560" y="304920"/>
              <a:ext cx="1608840" cy="18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WordArt 4"/>
            <p:cNvSpPr txBox="1"/>
            <p:nvPr/>
          </p:nvSpPr>
          <p:spPr>
            <a:xfrm>
              <a:off x="304920" y="911520"/>
              <a:ext cx="2425680" cy="175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51" name="Text Box 5"/>
          <p:cNvSpPr/>
          <p:nvPr/>
        </p:nvSpPr>
        <p:spPr>
          <a:xfrm>
            <a:off x="838080" y="4952880"/>
            <a:ext cx="72392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ainting Ti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th Grade Forensic Scien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. Trimpe 2008  http://sciencespot.ne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5943600" y="228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llenge #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7"/>
          <p:cNvSpPr txBox="1"/>
          <p:nvPr/>
        </p:nvSpPr>
        <p:spPr>
          <a:xfrm>
            <a:off x="990720" y="2438280"/>
            <a:ext cx="73152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Spot the Differences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  <p:pic>
        <p:nvPicPr>
          <p:cNvPr id="54" name="Picture 8" descr="MCj04377970000[1]"/>
          <p:cNvPicPr/>
          <p:nvPr/>
        </p:nvPicPr>
        <p:blipFill>
          <a:blip r:embed="rId2"/>
          <a:stretch/>
        </p:blipFill>
        <p:spPr>
          <a:xfrm>
            <a:off x="6019920" y="1523880"/>
            <a:ext cx="185400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914400" y="6094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6 differences between the two pi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rcRect l="4093" t="5807" r="48629" b="71457"/>
          <a:stretch/>
        </p:blipFill>
        <p:spPr>
          <a:xfrm>
            <a:off x="20520" y="1447920"/>
            <a:ext cx="9047160" cy="3581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317520" y="6400800"/>
            <a:ext cx="41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http://www.slylockfox.com/arcade/6diff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914400" y="6094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rcRect l="4093" t="5807" r="48629" b="71457"/>
          <a:stretch/>
        </p:blipFill>
        <p:spPr>
          <a:xfrm>
            <a:off x="20520" y="1447920"/>
            <a:ext cx="9047160" cy="35812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317520" y="6400800"/>
            <a:ext cx="41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http://www.slylockfox.com/arcade/6diff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11"/>
          <p:cNvGrpSpPr/>
          <p:nvPr/>
        </p:nvGrpSpPr>
        <p:grpSpPr>
          <a:xfrm>
            <a:off x="28440" y="1523880"/>
            <a:ext cx="8734680" cy="4559760"/>
            <a:chOff x="28440" y="1523880"/>
            <a:chExt cx="8734680" cy="4559760"/>
          </a:xfrm>
        </p:grpSpPr>
        <p:sp>
          <p:nvSpPr>
            <p:cNvPr id="62" name="Text Box 3"/>
            <p:cNvSpPr/>
            <p:nvPr/>
          </p:nvSpPr>
          <p:spPr>
            <a:xfrm>
              <a:off x="304560" y="5715360"/>
              <a:ext cx="845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swers: Tail feathers, hole in fence, ball, paint bucket, girl’s hair, ice cream c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5"/>
            <p:cNvSpPr/>
            <p:nvPr/>
          </p:nvSpPr>
          <p:spPr>
            <a:xfrm>
              <a:off x="2438280" y="1676160"/>
              <a:ext cx="457200" cy="4572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6"/>
            <p:cNvSpPr/>
            <p:nvPr/>
          </p:nvSpPr>
          <p:spPr>
            <a:xfrm>
              <a:off x="3843360" y="3733920"/>
              <a:ext cx="457200" cy="6858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7"/>
            <p:cNvSpPr/>
            <p:nvPr/>
          </p:nvSpPr>
          <p:spPr>
            <a:xfrm>
              <a:off x="685440" y="4038480"/>
              <a:ext cx="457200" cy="6858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8"/>
            <p:cNvSpPr/>
            <p:nvPr/>
          </p:nvSpPr>
          <p:spPr>
            <a:xfrm>
              <a:off x="28440" y="2057040"/>
              <a:ext cx="609480" cy="11430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9"/>
            <p:cNvSpPr/>
            <p:nvPr/>
          </p:nvSpPr>
          <p:spPr>
            <a:xfrm>
              <a:off x="6662880" y="4176720"/>
              <a:ext cx="609480" cy="6094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10"/>
            <p:cNvSpPr/>
            <p:nvPr/>
          </p:nvSpPr>
          <p:spPr>
            <a:xfrm>
              <a:off x="5562720" y="1523880"/>
              <a:ext cx="609480" cy="6094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7:04:17Z</dcterms:created>
  <dc:creator>Tracy Trimpe</dc:creator>
  <dc:description/>
  <dc:language>en-US</dc:language>
  <cp:lastModifiedBy>Tracy</cp:lastModifiedBy>
  <dcterms:modified xsi:type="dcterms:W3CDTF">2009-08-22T21:26:02Z</dcterms:modified>
  <cp:revision>52</cp:revision>
  <dc:subject/>
  <dc:title>Slide 1</dc:title>
</cp:coreProperties>
</file>