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D4EC-BF04-4E03-B867-A24A294D9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B845-3115-49E1-BE38-57A9F5026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D06C-128C-4731-8048-30101B2A5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8EDE-B69E-4430-B302-5D3ECA959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931-6A4D-4A84-86A6-C689CAF5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6DC-241E-41D2-B584-388D8222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00DE-CDC7-4D45-AC40-1610E95F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F21-5020-4052-A002-1F574A1F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3D5C-A72C-43A5-96EC-A1FA9588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1E3-18FB-472E-A63A-8843DE41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C30-2971-458C-9960-42BDF2B2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830-693B-4B9B-BA5D-57D51B0C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B449-3883-41A8-A7C6-5A285B85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06E-4800-4403-923A-116F32DC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109C-FDDD-4838-88E0-06C675F9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F8A-8931-4621-802A-569300F1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2BEB-9C84-4751-ABC2-F3A3A0AEA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nging Arou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#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rcRect l="4093" t="5979" r="48629" b="70157"/>
          <a:stretch/>
        </p:blipFill>
        <p:spPr>
          <a:xfrm>
            <a:off x="28440" y="1523880"/>
            <a:ext cx="90504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317520" y="6400800"/>
            <a:ext cx="39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4920" y="57150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: Girl’s sock, hole in fence, fly, dress, mouse’s tail, bird’s 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rcRect l="4093" t="5979" r="48629" b="70157"/>
          <a:stretch/>
        </p:blipFill>
        <p:spPr>
          <a:xfrm>
            <a:off x="93600" y="1447920"/>
            <a:ext cx="9050400" cy="3429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17520" y="6400800"/>
            <a:ext cx="39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922320" y="3801960"/>
            <a:ext cx="649440" cy="727200"/>
          </a:xfrm>
          <a:prstGeom prst="ellipse">
            <a:avLst/>
          </a:prstGeom>
          <a:noFill/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304920" y="3809880"/>
            <a:ext cx="457200" cy="533520"/>
          </a:xfrm>
          <a:prstGeom prst="ellipse">
            <a:avLst/>
          </a:prstGeom>
          <a:noFill/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3352680" y="2362320"/>
            <a:ext cx="609840" cy="609480"/>
          </a:xfrm>
          <a:prstGeom prst="ellipse">
            <a:avLst/>
          </a:prstGeom>
          <a:noFill/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7939080" y="1849320"/>
            <a:ext cx="609480" cy="457200"/>
          </a:xfrm>
          <a:prstGeom prst="ellipse">
            <a:avLst/>
          </a:prstGeom>
          <a:noFill/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9"/>
          <p:cNvSpPr/>
          <p:nvPr/>
        </p:nvSpPr>
        <p:spPr>
          <a:xfrm>
            <a:off x="8505720" y="4238640"/>
            <a:ext cx="381240" cy="457200"/>
          </a:xfrm>
          <a:prstGeom prst="ellipse">
            <a:avLst/>
          </a:prstGeom>
          <a:noFill/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0"/>
          <p:cNvSpPr/>
          <p:nvPr/>
        </p:nvSpPr>
        <p:spPr>
          <a:xfrm>
            <a:off x="838080" y="2514600"/>
            <a:ext cx="685800" cy="533520"/>
          </a:xfrm>
          <a:prstGeom prst="ellipse">
            <a:avLst/>
          </a:prstGeom>
          <a:noFill/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11:15Z</dcterms:modified>
  <cp:revision>53</cp:revision>
  <dc:subject/>
  <dc:title>Slide 1</dc:title>
</cp:coreProperties>
</file>