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9888-14E7-4E72-ABB0-F4B85353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BDA-BF6D-4DA4-AD75-3E9348E2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5490-0C82-4C2F-98A5-3E3094B0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8A72-491D-4270-B266-B021D86B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0AC-3EA7-4672-A5EB-92281A2F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82D-A737-4766-A803-5890670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192-6DE8-449A-982E-4A5821A4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3FB-82BB-4E51-9DC9-8C725884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DCE-33D0-47FE-B4ED-27A2B57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A3F-8B6D-4E6D-9930-F6B88DFD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102-8C7A-42E3-8D99-622BA6A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2ED-241A-4B5A-ADDC-E1D73A1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14E-9660-4BC6-9658-E5F28DB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69B-68DC-4994-AE21-3C7E5B1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988-3B35-4693-B4F2-AC6ABD2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8BC-7157-4536-AF44-4541ED4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9C47-B02E-49D7-B9B5-BB4A39B7E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533520" y="4952880"/>
            <a:ext cx="7924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One That Got A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8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rcRect l="4093" t="5979" r="48629" b="72057"/>
          <a:stretch/>
        </p:blipFill>
        <p:spPr>
          <a:xfrm>
            <a:off x="152280" y="1371600"/>
            <a:ext cx="889956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4093" t="5979" r="48629" b="72057"/>
          <a:stretch/>
        </p:blipFill>
        <p:spPr>
          <a:xfrm>
            <a:off x="152280" y="1371600"/>
            <a:ext cx="88995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228600" y="1523880"/>
            <a:ext cx="8686800" cy="4376880"/>
            <a:chOff x="228600" y="1523880"/>
            <a:chExt cx="8686800" cy="4376880"/>
          </a:xfrm>
        </p:grpSpPr>
        <p:sp>
          <p:nvSpPr>
            <p:cNvPr id="61" name="Text Box 3"/>
            <p:cNvSpPr/>
            <p:nvPr/>
          </p:nvSpPr>
          <p:spPr>
            <a:xfrm>
              <a:off x="304560" y="525816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Green fish’s fin, orange fish’s tooth, bird missing in sky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g’s head, missing branch, crane’s head, cat’s feet, cat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228600" y="281916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3047760" y="38098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1447560" y="15238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8153640" y="281916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2743200" y="24382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990360" y="38098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8382240" y="365760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2"/>
            <p:cNvSpPr/>
            <p:nvPr/>
          </p:nvSpPr>
          <p:spPr>
            <a:xfrm>
              <a:off x="5867280" y="3581280"/>
              <a:ext cx="99036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5:32Z</dcterms:modified>
  <cp:revision>63</cp:revision>
  <dc:subject/>
  <dc:title>Slide 1</dc:title>
</cp:coreProperties>
</file>