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DEB4-4BE4-45CD-B255-C906DD592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6ED6-471A-414C-A72D-7F3D4EE2E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89E1-EEBA-4A3A-997D-49A9E9106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FD49-8BDE-4BF7-A3B0-E6836802C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AAFA-5E1E-427B-BCD1-120C2B75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AAF1-9D36-47A4-9908-642FE67D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1D4F-13A7-4E4E-AA67-36509A6B9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6945-43E4-42BD-8A18-BE36FFC0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2DB6-8866-4767-A9A2-C9D9C22B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1131-CD2A-49E3-B2D4-CE844BCD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31D6-1726-48C9-8C1B-4431F145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BA59-7C79-45BF-8C11-5163D105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3B19-0728-419F-8AC8-E99C47E0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1F52-7901-49C4-A75D-36B75B58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23A8-9EEA-46C2-9C6F-DA736DCD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F832-5383-429C-96C6-B3E2BEFC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A83E-2FF0-4D28-9369-0C0B66C78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838080" y="4952880"/>
            <a:ext cx="72392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oodby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 #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4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5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6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"/>
          <p:cNvPicPr/>
          <p:nvPr/>
        </p:nvPicPr>
        <p:blipFill>
          <a:blip r:embed="rId1"/>
          <a:srcRect l="4440" t="5827" r="49419" b="70128"/>
          <a:stretch/>
        </p:blipFill>
        <p:spPr>
          <a:xfrm>
            <a:off x="76320" y="1523880"/>
            <a:ext cx="8915400" cy="35053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3"/>
          <p:cNvSpPr/>
          <p:nvPr/>
        </p:nvSpPr>
        <p:spPr>
          <a:xfrm>
            <a:off x="317520" y="6400800"/>
            <a:ext cx="448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5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2" descr=""/>
          <p:cNvPicPr/>
          <p:nvPr/>
        </p:nvPicPr>
        <p:blipFill>
          <a:blip r:embed="rId1"/>
          <a:srcRect l="4440" t="5827" r="49419" b="70128"/>
          <a:stretch/>
        </p:blipFill>
        <p:spPr>
          <a:xfrm>
            <a:off x="76320" y="1523880"/>
            <a:ext cx="8915400" cy="35053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3"/>
          <p:cNvSpPr/>
          <p:nvPr/>
        </p:nvSpPr>
        <p:spPr>
          <a:xfrm>
            <a:off x="317520" y="6400800"/>
            <a:ext cx="448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1"/>
          <p:cNvGrpSpPr/>
          <p:nvPr/>
        </p:nvGrpSpPr>
        <p:grpSpPr>
          <a:xfrm>
            <a:off x="304920" y="1981080"/>
            <a:ext cx="8686800" cy="4102560"/>
            <a:chOff x="304920" y="1981080"/>
            <a:chExt cx="8686800" cy="4102560"/>
          </a:xfrm>
        </p:grpSpPr>
        <p:sp>
          <p:nvSpPr>
            <p:cNvPr id="62" name="Text Box 16"/>
            <p:cNvSpPr/>
            <p:nvPr/>
          </p:nvSpPr>
          <p:spPr>
            <a:xfrm>
              <a:off x="304920" y="571536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s:  Purse, aunt’s eye, sock, cat’s tail, boy’s belly, roof on ho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5"/>
            <p:cNvSpPr/>
            <p:nvPr/>
          </p:nvSpPr>
          <p:spPr>
            <a:xfrm>
              <a:off x="1981080" y="3581280"/>
              <a:ext cx="457200" cy="60948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"/>
            <p:cNvSpPr/>
            <p:nvPr/>
          </p:nvSpPr>
          <p:spPr>
            <a:xfrm>
              <a:off x="2438280" y="2209680"/>
              <a:ext cx="457200" cy="60948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7"/>
            <p:cNvSpPr/>
            <p:nvPr/>
          </p:nvSpPr>
          <p:spPr>
            <a:xfrm>
              <a:off x="2209680" y="4191120"/>
              <a:ext cx="457200" cy="60948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8"/>
            <p:cNvSpPr/>
            <p:nvPr/>
          </p:nvSpPr>
          <p:spPr>
            <a:xfrm>
              <a:off x="8534520" y="4038480"/>
              <a:ext cx="457200" cy="60948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9"/>
            <p:cNvSpPr/>
            <p:nvPr/>
          </p:nvSpPr>
          <p:spPr>
            <a:xfrm>
              <a:off x="7010640" y="3276360"/>
              <a:ext cx="1218960" cy="60948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0"/>
            <p:cNvSpPr/>
            <p:nvPr/>
          </p:nvSpPr>
          <p:spPr>
            <a:xfrm>
              <a:off x="4676760" y="1981080"/>
              <a:ext cx="914400" cy="106668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1:25:18Z</dcterms:modified>
  <cp:revision>57</cp:revision>
  <dc:subject/>
  <dc:title>Slide 1</dc:title>
</cp:coreProperties>
</file>