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442E-0A00-41A8-899A-BDD052B8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1D30-0D0E-4A75-BFAF-56211957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2CC9-967E-41B2-93F8-D38B6141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5010-1D69-448B-B831-CCFAB565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2DA-FAA9-4958-ADCC-33196BE6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E73-24C5-418A-B3B0-1EE3308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0FA-21D3-45B7-A31D-F005AC7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3DA-3667-401C-A503-C7687A4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1EE-2329-4723-8971-C909794E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4D9-4E65-4CE9-BF5C-B7D71CB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2E0-1871-4534-AF41-9EBE8965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62A-DC40-45E0-AD24-8ED636E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609-4559-4B7C-B3B8-A9314E0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96B-EC71-40F4-8471-D5AC87B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EA8-42A0-49B5-9DAB-4E27D198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0CE-9FF6-4FC0-9013-D3E90C4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D47-CE3F-4350-964F-CA85EA35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arbage Gu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1" descr=""/>
          <p:cNvPicPr/>
          <p:nvPr/>
        </p:nvPicPr>
        <p:blipFill>
          <a:blip r:embed="rId1"/>
          <a:srcRect l="4093" t="5792" r="48629" b="71678"/>
          <a:stretch/>
        </p:blipFill>
        <p:spPr>
          <a:xfrm>
            <a:off x="76320" y="1371600"/>
            <a:ext cx="891360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2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"/>
          <p:cNvPicPr/>
          <p:nvPr/>
        </p:nvPicPr>
        <p:blipFill>
          <a:blip r:embed="rId1"/>
          <a:srcRect l="4093" t="5792" r="48629" b="71678"/>
          <a:stretch/>
        </p:blipFill>
        <p:spPr>
          <a:xfrm>
            <a:off x="76320" y="1371600"/>
            <a:ext cx="891360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152280" y="1600200"/>
            <a:ext cx="8610840" cy="4483440"/>
            <a:chOff x="152280" y="1600200"/>
            <a:chExt cx="8610840" cy="4483440"/>
          </a:xfrm>
        </p:grpSpPr>
        <p:sp>
          <p:nvSpPr>
            <p:cNvPr id="62" name="Text Box 16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Lawn or hill, steps, woman’s mouth, garbage can, can lid,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809880" y="365760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52280" y="26668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52280" y="33526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3657600" y="26668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553440" y="304812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639040" y="160020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58Z</dcterms:modified>
  <cp:revision>57</cp:revision>
  <dc:subject/>
  <dc:title>Slide 1</dc:title>
</cp:coreProperties>
</file>