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BBF1-A514-41B3-9F20-6A14172C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64E1-DBDF-45D9-9333-2E31B72A3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9B52-D657-4784-A835-C9774F66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1545-56C8-4BFC-B61E-1B90BFC1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C40-39F0-4AE7-AC54-3919D76E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358-85FF-43E0-B9B4-05244D76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3942-014E-4B6D-9FAA-49C1E3D2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B82-2490-4F43-A561-06E1489E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47A-00E6-4CD4-9D1C-91A615F7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518-3DBD-4061-BBCF-1D1B73A7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623-FCB6-41BF-9BEE-BF73727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4EE-DAE1-474E-9F27-63D3E6A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76A-EDCF-401B-9F0C-C363A9DF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F44-BA82-49E2-8DAF-665033F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B9E-CBC4-4BA7-A02C-9B867E6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DDE-0247-4C49-835E-BDDE283F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E89A-AD3C-4A2A-A9FC-51886A29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304920" y="304920"/>
            <a:ext cx="2425680" cy="2361600"/>
            <a:chOff x="304920" y="304920"/>
            <a:chExt cx="2425680" cy="2361600"/>
          </a:xfrm>
        </p:grpSpPr>
        <p:pic>
          <p:nvPicPr>
            <p:cNvPr id="49" name="Picture 3" descr="j0308091"/>
            <p:cNvPicPr/>
            <p:nvPr/>
          </p:nvPicPr>
          <p:blipFill>
            <a:blip r:embed="rId1"/>
            <a:stretch/>
          </p:blipFill>
          <p:spPr>
            <a:xfrm>
              <a:off x="466560" y="304920"/>
              <a:ext cx="160884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WordArt 4"/>
            <p:cNvSpPr txBox="1"/>
            <p:nvPr/>
          </p:nvSpPr>
          <p:spPr>
            <a:xfrm>
              <a:off x="304920" y="911520"/>
              <a:ext cx="2425680" cy="175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838080" y="4952880"/>
            <a:ext cx="72392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arbage Gu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th Grade Forensic Sci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Trimpe 2008  http://sciencespot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 #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990720" y="24382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Spot the Differences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pic>
        <p:nvPicPr>
          <p:cNvPr id="54" name="Picture 8" descr="MCj04377970000[1]"/>
          <p:cNvPicPr/>
          <p:nvPr/>
        </p:nvPicPr>
        <p:blipFill>
          <a:blip r:embed="rId2"/>
          <a:stretch/>
        </p:blipFill>
        <p:spPr>
          <a:xfrm>
            <a:off x="6019920" y="1523880"/>
            <a:ext cx="1854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6 differences between the two pi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1" descr=""/>
          <p:cNvPicPr/>
          <p:nvPr/>
        </p:nvPicPr>
        <p:blipFill>
          <a:blip r:embed="rId1"/>
          <a:srcRect l="4093" t="5792" r="48629" b="71678"/>
          <a:stretch/>
        </p:blipFill>
        <p:spPr>
          <a:xfrm>
            <a:off x="76320" y="1371600"/>
            <a:ext cx="8913600" cy="3581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2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5"/>
          <p:cNvSpPr/>
          <p:nvPr/>
        </p:nvSpPr>
        <p:spPr>
          <a:xfrm>
            <a:off x="914400" y="609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"/>
          <p:cNvPicPr/>
          <p:nvPr/>
        </p:nvPicPr>
        <p:blipFill>
          <a:blip r:embed="rId1"/>
          <a:srcRect l="4093" t="5792" r="48629" b="71678"/>
          <a:stretch/>
        </p:blipFill>
        <p:spPr>
          <a:xfrm>
            <a:off x="76320" y="1371600"/>
            <a:ext cx="891360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317520" y="6400800"/>
            <a:ext cx="39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http://www.slylockfox.com/arcade/6diff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152280" y="1600200"/>
            <a:ext cx="8610840" cy="4483440"/>
            <a:chOff x="152280" y="1600200"/>
            <a:chExt cx="8610840" cy="4483440"/>
          </a:xfrm>
        </p:grpSpPr>
        <p:sp>
          <p:nvSpPr>
            <p:cNvPr id="62" name="Text Box 16"/>
            <p:cNvSpPr/>
            <p:nvPr/>
          </p:nvSpPr>
          <p:spPr>
            <a:xfrm>
              <a:off x="304560" y="5715360"/>
              <a:ext cx="84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s:  Lawn or hill, steps, woman’s mouth, garbage can, can lid, 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3809880" y="3657600"/>
              <a:ext cx="457200" cy="45720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52280" y="26668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52280" y="33526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8"/>
            <p:cNvSpPr/>
            <p:nvPr/>
          </p:nvSpPr>
          <p:spPr>
            <a:xfrm>
              <a:off x="3657600" y="266688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9"/>
            <p:cNvSpPr/>
            <p:nvPr/>
          </p:nvSpPr>
          <p:spPr>
            <a:xfrm>
              <a:off x="6553440" y="304812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0"/>
            <p:cNvSpPr/>
            <p:nvPr/>
          </p:nvSpPr>
          <p:spPr>
            <a:xfrm>
              <a:off x="5639040" y="1600200"/>
              <a:ext cx="761760" cy="7617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</cp:lastModifiedBy>
  <dcterms:modified xsi:type="dcterms:W3CDTF">2009-08-22T21:24:58Z</dcterms:modified>
  <cp:revision>57</cp:revision>
  <dc:subject/>
  <dc:title>Slide 1</dc:title>
</cp:coreProperties>
</file>