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8018-D89F-478B-9E50-B85D3921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53BC-E10E-4D11-95A7-DAD90A917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B700-CDB1-4454-8BE6-1EFBF008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F805-93F9-4E01-B18D-DD05800E7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971-8828-41EE-8ECE-C6831B44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475-3EC6-40DA-80E1-F6ED171E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A7A-6BFF-4D00-9EBD-12A9ED11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7C0-2179-404D-890A-A88498D9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E29-E89D-496F-BE8D-3D119A11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14A-F99C-4D1E-A801-1E9452DA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A37-4C3D-485F-918E-0B011E0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B84-3267-4CED-8368-873BA993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F90-E0B5-4582-9AE2-06E6D66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63E-0775-49CB-8283-D1E1CC6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06C-AC0F-4CE6-9E7B-151A0B3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F97-E884-48BC-94CC-9ACDB47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9047-2674-4F1E-B184-989AD750D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eeding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8555040" y="1477800"/>
            <a:ext cx="0" cy="293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"/>
          <p:cNvPicPr/>
          <p:nvPr/>
        </p:nvPicPr>
        <p:blipFill>
          <a:blip r:embed="rId1"/>
          <a:srcRect l="4514" t="5999" r="73115" b="70974"/>
          <a:stretch/>
        </p:blipFill>
        <p:spPr>
          <a:xfrm>
            <a:off x="98280" y="1371600"/>
            <a:ext cx="4530960" cy="35053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2"/>
          <p:cNvGrpSpPr/>
          <p:nvPr/>
        </p:nvGrpSpPr>
        <p:grpSpPr>
          <a:xfrm>
            <a:off x="4648320" y="1371600"/>
            <a:ext cx="4343400" cy="3505320"/>
            <a:chOff x="4648320" y="1371600"/>
            <a:chExt cx="4343400" cy="3505320"/>
          </a:xfrm>
        </p:grpSpPr>
        <p:pic>
          <p:nvPicPr>
            <p:cNvPr id="60" name="Picture 20" descr=""/>
            <p:cNvPicPr/>
            <p:nvPr/>
          </p:nvPicPr>
          <p:blipFill>
            <a:blip r:embed="rId2"/>
            <a:srcRect l="28579" t="5999" r="49847" b="70974"/>
            <a:stretch/>
          </p:blipFill>
          <p:spPr>
            <a:xfrm>
              <a:off x="4648320" y="1371600"/>
              <a:ext cx="43434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21"/>
            <p:cNvSpPr/>
            <p:nvPr/>
          </p:nvSpPr>
          <p:spPr>
            <a:xfrm>
              <a:off x="8982000" y="1504440"/>
              <a:ext cx="0" cy="329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8555040" y="1477800"/>
            <a:ext cx="0" cy="293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"/>
          <p:cNvPicPr/>
          <p:nvPr/>
        </p:nvPicPr>
        <p:blipFill>
          <a:blip r:embed="rId1"/>
          <a:srcRect l="4514" t="5999" r="73115" b="70974"/>
          <a:stretch/>
        </p:blipFill>
        <p:spPr>
          <a:xfrm>
            <a:off x="98280" y="1371600"/>
            <a:ext cx="4530960" cy="3505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2"/>
          <p:cNvGrpSpPr/>
          <p:nvPr/>
        </p:nvGrpSpPr>
        <p:grpSpPr>
          <a:xfrm>
            <a:off x="4648320" y="1371600"/>
            <a:ext cx="4343400" cy="3505320"/>
            <a:chOff x="4648320" y="1371600"/>
            <a:chExt cx="4343400" cy="3505320"/>
          </a:xfrm>
        </p:grpSpPr>
        <p:pic>
          <p:nvPicPr>
            <p:cNvPr id="67" name="Picture 20" descr=""/>
            <p:cNvPicPr/>
            <p:nvPr/>
          </p:nvPicPr>
          <p:blipFill>
            <a:blip r:embed="rId2"/>
            <a:srcRect l="28579" t="5999" r="49847" b="70974"/>
            <a:stretch/>
          </p:blipFill>
          <p:spPr>
            <a:xfrm>
              <a:off x="4648320" y="1371600"/>
              <a:ext cx="43434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21"/>
            <p:cNvSpPr/>
            <p:nvPr/>
          </p:nvSpPr>
          <p:spPr>
            <a:xfrm>
              <a:off x="8982000" y="1504440"/>
              <a:ext cx="0" cy="329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304920" y="1447920"/>
            <a:ext cx="8686800" cy="4635720"/>
            <a:chOff x="304920" y="1447920"/>
            <a:chExt cx="8686800" cy="4635720"/>
          </a:xfrm>
        </p:grpSpPr>
        <p:sp>
          <p:nvSpPr>
            <p:cNvPr id="70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Feed, boy’s hair, bird’s legs, bucket, dog’s collar, duck’s w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9"/>
            <p:cNvSpPr/>
            <p:nvPr/>
          </p:nvSpPr>
          <p:spPr>
            <a:xfrm>
              <a:off x="1905120" y="289548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2"/>
            <p:cNvSpPr/>
            <p:nvPr/>
          </p:nvSpPr>
          <p:spPr>
            <a:xfrm>
              <a:off x="5791320" y="14479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3"/>
            <p:cNvSpPr/>
            <p:nvPr/>
          </p:nvSpPr>
          <p:spPr>
            <a:xfrm>
              <a:off x="8534520" y="205740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4"/>
            <p:cNvSpPr/>
            <p:nvPr/>
          </p:nvSpPr>
          <p:spPr>
            <a:xfrm>
              <a:off x="304920" y="35053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5"/>
            <p:cNvSpPr/>
            <p:nvPr/>
          </p:nvSpPr>
          <p:spPr>
            <a:xfrm>
              <a:off x="4953240" y="243828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6"/>
            <p:cNvSpPr/>
            <p:nvPr/>
          </p:nvSpPr>
          <p:spPr>
            <a:xfrm>
              <a:off x="5410440" y="3810240"/>
              <a:ext cx="609480" cy="83808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4:34Z</dcterms:modified>
  <cp:revision>53</cp:revision>
  <dc:subject/>
  <dc:title>Slide 1</dc:title>
</cp:coreProperties>
</file>