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410D-19D3-4F21-B73D-B68BF731D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D6DF-7E36-4957-9E0A-C543FCE9E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D36A-2236-43CB-8702-B5550FB1A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CF5B-A0B1-4FC8-82DC-9626C2378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D2F-4861-4D18-A086-0396FB7F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B73-642F-4D81-9CCD-E4DC4A83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1A3-7A9F-4408-B941-AEA3671C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B7A2-D12A-4D13-BD89-28A3BAC1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C44E-987A-4A6E-B22A-226F8501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548-D643-40F0-9DF1-0B44B55D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07B5-CBCA-4250-93F3-B8DF9744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3E3A-32C0-4931-B9B2-9FC741BF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4EC-B3DE-4986-8F68-E6C39C61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A78-407F-4842-9094-F9E91AE2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57C-3CB4-4A6B-B1A3-781D40F3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ABC-7503-40A3-8401-1D1B47CA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AEEF-C317-4D66-8446-8E4B8F3A0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inner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"/>
          <p:cNvPicPr/>
          <p:nvPr/>
        </p:nvPicPr>
        <p:blipFill>
          <a:blip r:embed="rId1"/>
          <a:srcRect l="4093" t="5827" r="48629" b="67805"/>
          <a:stretch/>
        </p:blipFill>
        <p:spPr>
          <a:xfrm>
            <a:off x="0" y="1139760"/>
            <a:ext cx="9144000" cy="38368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228600" y="6400800"/>
            <a:ext cx="38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4" descr=""/>
          <p:cNvPicPr/>
          <p:nvPr/>
        </p:nvPicPr>
        <p:blipFill>
          <a:blip r:embed="rId1"/>
          <a:srcRect l="4093" t="5827" r="48629" b="67805"/>
          <a:stretch/>
        </p:blipFill>
        <p:spPr>
          <a:xfrm>
            <a:off x="0" y="1143000"/>
            <a:ext cx="9144000" cy="3836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228600" y="6400800"/>
            <a:ext cx="38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0" y="1371600"/>
            <a:ext cx="8775720" cy="4559760"/>
            <a:chOff x="0" y="1371600"/>
            <a:chExt cx="8775720" cy="4559760"/>
          </a:xfrm>
        </p:grpSpPr>
        <p:sp>
          <p:nvSpPr>
            <p:cNvPr id="62" name="Text Box 16"/>
            <p:cNvSpPr/>
            <p:nvPr/>
          </p:nvSpPr>
          <p:spPr>
            <a:xfrm>
              <a:off x="317160" y="5563080"/>
              <a:ext cx="84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Fish gill, tree stump, cat’s foot, dog’s mouth, bird’s beak, dog’s 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0" y="3124440"/>
              <a:ext cx="609480" cy="68580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838080" y="3124440"/>
              <a:ext cx="609480" cy="68580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2590560" y="4191480"/>
              <a:ext cx="609480" cy="68580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6858000" y="2319840"/>
              <a:ext cx="990360" cy="53316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9"/>
            <p:cNvSpPr/>
            <p:nvPr/>
          </p:nvSpPr>
          <p:spPr>
            <a:xfrm>
              <a:off x="761760" y="2057400"/>
              <a:ext cx="990360" cy="68580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0"/>
            <p:cNvSpPr/>
            <p:nvPr/>
          </p:nvSpPr>
          <p:spPr>
            <a:xfrm>
              <a:off x="6858000" y="1371600"/>
              <a:ext cx="990360" cy="68580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4:02Z</dcterms:modified>
  <cp:revision>51</cp:revision>
  <dc:subject/>
  <dc:title>Slide 1</dc:title>
</cp:coreProperties>
</file>