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2715-F6F3-40A3-8B48-0C83BF3C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EEBE-CD08-4E04-A003-08A2D93D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620B-087F-485B-86DC-290455DC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1C77-DF7E-45FC-A9A0-552220B2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FA8-6A78-4AC9-B060-901A274A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18D-16CC-4319-B5DA-B37F6F4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AE5-AE7F-4001-A2B8-F6816CEB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6F5-3217-4BF6-AB71-C6FF4BA5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D6B-2BC1-4E12-90F3-28CE879E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8E1-EBFF-4AC0-A81C-C53B725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984-C17D-4486-92E5-32626689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BFC-A06B-420B-84C1-4F5B388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7A3F-958A-404B-85EC-6D5CAF47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681-F918-4602-A638-B51C3EA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155-3AF4-4363-A0A4-0D173891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36D-FBED-4809-BA37-272E5DFB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FA96-5874-4CBC-812E-623CDAD63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nner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"/>
          <p:cNvPicPr/>
          <p:nvPr/>
        </p:nvPicPr>
        <p:blipFill>
          <a:blip r:embed="rId1"/>
          <a:srcRect l="4093" t="5827" r="48629" b="67805"/>
          <a:stretch/>
        </p:blipFill>
        <p:spPr>
          <a:xfrm>
            <a:off x="0" y="1139760"/>
            <a:ext cx="9144000" cy="3836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28600" y="640080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"/>
          <p:cNvPicPr/>
          <p:nvPr/>
        </p:nvPicPr>
        <p:blipFill>
          <a:blip r:embed="rId1"/>
          <a:srcRect l="4093" t="5827" r="48629" b="67805"/>
          <a:stretch/>
        </p:blipFill>
        <p:spPr>
          <a:xfrm>
            <a:off x="0" y="1143000"/>
            <a:ext cx="9144000" cy="3836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28600" y="640080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0" y="1371600"/>
            <a:ext cx="8775720" cy="4559760"/>
            <a:chOff x="0" y="1371600"/>
            <a:chExt cx="8775720" cy="4559760"/>
          </a:xfrm>
        </p:grpSpPr>
        <p:sp>
          <p:nvSpPr>
            <p:cNvPr id="62" name="Text Box 16"/>
            <p:cNvSpPr/>
            <p:nvPr/>
          </p:nvSpPr>
          <p:spPr>
            <a:xfrm>
              <a:off x="317160" y="556308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Fish gill, tree stump, cat’s foot, dog’s mouth, bird’s beak, dog’s 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0" y="3124440"/>
              <a:ext cx="60948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838080" y="3124440"/>
              <a:ext cx="60948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2590560" y="4191480"/>
              <a:ext cx="60948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6858000" y="2319840"/>
              <a:ext cx="990360" cy="53316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761760" y="2057400"/>
              <a:ext cx="99036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6858000" y="1371600"/>
              <a:ext cx="990360" cy="68580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4:02Z</dcterms:modified>
  <cp:revision>51</cp:revision>
  <dc:subject/>
  <dc:title>Slide 1</dc:title>
</cp:coreProperties>
</file>