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B9C1-86DA-4547-B84C-AE689F4D1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0B4-0B20-4668-AF3F-013C0CAB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FD6-1131-46F8-AA74-237AEBF9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9CE2-3B70-4256-B133-0D2DE6BE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723-1ABE-449E-AC1E-2B81641F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6CE-E13D-456E-8A38-1FA8DF47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EC3-96C3-4EED-9440-71FA3921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350-F448-4E63-B005-819C3A6C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D41-3FB1-4FF3-AECC-F7B77F4E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AB9-0683-4C21-B8F8-33C894F1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D36-629C-48AF-9EC1-4869FC5A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C712-6B70-4113-96F6-06669D58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AF4-951F-4098-B5E6-13B11BB4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832-2276-4452-A7D8-783F39E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B44E-015A-4727-AC50-53396085D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ppy Birth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7" descr=""/>
          <p:cNvPicPr/>
          <p:nvPr/>
        </p:nvPicPr>
        <p:blipFill>
          <a:blip r:embed="rId1"/>
          <a:srcRect l="4093" t="6171" r="48629" b="69916"/>
          <a:stretch/>
        </p:blipFill>
        <p:spPr>
          <a:xfrm>
            <a:off x="14400" y="1600200"/>
            <a:ext cx="906768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317520" y="640080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"/>
          <p:cNvPicPr/>
          <p:nvPr/>
        </p:nvPicPr>
        <p:blipFill>
          <a:blip r:embed="rId1"/>
          <a:srcRect l="4093" t="6171" r="48629" b="69916"/>
          <a:stretch/>
        </p:blipFill>
        <p:spPr>
          <a:xfrm>
            <a:off x="14400" y="1600200"/>
            <a:ext cx="9067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8"/>
          <p:cNvSpPr/>
          <p:nvPr/>
        </p:nvSpPr>
        <p:spPr>
          <a:xfrm>
            <a:off x="317520" y="6400800"/>
            <a:ext cx="38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304920" y="1981080"/>
            <a:ext cx="8458200" cy="3873960"/>
            <a:chOff x="304920" y="1981080"/>
            <a:chExt cx="8458200" cy="3873960"/>
          </a:xfrm>
        </p:grpSpPr>
        <p:sp>
          <p:nvSpPr>
            <p:cNvPr id="62" name="Text Box 16"/>
            <p:cNvSpPr/>
            <p:nvPr/>
          </p:nvSpPr>
          <p:spPr>
            <a:xfrm>
              <a:off x="304920" y="54867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Tail feathers, flame, monkey’s tail, lion’s mane, cake tray, fro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5715000" y="1981080"/>
              <a:ext cx="60948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3429000" y="3809880"/>
              <a:ext cx="60948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4648320" y="3504960"/>
              <a:ext cx="60948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8077320" y="2895480"/>
              <a:ext cx="60948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6782040" y="2971800"/>
              <a:ext cx="45720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5715000" y="2819160"/>
              <a:ext cx="685800" cy="609480"/>
            </a:xfrm>
            <a:prstGeom prst="ellipse">
              <a:avLst/>
            </a:prstGeom>
            <a:noFill/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31:25Z</dcterms:modified>
  <cp:revision>48</cp:revision>
  <dc:subject/>
  <dc:title>Slide 1</dc:title>
</cp:coreProperties>
</file>