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C1C-D4E2-4D25-9EE4-00ADCD09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6C4A-A7E4-4DA8-8226-AA4A48C3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ECFF-04C6-43C0-9ECB-323D985CC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CB35-5336-4D94-AF1F-4F4D544C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37A-2EAB-40AC-B864-FDA4E9D8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B9D-209C-43DE-A413-47FD9C12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2C3-4610-4766-9ACA-D4FCBE54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624-D289-4DCF-88CD-370EFF0F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4A-3989-4F29-9030-0D51EAF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76D-BE51-4801-93DB-FB5F6A5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8EB-9BF9-400B-8AAC-1A97870B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488-571C-42B2-9D9F-4EED1A4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7BE-86AD-4463-82E5-07C4799B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4F6-C507-46CA-848F-35DBED8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28A-3DDE-4204-9EE6-7A39E94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095-0A8C-4ADA-B207-B2C88F0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B74-5E14-477E-9AC4-35FBD2E0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152280" y="4952880"/>
            <a:ext cx="883944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tman Challe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"/>
          <p:cNvPicPr/>
          <p:nvPr/>
        </p:nvPicPr>
        <p:blipFill>
          <a:blip r:embed="rId1"/>
          <a:srcRect l="4942" t="19124" r="48245" b="58730"/>
          <a:stretch/>
        </p:blipFill>
        <p:spPr>
          <a:xfrm>
            <a:off x="228600" y="1441440"/>
            <a:ext cx="8763120" cy="358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317520" y="6400800"/>
            <a:ext cx="44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6" descr=""/>
          <p:cNvPicPr/>
          <p:nvPr/>
        </p:nvPicPr>
        <p:blipFill>
          <a:blip r:embed="rId1"/>
          <a:srcRect l="4942" t="19124" r="48245" b="58730"/>
          <a:stretch/>
        </p:blipFill>
        <p:spPr>
          <a:xfrm>
            <a:off x="228600" y="1441440"/>
            <a:ext cx="8763120" cy="358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7"/>
          <p:cNvSpPr/>
          <p:nvPr/>
        </p:nvSpPr>
        <p:spPr>
          <a:xfrm>
            <a:off x="317520" y="6400800"/>
            <a:ext cx="44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676160"/>
            <a:ext cx="8458200" cy="4407480"/>
            <a:chOff x="304920" y="1676160"/>
            <a:chExt cx="8458200" cy="440748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Woman’s hair, boot, glove, belly button, wall socket, 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 rot="19281000">
              <a:off x="3461040" y="178272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 rot="19281000">
              <a:off x="1555920" y="422172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 rot="19281000">
              <a:off x="6128280" y="338328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 rot="19281000">
              <a:off x="5518440" y="353556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 rot="19281000">
              <a:off x="6509160" y="399276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 rot="19281000">
              <a:off x="3003840" y="246852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1:16Z</dcterms:modified>
  <cp:revision>65</cp:revision>
  <dc:subject/>
  <dc:title>Slide 1</dc:title>
</cp:coreProperties>
</file>