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8AA-3F90-4092-BD65-816BB48C0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6BAB-68A5-4887-80A8-8EF78F28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F996-DA69-428A-948E-8F55EE96B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95C5-16D8-4926-8CF9-39C8D0785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EC0-32C5-4DFD-A8E8-DC6E404E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CF5-93C2-450E-BC05-466E2E63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CC2-AB6B-49B9-B4E9-4584F77D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72B-2919-49A6-A438-82B6DD04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A58-F848-4866-A311-F8CA73D2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349-17D2-4848-AFAF-E7F7C76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73C-9331-4085-9426-3BB75608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805-DA0B-4906-B3BB-81829EE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D2C-25BE-4708-BEA1-8CEEE5A8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5CC-9A6A-4EC0-BF95-FB3507D6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F63-F3B8-4679-AB03-FB98595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D82-B159-43B9-8463-9CEA2F5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7223-73C3-4866-A6B5-785423C91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 Apple A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4" descr=""/>
          <p:cNvPicPr/>
          <p:nvPr/>
        </p:nvPicPr>
        <p:blipFill>
          <a:blip r:embed="rId1"/>
          <a:srcRect l="4093" t="19695" r="48629" b="50162"/>
          <a:stretch/>
        </p:blipFill>
        <p:spPr>
          <a:xfrm>
            <a:off x="76320" y="1219320"/>
            <a:ext cx="8953560" cy="426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317520" y="64008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"/>
          <p:cNvPicPr/>
          <p:nvPr/>
        </p:nvPicPr>
        <p:blipFill>
          <a:blip r:embed="rId1"/>
          <a:srcRect l="4093" t="19695" r="48629" b="50162"/>
          <a:stretch/>
        </p:blipFill>
        <p:spPr>
          <a:xfrm>
            <a:off x="76320" y="1219320"/>
            <a:ext cx="8953560" cy="4260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317520" y="6400800"/>
            <a:ext cx="417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2209680"/>
            <a:ext cx="8534160" cy="3873960"/>
            <a:chOff x="304920" y="2209680"/>
            <a:chExt cx="8534160" cy="3873960"/>
          </a:xfrm>
        </p:grpSpPr>
        <p:sp>
          <p:nvSpPr>
            <p:cNvPr id="61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Apple, branch, tree root, beaver’s ear, wood chips,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1509840" y="234792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2590920" y="220968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3276720" y="403848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7924680" y="297144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3505320" y="266688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8229600" y="4648320"/>
              <a:ext cx="609480" cy="609480"/>
            </a:xfrm>
            <a:prstGeom prst="ellipse">
              <a:avLst/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33:33Z</dcterms:modified>
  <cp:revision>58</cp:revision>
  <dc:subject/>
  <dc:title>Slide 1</dc:title>
</cp:coreProperties>
</file>