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7226-EDD9-42E3-9021-2BBBD898A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CF80-D36D-49FE-BF38-C3C4867BE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BD5F-DDE3-488B-8C07-D09FAFD19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FC86-BBBB-41B2-AE4D-C3C94B3AA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5FC-6D1B-4BB9-A491-30E14E81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0B6-DC83-4E20-ABFC-8CBD451B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7311-0A66-450F-A6DA-5FFD2159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768-AC4F-4C62-B7AC-52A42064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358-AC37-408D-969C-F260B207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5FF-9DE8-4266-858C-4CADA44E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F25-AADC-431E-9C70-AE85BE69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D949-3376-4494-BEC6-FC6EB1E8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A87-50BB-4076-9424-A748C7EB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5DD-29A7-4378-AD40-52E4CD86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7EF-C057-496A-8DF6-C3414A93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CEA-2FF3-4E4B-8696-6D45A1DE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92F4-39B9-4A99-BC11-6A35EA59F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 Apple A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4" descr=""/>
          <p:cNvPicPr/>
          <p:nvPr/>
        </p:nvPicPr>
        <p:blipFill>
          <a:blip r:embed="rId1"/>
          <a:srcRect l="4093" t="19695" r="48629" b="50162"/>
          <a:stretch/>
        </p:blipFill>
        <p:spPr>
          <a:xfrm>
            <a:off x="76320" y="1219320"/>
            <a:ext cx="8953560" cy="4260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317520" y="6400800"/>
            <a:ext cx="41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4" descr=""/>
          <p:cNvPicPr/>
          <p:nvPr/>
        </p:nvPicPr>
        <p:blipFill>
          <a:blip r:embed="rId1"/>
          <a:srcRect l="4093" t="19695" r="48629" b="50162"/>
          <a:stretch/>
        </p:blipFill>
        <p:spPr>
          <a:xfrm>
            <a:off x="76320" y="1219320"/>
            <a:ext cx="8953560" cy="4260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317520" y="6400800"/>
            <a:ext cx="41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304920" y="2209680"/>
            <a:ext cx="8534160" cy="3873960"/>
            <a:chOff x="304920" y="2209680"/>
            <a:chExt cx="8534160" cy="3873960"/>
          </a:xfrm>
        </p:grpSpPr>
        <p:sp>
          <p:nvSpPr>
            <p:cNvPr id="61" name="Text Box 16"/>
            <p:cNvSpPr/>
            <p:nvPr/>
          </p:nvSpPr>
          <p:spPr>
            <a:xfrm>
              <a:off x="304920" y="571536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Apple, branch, tree root, beaver’s ear, wood chips,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5"/>
            <p:cNvSpPr/>
            <p:nvPr/>
          </p:nvSpPr>
          <p:spPr>
            <a:xfrm>
              <a:off x="1509840" y="2347920"/>
              <a:ext cx="609480" cy="60948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>
              <a:off x="2590920" y="2209680"/>
              <a:ext cx="609480" cy="60948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>
              <a:off x="3276720" y="4038480"/>
              <a:ext cx="609480" cy="60948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>
              <a:off x="7924680" y="2971440"/>
              <a:ext cx="609480" cy="60948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>
              <a:off x="3505320" y="2666880"/>
              <a:ext cx="609480" cy="60948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8229600" y="4648320"/>
              <a:ext cx="609480" cy="60948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33:33Z</dcterms:modified>
  <cp:revision>58</cp:revision>
  <dc:subject/>
  <dc:title>Slide 1</dc:title>
</cp:coreProperties>
</file>