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B9FA-A6E9-4DAB-B89F-8001C51B9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6A13-C5BB-4A93-99DA-83E865795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69F7-E108-4688-A65F-82D45178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585-8D13-412C-BBEA-BEB8A379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8D98-60EB-447D-97AD-F1E4A63F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AA80-F835-427D-A51B-74945ECA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2E7A-6F5D-4711-99C5-E9382FBF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597E-31E3-40C9-9C83-38A18FEC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81C3-F0D4-4CEA-A1D7-D6D43531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CA09-7983-43A7-9A44-5E3F798C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605-1A37-4133-A1CE-7EDF62F2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706-D7FA-4249-B7D6-932867C0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D2F2-E483-4E2E-8A7F-1344B835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46E4-C8FD-4FDB-AADB-0782667A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C29B-C35E-48DE-841B-B8EFFA189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da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10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7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915400" cy="5934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927000" y="1015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7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9"/>
          <p:cNvSpPr/>
          <p:nvPr/>
        </p:nvSpPr>
        <p:spPr>
          <a:xfrm>
            <a:off x="127080" y="6600960"/>
            <a:ext cx="90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2.bp.blogspot.com/_ft3_uLg4mmQ/RoBui7mA7LI/AAAAAAAAACY/j7ya0tyPzds/s1600-h/Puzzl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7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915400" cy="5934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5"/>
          <p:cNvSpPr/>
          <p:nvPr/>
        </p:nvSpPr>
        <p:spPr>
          <a:xfrm>
            <a:off x="927000" y="1015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0"/>
          <p:cNvSpPr/>
          <p:nvPr/>
        </p:nvSpPr>
        <p:spPr>
          <a:xfrm>
            <a:off x="2666880" y="4165560"/>
            <a:ext cx="330480" cy="3049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1"/>
          <p:cNvSpPr/>
          <p:nvPr/>
        </p:nvSpPr>
        <p:spPr>
          <a:xfrm>
            <a:off x="1219320" y="3581280"/>
            <a:ext cx="635040" cy="6098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2"/>
          <p:cNvSpPr/>
          <p:nvPr/>
        </p:nvSpPr>
        <p:spPr>
          <a:xfrm>
            <a:off x="5715000" y="4876920"/>
            <a:ext cx="635040" cy="6094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8077320" y="2882880"/>
            <a:ext cx="761760" cy="7621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5"/>
          <p:cNvSpPr/>
          <p:nvPr/>
        </p:nvSpPr>
        <p:spPr>
          <a:xfrm>
            <a:off x="8089920" y="1066680"/>
            <a:ext cx="825480" cy="8384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6"/>
          <p:cNvSpPr/>
          <p:nvPr/>
        </p:nvSpPr>
        <p:spPr>
          <a:xfrm>
            <a:off x="6299280" y="5867280"/>
            <a:ext cx="1295280" cy="6098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3505320" y="4419720"/>
            <a:ext cx="761760" cy="7617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127080" y="6600960"/>
            <a:ext cx="90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2.bp.blogspot.com/_ft3_uLg4mmQ/RoBui7mA7LI/AAAAAAAAACY/j7ya0tyPzds/s1600-h/Puzzl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0:46:09Z</dcterms:modified>
  <cp:revision>52</cp:revision>
  <dc:subject/>
  <dc:title>Slide 1</dc:title>
</cp:coreProperties>
</file>