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955E-9E08-4345-A756-CB0CF62C4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84E3-EA53-42E4-9844-57A398EA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DF4-2DDE-4EC6-9CDB-A86B7468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EC8-B3B3-423A-AC87-2CD2A2BB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914-BCDE-47E9-B8E9-3050ACF5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2F8-7786-4F4F-992A-83119DDE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DB6-DCDD-4A26-BE45-CD94C572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38F-FF64-4445-A63C-6BF92A1B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DB9-4C8F-4A11-B3BB-9D8A1912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A78-0E0F-48F2-9F12-A744E847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CA0-AAFD-459E-B6DD-C2E07E58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9AA-08C8-418B-A5A2-572032D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3E3-49D8-44B3-9AB8-8996DD69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0D1-3A6A-43F2-822F-1C268528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0D69-E5D7-4958-87F5-A9962A2E7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da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10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7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915400" cy="5934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927000" y="101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7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127080" y="6600960"/>
            <a:ext cx="90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2.bp.blogspot.com/_ft3_uLg4mmQ/RoBui7mA7LI/AAAAAAAAACY/j7ya0tyPzds/s1600-h/Puzz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7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915400" cy="5934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927000" y="101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2666880" y="4165560"/>
            <a:ext cx="33048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1219320" y="3581280"/>
            <a:ext cx="635040" cy="6098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5715000" y="4876920"/>
            <a:ext cx="63504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8077320" y="2882880"/>
            <a:ext cx="761760" cy="762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5"/>
          <p:cNvSpPr/>
          <p:nvPr/>
        </p:nvSpPr>
        <p:spPr>
          <a:xfrm>
            <a:off x="8089920" y="1066680"/>
            <a:ext cx="825480" cy="8384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6"/>
          <p:cNvSpPr/>
          <p:nvPr/>
        </p:nvSpPr>
        <p:spPr>
          <a:xfrm>
            <a:off x="6299280" y="5867280"/>
            <a:ext cx="1295280" cy="6098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3505320" y="4419720"/>
            <a:ext cx="761760" cy="76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127080" y="6600960"/>
            <a:ext cx="90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2.bp.blogspot.com/_ft3_uLg4mmQ/RoBui7mA7LI/AAAAAAAAACY/j7ya0tyPzds/s1600-h/Puzz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6:09Z</dcterms:modified>
  <cp:revision>52</cp:revision>
  <dc:subject/>
  <dc:title>Slide 1</dc:title>
</cp:coreProperties>
</file>