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8609-CCCE-463F-8885-094ECDD10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94A0-20FF-4110-8414-527F0986D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D591-57F6-43A2-ADD9-4682FE91D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F892-714B-4426-8B9E-89C1F1190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2BF-16F4-48DF-AAF9-F6D3A4B4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F45-FC34-4ED4-9F12-B2FC6673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2B1-7500-4CCA-A352-071A95FF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1B2-9D90-4010-ACCB-DA9C3529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639-EF80-4929-9301-7FEA7674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71F-FD2A-4EEC-8015-9FA99AD5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454-1F74-4EB5-8498-9D0D7F73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C6B-1E42-4D20-8949-B785C645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8FC-27AD-4D8E-99B7-AB2157BA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0DC-CA88-41F4-8505-365AB90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DB9-794D-4403-92D3-4EFCE894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3F0-964F-4416-A0F2-698E7AB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69E-22E6-4D85-BEE0-5FC968A9C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9" name="Picture 5" descr="j0308091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6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1143000" y="48006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crambled Wor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670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990720" y="2362320"/>
            <a:ext cx="7543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56" name="Picture 12" descr="MCj04344110000[1]"/>
          <p:cNvPicPr/>
          <p:nvPr/>
        </p:nvPicPr>
        <p:blipFill>
          <a:blip r:embed="rId2"/>
          <a:stretch/>
        </p:blipFill>
        <p:spPr>
          <a:xfrm>
            <a:off x="6172200" y="137160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3"/>
          <p:cNvSpPr/>
          <p:nvPr/>
        </p:nvSpPr>
        <p:spPr>
          <a:xfrm>
            <a:off x="1371600" y="152388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lo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  py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rinl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ol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ho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6019920" y="46483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The underlined letters are the first letters of the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>
            <a:off x="1523880" y="3049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cramble each set of letters to reveal a forensic scienc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6"/>
          <p:cNvSpPr/>
          <p:nvPr/>
        </p:nvSpPr>
        <p:spPr>
          <a:xfrm>
            <a:off x="1333440" y="3049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4952880" y="1523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4979880" y="372276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4979880" y="262260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4979880" y="5921280"/>
            <a:ext cx="38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979880" y="4821120"/>
            <a:ext cx="34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5"/>
          <p:cNvSpPr/>
          <p:nvPr/>
        </p:nvSpPr>
        <p:spPr>
          <a:xfrm>
            <a:off x="1371600" y="152388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lobod  pye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imrinl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olp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rdis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how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10-05T22:15:40Z</dcterms:modified>
  <cp:revision>77</cp:revision>
  <dc:subject/>
  <dc:title>Slide 1</dc:title>
</cp:coreProperties>
</file>