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5816-6F78-42E4-B33D-33CE99881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DD18-1480-4E86-A4CA-BBFA5209F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8A34-B09E-40E6-A96C-8F5B175D5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6292-FEB0-44CC-8185-CEE113D0C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89E-8635-4D53-892C-8F6E7FAF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5CA-5363-47C8-A2A0-B9664F2F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04F-1DE9-4231-BB0E-91591832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C15-ACA5-4682-9550-225CF757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A8A-6541-46B1-9BC0-5FDF9F74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BB9-A9C0-466C-BAC8-549BC3D0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19C-8E1E-468E-882D-06072BDC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224-FC86-478B-878C-DA05B66F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A1A-9B97-4D9E-B539-9E24359A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D69-A35E-49C3-BB4B-99A8DA0A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515-75BB-4C0C-BE25-26A06103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63C-15C0-4A27-A6C1-2DA6E8FC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2566-706C-43B7-AC1C-DB5B0E470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9" name="Picture 5" descr="j0308091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6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1143000" y="48006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rambled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267080" y="6248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990720" y="2362320"/>
            <a:ext cx="7543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6" name="Picture 12" descr="MCj04344110000[1]"/>
          <p:cNvPicPr/>
          <p:nvPr/>
        </p:nvPicPr>
        <p:blipFill>
          <a:blip r:embed="rId2"/>
          <a:stretch/>
        </p:blipFill>
        <p:spPr>
          <a:xfrm>
            <a:off x="6172200" y="137160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3"/>
          <p:cNvSpPr/>
          <p:nvPr/>
        </p:nvSpPr>
        <p:spPr>
          <a:xfrm>
            <a:off x="1371600" y="1617840"/>
            <a:ext cx="4038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ginainvetos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mun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mitc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ne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   cor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6019920" y="46483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NT: The underlined letters are the first letters of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8"/>
          <p:cNvSpPr/>
          <p:nvPr/>
        </p:nvSpPr>
        <p:spPr>
          <a:xfrm>
            <a:off x="1523880" y="3049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cramble each set of letters to reveal a forensic scienc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6"/>
          <p:cNvSpPr/>
          <p:nvPr/>
        </p:nvSpPr>
        <p:spPr>
          <a:xfrm>
            <a:off x="1333440" y="304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4952880" y="168444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4979880" y="3600360"/>
            <a:ext cx="34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CT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4979880" y="2641680"/>
            <a:ext cx="34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MI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4979880" y="5516640"/>
            <a:ext cx="38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TAL 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4979880" y="4557600"/>
            <a:ext cx="34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6"/>
          <p:cNvSpPr/>
          <p:nvPr/>
        </p:nvSpPr>
        <p:spPr>
          <a:xfrm>
            <a:off x="1371600" y="1617840"/>
            <a:ext cx="4038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ginainvetos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mun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mitc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ne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   cor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10-05T22:15:07Z</dcterms:modified>
  <cp:revision>79</cp:revision>
  <dc:subject/>
  <dc:title>Slide 1</dc:title>
</cp:coreProperties>
</file>