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680-99A8-4869-95BE-85EAB26FF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8057-E992-47BB-9254-CFE97DED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1F2A-F88E-4E72-AD72-3389AD63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D11-7CCC-43BD-AB31-48C4F925D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B21-1801-4E82-AFDE-73DCB53B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64F-A7E7-4FAA-9766-7FF03A8B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2A6-3FF7-4F6C-A5A1-47F491CD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06C-47B9-41DE-9D20-5FC905C4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0FE-FCD9-4F97-85F1-9B0C8A73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814-DEA4-4AF4-A6C2-62078B9A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98B-E84B-4F73-9A4C-A0DBDD56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1F3-8012-4DA7-9EB3-E41F5B70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2BF-0997-4E42-9E91-7337358A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CCC-5617-4F4C-A060-4D45E55F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364-9037-4791-97AF-328D2CEA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863-8FA5-4C1D-AFF4-322E3B4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8998-27F7-46F6-853F-A3BB8D478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617840"/>
            <a:ext cx="403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in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un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itc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e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   co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952880" y="16844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979880" y="360036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979880" y="264168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979880" y="5516640"/>
            <a:ext cx="38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TAL RE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979880" y="455760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1371600" y="1617840"/>
            <a:ext cx="4038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ginainveto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mun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itc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e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   co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07Z</dcterms:modified>
  <cp:revision>79</cp:revision>
  <dc:subject/>
  <dc:title>Slide 1</dc:title>
</cp:coreProperties>
</file>