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C974-438B-4FBC-B4E0-B43623B13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132D-1A05-4958-AD4A-25B38906F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D2DA-1362-4576-8E9F-33CDE2197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701E-7768-452D-A400-C24A4DA1E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B07-5B81-49F6-8C90-4F8614CC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8CA-82EE-4A14-B42D-A7E1BA5E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FCD-A9B1-40A8-8D89-7D00C699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12AF-E33D-4682-8556-8CA0A141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B39F-DFB7-4C41-9994-858D91FD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E17-06D3-499D-AF9B-463017BB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896-1F77-4876-AB46-38527B1D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8995-B752-4474-8638-9E88C83C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B2F-4095-4CF7-9898-7C23BFBC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C09-C0FE-4FFA-95B1-8149EFDB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4E8-1BF0-4330-82EF-430AC1FC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CC7-D858-4855-9A36-D3D7D09B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3C77-D20F-4043-A9FB-3242DF276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9" name="Picture 5" descr="j0308091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6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1143000" y="48006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rambled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267080" y="6248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990720" y="2362320"/>
            <a:ext cx="7543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6" name="Picture 12" descr="MCj04344110000[1]"/>
          <p:cNvPicPr/>
          <p:nvPr/>
        </p:nvPicPr>
        <p:blipFill>
          <a:blip r:embed="rId2"/>
          <a:stretch/>
        </p:blipFill>
        <p:spPr>
          <a:xfrm>
            <a:off x="6172200" y="137160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3"/>
          <p:cNvSpPr/>
          <p:nvPr/>
        </p:nvSpPr>
        <p:spPr>
          <a:xfrm>
            <a:off x="1371600" y="1752480"/>
            <a:ext cx="6629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ginarvetos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gp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inint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di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ew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elekt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6019920" y="46483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NT: The underlined letters are the first letters of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8"/>
          <p:cNvSpPr/>
          <p:nvPr/>
        </p:nvSpPr>
        <p:spPr>
          <a:xfrm>
            <a:off x="1523880" y="4572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cramble each set of letters to reveal a forensic scienc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6"/>
          <p:cNvSpPr/>
          <p:nvPr/>
        </p:nvSpPr>
        <p:spPr>
          <a:xfrm>
            <a:off x="1333440" y="304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5181480" y="1828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IG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5181480" y="374796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5181480" y="278748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GER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5181480" y="566892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EL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5181480" y="4708440"/>
            <a:ext cx="32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YEWI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3"/>
          <p:cNvSpPr/>
          <p:nvPr/>
        </p:nvSpPr>
        <p:spPr>
          <a:xfrm>
            <a:off x="1371600" y="1752480"/>
            <a:ext cx="6629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ginarvetos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gp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inint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dic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ew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elekt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10-05T22:15:26Z</dcterms:modified>
  <cp:revision>75</cp:revision>
  <dc:subject/>
  <dc:title>Slide 1</dc:title>
</cp:coreProperties>
</file>