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B59-D304-4FA3-A4DA-0F775BBA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79D-AFFB-4AB9-9197-8EC7FDB9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3F38-C197-45C6-8675-18D3FB0D3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3B20-413C-4F05-9A59-1A0D4FA0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BD9-55FE-4510-A00A-EDAFDA24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526-E95D-457C-A4EF-48E56CD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E46-B10B-403A-A363-35623432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6F8-77E3-4239-9C5F-C4A53ABF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5BC-FFCA-422E-8668-EB0B0C8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09D-7168-4311-8A3B-3FD62E98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272-4C84-4137-8565-3ED2AB0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9C9-561D-4A73-B5EF-EE66F94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490-9535-4323-ADAE-B8C8FA6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878-B231-4579-A047-66DA7367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0F1-2873-438C-BE31-1AAF828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BB0-7191-4551-907A-3EEB91C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4FBA-FEC8-40CE-8C4E-25BBC54F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457200"/>
            <a:ext cx="66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l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  en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rn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redr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nirpo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172200" y="49528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5"/>
          <p:cNvSpPr/>
          <p:nvPr/>
        </p:nvSpPr>
        <p:spPr>
          <a:xfrm>
            <a:off x="1270080" y="1143000"/>
            <a:ext cx="3606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lobo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icer  enc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rnoa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redrum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nirpooft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5181480" y="152388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5181480" y="344340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5181480" y="248292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181480" y="536400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T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181480" y="440388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6:35Z</dcterms:modified>
  <cp:revision>74</cp:revision>
  <dc:subject/>
  <dc:title>Slide 1</dc:title>
</cp:coreProperties>
</file>