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CC3A-0B3C-4D5F-89DB-16A4E9B8D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1B97-7F5C-48AC-8913-374EEE44B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B64A-01AE-4D5A-921D-C430F0B92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0E77-3282-4E0F-AC09-99A86DA52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519A-7AE7-49E0-A74F-0386CAD8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140-B760-4FE8-A8AC-E3500708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1FC-94E1-45B1-ACC0-68A97903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D573-8583-4923-8DE1-3316EAEF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DE3-8423-436B-85B1-EEA5B114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071-9228-4A0D-9DD6-D1B9CADE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37B-203C-4F24-9760-D9408035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29A-66CD-40C0-A808-79DBC5A0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2FF-7427-4832-99FF-9646C7C7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5DE-06B7-4F57-9BFB-D0E6B8A7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CD1-85F3-4C27-8EFA-105D0C17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EB81-0F61-4722-B048-B7CC4F6D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65D1-8927-441C-A552-6006D6B58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9" name="Picture 5" descr="j0308091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6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1143000" y="480060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crambled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267080" y="6248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990720" y="2362320"/>
            <a:ext cx="7543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CSI Challeng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56" name="Picture 12" descr="MCj04344110000[1]"/>
          <p:cNvPicPr/>
          <p:nvPr/>
        </p:nvPicPr>
        <p:blipFill>
          <a:blip r:embed="rId2"/>
          <a:stretch/>
        </p:blipFill>
        <p:spPr>
          <a:xfrm>
            <a:off x="6172200" y="1371600"/>
            <a:ext cx="1625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3"/>
          <p:cNvSpPr/>
          <p:nvPr/>
        </p:nvSpPr>
        <p:spPr>
          <a:xfrm>
            <a:off x="1371600" y="457200"/>
            <a:ext cx="662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scramble each set of letters to reveal a forensic scienc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l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mi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  enc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srn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redru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tnirpo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6172200" y="49528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NT: The underlined letters are the first letters of the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5"/>
          <p:cNvSpPr/>
          <p:nvPr/>
        </p:nvSpPr>
        <p:spPr>
          <a:xfrm>
            <a:off x="1270080" y="1143000"/>
            <a:ext cx="3606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lobo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micer  encs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srnoa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redrum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tnirpooft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333440" y="3049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nswers ar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5181480" y="1523880"/>
            <a:ext cx="32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5181480" y="3443400"/>
            <a:ext cx="32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5181480" y="2482920"/>
            <a:ext cx="32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ME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5181480" y="5364000"/>
            <a:ext cx="32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OT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5181480" y="4403880"/>
            <a:ext cx="32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10-05T22:16:35Z</dcterms:modified>
  <cp:revision>74</cp:revision>
  <dc:subject/>
  <dc:title>Slide 1</dc:title>
</cp:coreProperties>
</file>