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386-49F7-40D1-88C6-2EB6BCA8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35D-C130-4130-B11B-E97A4B55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1CD-603F-4070-B494-7BD5B49F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29A-5883-474C-856F-D4AEF2AD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47D-9F05-48FE-903A-838EA19F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960-6121-4209-974D-CE2C26B3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DC9-489F-40AB-80FA-858BB6EF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5E9-A6AB-401C-9CEC-B30158C6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249-F156-4308-9220-D5B2FF93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B2B-EBC8-40BE-A9A2-D59262CC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AF3-C81E-4497-B14F-F07E6873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252-5D0A-4E76-8141-E08ED17C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C367-1592-46A5-A20B-F027C24C0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ame That Scient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42080" y="1143000"/>
            <a:ext cx="2514600" cy="222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85800" y="250524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4160" y="304920"/>
            <a:ext cx="85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different types of scientists that work in criminal cases.  Can  you identify each scient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13716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Entom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Ge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971800"/>
            <a:ext cx="762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1. Works with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2. Use insects to determine time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3. Examines soil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4. Work with climati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5. Analyzes paint, glass, and resid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6. Analyzes blood and body tissues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 drugs and po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13716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Meteo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 Rad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 Toxi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38360" y="380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3716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Entom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Ge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971800"/>
            <a:ext cx="762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1. Works with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2. Use insects to determine time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3. Examines soil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4. Work with climati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5. Analyzes paint, glass, and resid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6. Analyzes blood and body tissues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 drugs and po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3716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Meteo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 Rad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 Toxi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8760" y="29750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28760" y="3400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28760" y="3824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8760" y="4249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28760" y="4673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28760" y="5097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6T04:00:55Z</dcterms:modified>
  <cp:revision>90</cp:revision>
  <dc:subject/>
  <dc:title>Slide 1</dc:title>
</cp:coreProperties>
</file>