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94D9-D2A3-49D3-8A11-8E4B4943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7967-9DE6-4981-8E22-B6B9498C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63B2-2D7F-4E34-A8D6-9316BB76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27B7-F2EB-4F40-8CE5-5D368B1E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A254-C96A-46A1-AD8A-17CE55E5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EF84-44EB-4E9B-A2E2-177742EB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C9DD-0D92-431C-91E1-35380C8B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FEB-3910-42D6-8453-C9680BAD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5776-73BE-465B-AE04-EC8FCEA6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AF42-6BE4-4580-9571-562C44D9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6C74-11EE-4AE5-AED4-47917499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031D-32F6-4960-AEAA-B98AB857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2787-72D5-4B77-82B8-690480D50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571680" y="48769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ame That Scienti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08280" y="6248520"/>
            <a:ext cx="54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42080" y="1143000"/>
            <a:ext cx="2514600" cy="2228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685800" y="2505240"/>
            <a:ext cx="81532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CSI Challeng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4160" y="304920"/>
            <a:ext cx="858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many different types of scientists that work in criminal cases.  Can  you identify each scienti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13716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Chem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Entom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Ge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2971800"/>
            <a:ext cx="7620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 1. Works with X-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 2. Use insects to determine time of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 3. Examines soil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 4. Work with climatic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 5. Analyzes paint, glass, and resid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 6. Analyzes blood and body tissues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of drugs and po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13716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Meteor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 Rad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. Toxic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38360" y="3808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answers are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3716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Chem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Entom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Ge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2971800"/>
            <a:ext cx="7620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 1. Works with X-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 2. Use insects to determine time of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 3. Examines soil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 4. Work with climatic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 5. Analyzes paint, glass, and resid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 6. Analyzes blood and body tissues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of drugs and po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3716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Meteor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 Rad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. Toxic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28760" y="29750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28760" y="34005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28760" y="3824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28760" y="4249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28760" y="4673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28760" y="5097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 Trimpe</cp:lastModifiedBy>
  <dcterms:modified xsi:type="dcterms:W3CDTF">2008-11-26T04:00:55Z</dcterms:modified>
  <cp:revision>90</cp:revision>
  <dc:subject/>
  <dc:title>Slide 1</dc:title>
</cp:coreProperties>
</file>