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A170B-8DE1-4181-902C-2B5FAB003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9C9DE-E3CA-4730-8DE8-70461AF5E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12D87-F981-476A-99B1-26B0636FB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45D1C-FAD2-4991-A0FF-3CB45F8E3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A04CC-C2EE-4880-888C-CA0D3CA21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3C0E9-36D7-4B33-BE64-6AB116C03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29C4A-7D8E-4D89-B6E0-592097AE9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35A67-F69C-41E5-922F-3B844A093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0A4C3-2E54-4CEE-898E-B2C52E52E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100B3-BEFE-440D-A1F2-AFB4007D0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073E7-4C35-4E68-B75A-0F2578810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BCDAF-700F-43D7-99AF-E797EB841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E4DBE-6D12-4502-862C-1E1DA7E3F4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304920" y="304920"/>
            <a:ext cx="2819160" cy="2057040"/>
            <a:chOff x="304920" y="304920"/>
            <a:chExt cx="2819160" cy="2057040"/>
          </a:xfrm>
        </p:grpSpPr>
        <p:pic>
          <p:nvPicPr>
            <p:cNvPr id="42" name="" descr=""/>
            <p:cNvPicPr/>
            <p:nvPr/>
          </p:nvPicPr>
          <p:blipFill>
            <a:blip r:embed="rId1"/>
            <a:stretch/>
          </p:blipFill>
          <p:spPr>
            <a:xfrm>
              <a:off x="492480" y="304920"/>
              <a:ext cx="1869840" cy="160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 txBox="1"/>
            <p:nvPr/>
          </p:nvSpPr>
          <p:spPr>
            <a:xfrm>
              <a:off x="304920" y="833040"/>
              <a:ext cx="2819160" cy="1528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55556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Daily CSI</a:t>
              </a:r>
              <a:endPara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44" name=""/>
          <p:cNvSpPr/>
          <p:nvPr/>
        </p:nvSpPr>
        <p:spPr>
          <a:xfrm>
            <a:off x="571680" y="4876920"/>
            <a:ext cx="8001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Name That Scientis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608280" y="6248520"/>
            <a:ext cx="541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Grade Forensic Sc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943600" y="22860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#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27080" y="6477120"/>
            <a:ext cx="38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. Trimpe 2006    http://sciencespot.net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842080" y="1143000"/>
            <a:ext cx="2514600" cy="22287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 txBox="1"/>
          <p:nvPr/>
        </p:nvSpPr>
        <p:spPr>
          <a:xfrm>
            <a:off x="685800" y="2505240"/>
            <a:ext cx="8153280" cy="24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 Black"/>
              </a:rPr>
              <a:t>CSI Challenge 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17520" y="380880"/>
            <a:ext cx="8292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re are many different types of scientists that work in criminal cases.  Can  you identify each scientis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3048120"/>
            <a:ext cx="83822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__ 1. Examines body tissues to determine cause of dea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__ 2. Analyzes dental records and dental 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__ 3. Analyzes botanical (plant) evid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__ 4. Analyzes skeletal rema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__ 5. Provides personality profiles based on evid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__ 6. Analyzes blood evid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1523880" y="1447920"/>
            <a:ext cx="6857640" cy="1191240"/>
            <a:chOff x="1523880" y="1447920"/>
            <a:chExt cx="6857640" cy="1191240"/>
          </a:xfrm>
        </p:grpSpPr>
        <p:sp>
          <p:nvSpPr>
            <p:cNvPr id="53" name=""/>
            <p:cNvSpPr/>
            <p:nvPr/>
          </p:nvSpPr>
          <p:spPr>
            <a:xfrm>
              <a:off x="1523880" y="1447920"/>
              <a:ext cx="36514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. Anthropologis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B. Botanis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. Odontologis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730040" y="1447920"/>
              <a:ext cx="36514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D. Pathologis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E. Psychiatrist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F. Serologis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80880" y="3048120"/>
            <a:ext cx="83822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__ 1. Examines body tissues to determine cause of dea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__ 2. Analyzes dental records and dental 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__ 3. Analyzes botanical (plant) evid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__ 4. Analyzes skeletal rema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__ 5. Provides personality profiles based on evid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__ 6. Analyzes blood evid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38360" y="457200"/>
            <a:ext cx="571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answers are 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523880" y="1447920"/>
            <a:ext cx="6857640" cy="1191240"/>
            <a:chOff x="1523880" y="1447920"/>
            <a:chExt cx="6857640" cy="1191240"/>
          </a:xfrm>
        </p:grpSpPr>
        <p:sp>
          <p:nvSpPr>
            <p:cNvPr id="58" name=""/>
            <p:cNvSpPr/>
            <p:nvPr/>
          </p:nvSpPr>
          <p:spPr>
            <a:xfrm>
              <a:off x="1523880" y="1447920"/>
              <a:ext cx="36514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. Anthropologis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B. Botanis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. Odontologis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730040" y="1447920"/>
              <a:ext cx="36514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D. Pathologis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E. Psychiatrist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F. Serologis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412920" y="3063960"/>
            <a:ext cx="5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12920" y="3489480"/>
            <a:ext cx="5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12920" y="3913200"/>
            <a:ext cx="5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12920" y="4338720"/>
            <a:ext cx="5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12920" y="4762440"/>
            <a:ext cx="5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12920" y="5186520"/>
            <a:ext cx="5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1T17:04:17Z</dcterms:created>
  <dc:creator>Tracy Trimpe</dc:creator>
  <dc:description/>
  <dc:language>en-US</dc:language>
  <cp:lastModifiedBy>Tracy Trimpe</cp:lastModifiedBy>
  <dcterms:modified xsi:type="dcterms:W3CDTF">2008-11-26T03:25:08Z</dcterms:modified>
  <cp:revision>88</cp:revision>
  <dc:subject/>
  <dc:title>Slide 1</dc:title>
</cp:coreProperties>
</file>