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4FD-0BD2-48F8-9C70-ADF29D4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08C-A698-4086-A1FB-C382E55F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FAA-098A-4D46-B6A9-6564EF94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B90-34FA-493C-A18D-4550214D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F2E-2F1B-4E7C-A6E3-7520F1DB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EC3-2087-4BAE-B0EB-53F6C88F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F74-97EB-4368-9B81-F1E5C5B2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D0E-3296-4D48-BF33-03082743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86B-9065-451A-B713-6BA7EDEE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CD3-26B2-4A43-A7A0-93433DC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B7B-9C33-45AF-8721-24BE425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038-E22D-4CE9-B133-8E2F0A00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9DA-B592-48C3-BAEC-0A8F704C2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Scient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42080" y="1143000"/>
            <a:ext cx="2514600" cy="222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7520" y="380880"/>
            <a:ext cx="82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types of scientists that work in criminal cases.  Can  you identify each scient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1. Examines body tissues to determine caus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2. Analyzes dental records and dent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3. Analyzes botanical (plant)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4. Analyzes skeletal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5. Provides personality profiles based 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6. Analyzes blood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1447920"/>
            <a:ext cx="6857640" cy="1191240"/>
            <a:chOff x="1523880" y="1447920"/>
            <a:chExt cx="6857640" cy="1191240"/>
          </a:xfrm>
        </p:grpSpPr>
        <p:sp>
          <p:nvSpPr>
            <p:cNvPr id="53" name=""/>
            <p:cNvSpPr/>
            <p:nvPr/>
          </p:nvSpPr>
          <p:spPr>
            <a:xfrm>
              <a:off x="152388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Anthrop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Botan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. Odont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3004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. Path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 Psychiatri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. Ser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81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1. Examines body tissues to determine caus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2. Analyzes dental records and dent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3. Analyzes botanical (plant)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4. Analyzes skeletal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5. Provides personality profiles based 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6. Analyzes blood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57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1447920"/>
            <a:ext cx="6857640" cy="1191240"/>
            <a:chOff x="1523880" y="1447920"/>
            <a:chExt cx="6857640" cy="1191240"/>
          </a:xfrm>
        </p:grpSpPr>
        <p:sp>
          <p:nvSpPr>
            <p:cNvPr id="58" name=""/>
            <p:cNvSpPr/>
            <p:nvPr/>
          </p:nvSpPr>
          <p:spPr>
            <a:xfrm>
              <a:off x="152388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Anthrop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Botan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. Odont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3004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. Path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 Psychiatri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. Ser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12920" y="30639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920" y="3489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" y="391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920" y="4338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2920" y="47624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2920" y="5186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3:25:08Z</dcterms:modified>
  <cp:revision>88</cp:revision>
  <dc:subject/>
  <dc:title>Slide 1</dc:title>
</cp:coreProperties>
</file>