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DE1-1E38-42F1-9FA5-9EF33EE7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C47-0951-4DD4-8649-198268C9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56-7CFB-43F7-95A4-480952B8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10B-D417-442E-BB14-E6FFDE89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304-4470-47FD-8C61-F58CC0CD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2A8-D283-4D19-A8C5-BF7C19F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C2A7-C39A-4625-976A-0F8A3139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1F9-33F1-4922-A6A0-FEE12D58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1AFD-4983-482C-9D31-4F5B289A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157-B2CC-404B-9DDC-0B99F2E7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E4D-B5B2-4689-A8BB-F24CB2FD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E3F-7EA5-4234-95DB-16B1EF6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DEE1-985D-4895-A8BC-A1F3B1788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observant are you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889280" cy="1919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80960" y="2514600"/>
            <a:ext cx="8155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Penny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4160" y="152280"/>
            <a:ext cx="8458200" cy="825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the correct penny?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:  You cannot look at a real penn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36000" y="1143000"/>
            <a:ext cx="7428600" cy="5334120"/>
            <a:chOff x="936000" y="1143000"/>
            <a:chExt cx="7428600" cy="5334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963360" y="1143000"/>
              <a:ext cx="74012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936000" y="1172520"/>
              <a:ext cx="6179400" cy="231120"/>
              <a:chOff x="936000" y="1172520"/>
              <a:chExt cx="6179400" cy="231120"/>
            </a:xfrm>
          </p:grpSpPr>
          <p:sp>
            <p:nvSpPr>
              <p:cNvPr id="53" name=""/>
              <p:cNvSpPr/>
              <p:nvPr/>
            </p:nvSpPr>
            <p:spPr>
              <a:xfrm>
                <a:off x="93600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1848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90456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39244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87672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936000" y="3014280"/>
              <a:ext cx="6243120" cy="231120"/>
              <a:chOff x="936000" y="3014280"/>
              <a:chExt cx="6243120" cy="231120"/>
            </a:xfrm>
          </p:grpSpPr>
          <p:sp>
            <p:nvSpPr>
              <p:cNvPr id="59" name=""/>
              <p:cNvSpPr/>
              <p:nvPr/>
            </p:nvSpPr>
            <p:spPr>
              <a:xfrm>
                <a:off x="93600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41992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90528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9244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882480" y="30142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941040" y="4951080"/>
              <a:ext cx="6237720" cy="231120"/>
              <a:chOff x="941040" y="4951080"/>
              <a:chExt cx="6237720" cy="231120"/>
            </a:xfrm>
          </p:grpSpPr>
          <p:sp>
            <p:nvSpPr>
              <p:cNvPr id="65" name=""/>
              <p:cNvSpPr/>
              <p:nvPr/>
            </p:nvSpPr>
            <p:spPr>
              <a:xfrm>
                <a:off x="94104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246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132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39856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8212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936000" y="1143000"/>
            <a:ext cx="7428600" cy="5334120"/>
            <a:chOff x="936000" y="1143000"/>
            <a:chExt cx="7428600" cy="53341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963360" y="1143000"/>
              <a:ext cx="74012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936000" y="1172520"/>
              <a:ext cx="6179400" cy="231120"/>
              <a:chOff x="936000" y="1172520"/>
              <a:chExt cx="6179400" cy="231120"/>
            </a:xfrm>
          </p:grpSpPr>
          <p:sp>
            <p:nvSpPr>
              <p:cNvPr id="73" name=""/>
              <p:cNvSpPr/>
              <p:nvPr/>
            </p:nvSpPr>
            <p:spPr>
              <a:xfrm>
                <a:off x="93600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1848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0456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39244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76720" y="117252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936000" y="3014280"/>
              <a:ext cx="6243120" cy="231120"/>
              <a:chOff x="936000" y="3014280"/>
              <a:chExt cx="6243120" cy="231120"/>
            </a:xfrm>
          </p:grpSpPr>
          <p:sp>
            <p:nvSpPr>
              <p:cNvPr id="79" name=""/>
              <p:cNvSpPr/>
              <p:nvPr/>
            </p:nvSpPr>
            <p:spPr>
              <a:xfrm>
                <a:off x="93600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41992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0528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92440" y="3014280"/>
                <a:ext cx="23868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82480" y="30142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941040" y="4951080"/>
              <a:ext cx="6237720" cy="231120"/>
              <a:chOff x="941040" y="4951080"/>
              <a:chExt cx="6237720" cy="231120"/>
            </a:xfrm>
          </p:grpSpPr>
          <p:sp>
            <p:nvSpPr>
              <p:cNvPr id="85" name=""/>
              <p:cNvSpPr/>
              <p:nvPr/>
            </p:nvSpPr>
            <p:spPr>
              <a:xfrm>
                <a:off x="94104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246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1320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9856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82120" y="4951080"/>
                <a:ext cx="296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"/>
          <p:cNvSpPr txBox="1"/>
          <p:nvPr/>
        </p:nvSpPr>
        <p:spPr>
          <a:xfrm>
            <a:off x="228600" y="152280"/>
            <a:ext cx="2895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Answer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603520" y="28954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3:32:32Z</dcterms:modified>
  <cp:revision>69</cp:revision>
  <dc:subject/>
  <dc:title>Slide 1</dc:title>
</cp:coreProperties>
</file>