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37F-BA58-4E4E-9AA5-D85D5703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D2A-49DB-43C9-9CA0-894FFD11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A52-9394-4B30-ABDE-C1D9FF75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425-6E7B-41A3-8D24-8B424673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F83-96FC-4253-BE0D-8BFE2566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41B-9957-4EA1-8122-0951A0D0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F61-65EE-4CE2-8791-3FC6903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CCB-75AA-420D-B4CC-8CF59661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E1D-992F-4EB3-A36D-7902C359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342-6E54-4676-9E3D-3298A38C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0A0-3F44-4F2F-B58B-A6A6B05F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2A2-4802-4DD2-A83E-49F943C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C58C-C549-4497-A4C9-D58B2C8A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observant are you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1889280" cy="19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80960" y="2514600"/>
            <a:ext cx="8155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Penny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4160" y="152280"/>
            <a:ext cx="845820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the correct penny?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:  You cannot look at a real pen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36000" y="1143000"/>
            <a:ext cx="7428600" cy="5334120"/>
            <a:chOff x="936000" y="1143000"/>
            <a:chExt cx="7428600" cy="5334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963360" y="1143000"/>
              <a:ext cx="7401240" cy="533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936000" y="1172520"/>
              <a:ext cx="6179400" cy="231120"/>
              <a:chOff x="936000" y="1172520"/>
              <a:chExt cx="6179400" cy="231120"/>
            </a:xfrm>
          </p:grpSpPr>
          <p:sp>
            <p:nvSpPr>
              <p:cNvPr id="53" name=""/>
              <p:cNvSpPr/>
              <p:nvPr/>
            </p:nvSpPr>
            <p:spPr>
              <a:xfrm>
                <a:off x="93600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1848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90456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9244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87672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936000" y="3014280"/>
              <a:ext cx="6243120" cy="231120"/>
              <a:chOff x="936000" y="3014280"/>
              <a:chExt cx="6243120" cy="231120"/>
            </a:xfrm>
          </p:grpSpPr>
          <p:sp>
            <p:nvSpPr>
              <p:cNvPr id="59" name=""/>
              <p:cNvSpPr/>
              <p:nvPr/>
            </p:nvSpPr>
            <p:spPr>
              <a:xfrm>
                <a:off x="93600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41992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90528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9244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882480" y="30142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941040" y="4951080"/>
              <a:ext cx="6237720" cy="231120"/>
              <a:chOff x="941040" y="4951080"/>
              <a:chExt cx="6237720" cy="231120"/>
            </a:xfrm>
          </p:grpSpPr>
          <p:sp>
            <p:nvSpPr>
              <p:cNvPr id="65" name=""/>
              <p:cNvSpPr/>
              <p:nvPr/>
            </p:nvSpPr>
            <p:spPr>
              <a:xfrm>
                <a:off x="94104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42460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1320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9856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8212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936000" y="1143000"/>
            <a:ext cx="7428600" cy="5334120"/>
            <a:chOff x="936000" y="1143000"/>
            <a:chExt cx="7428600" cy="53341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63360" y="1143000"/>
              <a:ext cx="7401240" cy="533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936000" y="1172520"/>
              <a:ext cx="6179400" cy="231120"/>
              <a:chOff x="936000" y="1172520"/>
              <a:chExt cx="6179400" cy="231120"/>
            </a:xfrm>
          </p:grpSpPr>
          <p:sp>
            <p:nvSpPr>
              <p:cNvPr id="73" name=""/>
              <p:cNvSpPr/>
              <p:nvPr/>
            </p:nvSpPr>
            <p:spPr>
              <a:xfrm>
                <a:off x="93600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1848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0456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39244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7672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936000" y="3014280"/>
              <a:ext cx="6243120" cy="231120"/>
              <a:chOff x="936000" y="3014280"/>
              <a:chExt cx="6243120" cy="231120"/>
            </a:xfrm>
          </p:grpSpPr>
          <p:sp>
            <p:nvSpPr>
              <p:cNvPr id="79" name=""/>
              <p:cNvSpPr/>
              <p:nvPr/>
            </p:nvSpPr>
            <p:spPr>
              <a:xfrm>
                <a:off x="93600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41992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0528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9244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882480" y="30142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941040" y="4951080"/>
              <a:ext cx="6237720" cy="231120"/>
              <a:chOff x="941040" y="4951080"/>
              <a:chExt cx="6237720" cy="231120"/>
            </a:xfrm>
          </p:grpSpPr>
          <p:sp>
            <p:nvSpPr>
              <p:cNvPr id="85" name=""/>
              <p:cNvSpPr/>
              <p:nvPr/>
            </p:nvSpPr>
            <p:spPr>
              <a:xfrm>
                <a:off x="94104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2460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1320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9856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8212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"/>
          <p:cNvSpPr txBox="1"/>
          <p:nvPr/>
        </p:nvSpPr>
        <p:spPr>
          <a:xfrm>
            <a:off x="228600" y="152280"/>
            <a:ext cx="2895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Answer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603520" y="28954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3:32:32Z</dcterms:modified>
  <cp:revision>69</cp:revision>
  <dc:subject/>
  <dc:title>Slide 1</dc:title>
</cp:coreProperties>
</file>