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634-06E0-48D2-A76D-CDB84954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C70-ABC4-4914-970B-D40780E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B46-D687-42CB-99DF-79656196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E0A-8D83-418F-9364-6EC54BA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C61-3150-4A8B-92FE-B661F536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77F-0479-4443-A650-3851CA8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026-A101-47A7-862C-CC917963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545-E99B-4EA4-B3C1-6F0B815D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7AA-0163-4AFB-90F2-5AEC4E9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A36-5191-4ABB-ACEE-2154775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6B5-8FA0-403F-8118-954BDFF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847-DE96-4F1E-91D5-6110593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EBF-6D7D-4911-97AB-EAE1D9365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Organ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831680" cy="17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1337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VF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P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3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organizations that work in criminal cases and investigations.  Can you name the organizations with these acrony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59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8120" y="3235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re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69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VF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P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2133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Vegas Fir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40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 Scene 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191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Criminal Police Org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terp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9:32Z</dcterms:modified>
  <cp:revision>83</cp:revision>
  <dc:subject/>
  <dc:title>Slide 1</dc:title>
</cp:coreProperties>
</file>