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0F9-5130-433C-ADB1-EAC5DE26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AF5-63C5-453C-BB72-3D2A60BE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C64-8705-401E-8B3A-608BE976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CAF-9F03-4770-8088-356C9DC0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43D-5E94-49E0-99CC-4820753C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38F5-F72B-4C77-9400-31DB6937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836-42F6-4B1F-83B7-8A737A54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75BC-89FB-4CDD-84CA-FB35C1B1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E69-FFCD-461D-8290-DC40DAB3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15D-CC15-4E1C-B49B-7441866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E13-2DDF-4B20-AF81-1DF1205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69A-6E20-4DC6-B20D-D77DA4F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53A-7E8A-4BE7-86B7-AB5FA15F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e That Organiz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1831680" cy="1784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21337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VF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P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31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many organizations that work in criminal cases and investigations.  Can you name the organizations with these acrony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91320" y="3124080"/>
            <a:ext cx="2597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8120" y="3235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re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6996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133720"/>
            <a:ext cx="358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VF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CPO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2133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Vegas Fire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440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 Scene Invest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191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tional Criminal Police Org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Interp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29:32Z</dcterms:modified>
  <cp:revision>83</cp:revision>
  <dc:subject/>
  <dc:title>Slide 1</dc:title>
</cp:coreProperties>
</file>