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415-67E7-4E65-81FF-7C21276A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43C-BEC5-4337-AC35-C9CE0828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D49-280D-4F90-A4E3-7195BD82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8DC-9FF4-4D3A-8712-91DE0C7D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799-1C53-49E6-B990-DE12D375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2C0-7CAF-4EEE-B5CE-98D3474A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37B-5E6E-412C-85DF-C01F14D7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DB3-AB38-4D80-B8E3-763F9808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C5A-3966-406C-8432-0A7210FF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0E2-4D83-4FD6-A125-D6A2E368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094-D9F1-4BD2-8C20-DDCCD06C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43C-5CF2-42AC-9FE8-5562D36F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224E-92C2-4444-8426-CA557133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ame That Organ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1831680" cy="178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85800" y="250524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30312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many organizations that work in criminal cases and investigations.  Can you name the organizations with these acrony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59704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2057400"/>
            <a:ext cx="259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B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YP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90920" y="403848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reau of Alcohol, Tobacco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858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057400"/>
            <a:ext cx="259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B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YP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163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eral Bureau of Investig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31543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 Intelligence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5397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York Police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8T02:29:13Z</dcterms:modified>
  <cp:revision>83</cp:revision>
  <dc:subject/>
  <dc:title>Slide 1</dc:title>
</cp:coreProperties>
</file>