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6E9-EEFA-41CE-A755-A0F24BB7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B0A-C7DF-4CC3-A6D8-CD98CD39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F9B-7E91-4C2E-8B6E-05A74945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344-4CD9-4250-ADCA-7DA1B0BA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353-2BC8-4EE9-A6CD-313AB6D6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C91D-D155-4BDC-A3F3-7FFFF0BE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600-AD12-49E9-BC87-FB443C8F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D39-6024-4C9D-BE95-26BF5901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DE5-1321-4F0F-8FF9-7F6A0BD9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185-5147-4576-82DF-7B2606BD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0A5-44F6-4DF3-AD87-762CBE0F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A0E-8A10-4F23-A7C0-D5AB0EA0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66A5-DB01-454E-8731-07E759A75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ame That Organ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1831680" cy="1784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85800" y="250524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760" y="30312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many organizations that work in criminal cases and investigations.  Can you name the organizations with these acrony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59704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2057400"/>
            <a:ext cx="259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B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YP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90920" y="4038480"/>
            <a:ext cx="62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reau of Alcohol, Tobacco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Fire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858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057400"/>
            <a:ext cx="2590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B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YP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163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deral Bureau of Investig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31543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al Intelligence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5397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York Police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8T02:29:13Z</dcterms:modified>
  <cp:revision>83</cp:revision>
  <dc:subject/>
  <dc:title>Slide 1</dc:title>
</cp:coreProperties>
</file>