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26E-2F52-46F0-B312-168D6600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B91-EF5B-4CC4-8120-52093A11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3FE-EAA6-49DE-BCC3-A9B3E28C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247-C1C1-4E88-9436-04977F39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96B-AAE4-4E30-9A4C-C3BD8B35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3DCB-848C-48C0-AE27-9C56B528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026-179F-48CD-9094-87606CA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CD7-23AC-485F-9874-E7063BD6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98E-61C2-4E8B-AE29-44B1B06E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797-EA41-426E-921D-32F77DED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5CC-291B-4A41-A3CA-CB99B7D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724-1B76-49CD-B957-AF1CDA98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6BC6-7607-4EA2-9C91-90D3001BC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571680" y="48769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stery Pictu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08280" y="624852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50524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SI Challenge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162540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you identify the mystery items?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 items are associated with crime scene invest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8001" t="50005" r="68716" b="24398"/>
          <a:stretch/>
        </p:blipFill>
        <p:spPr>
          <a:xfrm>
            <a:off x="5486400" y="1882800"/>
            <a:ext cx="121428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65283" t="65291" r="16492" b="0"/>
          <a:stretch/>
        </p:blipFill>
        <p:spPr>
          <a:xfrm>
            <a:off x="2362320" y="1905120"/>
            <a:ext cx="1369800" cy="1954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5120" y="1932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59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959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47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rcRect l="15999" t="14002" r="30663" b="64021"/>
          <a:stretch/>
        </p:blipFill>
        <p:spPr>
          <a:xfrm>
            <a:off x="5334120" y="4473720"/>
            <a:ext cx="1981080" cy="108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41926" t="34766" r="41926" b="38096"/>
          <a:stretch/>
        </p:blipFill>
        <p:spPr>
          <a:xfrm>
            <a:off x="2362320" y="4419720"/>
            <a:ext cx="1390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answers a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2071800" cy="1552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18001" t="50005" r="68716" b="24398"/>
          <a:stretch/>
        </p:blipFill>
        <p:spPr>
          <a:xfrm>
            <a:off x="5486400" y="1905120"/>
            <a:ext cx="121428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65283" t="65291" r="0" b="0"/>
          <a:stretch/>
        </p:blipFill>
        <p:spPr>
          <a:xfrm>
            <a:off x="2438280" y="2008080"/>
            <a:ext cx="1741680" cy="130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05120" y="1932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459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959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47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rcRect l="15999" t="14002" r="30663" b="64021"/>
          <a:stretch/>
        </p:blipFill>
        <p:spPr>
          <a:xfrm>
            <a:off x="5334120" y="4473720"/>
            <a:ext cx="1981080" cy="108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010280" y="41148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477120" y="1371600"/>
            <a:ext cx="2342880" cy="1757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304920" y="4952880"/>
            <a:ext cx="188568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rcRect l="41926" t="34766" r="41926" b="38096"/>
          <a:stretch/>
        </p:blipFill>
        <p:spPr>
          <a:xfrm>
            <a:off x="2362320" y="4419720"/>
            <a:ext cx="1390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6T04:00:47Z</dcterms:modified>
  <cp:revision>91</cp:revision>
  <dc:subject/>
  <dc:title>Slide 1</dc:title>
</cp:coreProperties>
</file>