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DFFC-BAEA-487F-9B03-CC5B78D98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3ECA-5328-4040-B89B-FBCAB01F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4E96-4151-4C5A-8C21-F9AAA65FF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6E04-28C6-4573-91AB-A7E75EFBF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BCFB-D4C2-4E2B-B7C7-39DE8426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C99B-9AE0-4FF6-9FE0-31EC7DA6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083E-CCE8-4D5A-B1D5-A8296A8F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2C54-8585-4F7B-8018-8CC1DD01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60D7-2351-4312-9A31-00713CDF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5604-B07A-4090-A7E7-CA74F759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F871-D957-4E51-9595-781585A2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FEFE-A6AB-4B13-B034-72504CD3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AAED-6275-40A5-9E76-5A58DD02A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304920"/>
            <a:ext cx="2819160" cy="2057040"/>
            <a:chOff x="304920" y="304920"/>
            <a:chExt cx="2819160" cy="20570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492480" y="304920"/>
              <a:ext cx="1869840" cy="16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 txBox="1"/>
            <p:nvPr/>
          </p:nvSpPr>
          <p:spPr>
            <a:xfrm>
              <a:off x="304920" y="833040"/>
              <a:ext cx="2819160" cy="152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571680" y="48769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ystery Pictur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08280" y="6248520"/>
            <a:ext cx="54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 Forensic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7080" y="647712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6 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2505240"/>
            <a:ext cx="81532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CSI Challeng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1625400" cy="11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3049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you identify the mystery items?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the items are associated with crime scene investig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18001" t="50005" r="68716" b="24398"/>
          <a:stretch/>
        </p:blipFill>
        <p:spPr>
          <a:xfrm>
            <a:off x="5486400" y="1882800"/>
            <a:ext cx="1214280" cy="1752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rcRect l="65283" t="65291" r="16492" b="0"/>
          <a:stretch/>
        </p:blipFill>
        <p:spPr>
          <a:xfrm>
            <a:off x="2362320" y="1905120"/>
            <a:ext cx="1369800" cy="1954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05120" y="1932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4599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1959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4473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rcRect l="15999" t="14002" r="30663" b="64021"/>
          <a:stretch/>
        </p:blipFill>
        <p:spPr>
          <a:xfrm>
            <a:off x="5334120" y="4473720"/>
            <a:ext cx="1981080" cy="1089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rcRect l="41926" t="34766" r="41926" b="38096"/>
          <a:stretch/>
        </p:blipFill>
        <p:spPr>
          <a:xfrm>
            <a:off x="2362320" y="4419720"/>
            <a:ext cx="1390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304920"/>
            <a:ext cx="861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answers are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2071800" cy="1552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rcRect l="18001" t="50005" r="68716" b="24398"/>
          <a:stretch/>
        </p:blipFill>
        <p:spPr>
          <a:xfrm>
            <a:off x="5486400" y="1905120"/>
            <a:ext cx="1214280" cy="1752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rcRect l="65283" t="65291" r="0" b="0"/>
          <a:stretch/>
        </p:blipFill>
        <p:spPr>
          <a:xfrm>
            <a:off x="2438280" y="2008080"/>
            <a:ext cx="1741680" cy="1305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05120" y="1932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4599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1959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4473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rcRect l="15999" t="14002" r="30663" b="64021"/>
          <a:stretch/>
        </p:blipFill>
        <p:spPr>
          <a:xfrm>
            <a:off x="5334120" y="4473720"/>
            <a:ext cx="1981080" cy="1089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010280" y="411480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6477120" y="1371600"/>
            <a:ext cx="2342880" cy="1757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304920" y="4952880"/>
            <a:ext cx="1885680" cy="1600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rcRect l="41926" t="34766" r="41926" b="38096"/>
          <a:stretch/>
        </p:blipFill>
        <p:spPr>
          <a:xfrm>
            <a:off x="2362320" y="4419720"/>
            <a:ext cx="1390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 Trimpe</cp:lastModifiedBy>
  <dcterms:modified xsi:type="dcterms:W3CDTF">2008-11-26T04:00:47Z</dcterms:modified>
  <cp:revision>91</cp:revision>
  <dc:subject/>
  <dc:title>Slide 1</dc:title>
</cp:coreProperties>
</file>