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5BA8-B5B5-40C9-B2E8-24D9B412F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2EE5-87C1-40A8-8551-E236F3C9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AFED-1327-4450-A8C5-C8FC532D4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EF22-A58E-4431-9575-BAA975FA4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CA28-5A4F-47A2-948F-F80F2B37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CFC9-6420-4266-9BD9-B4ED73A2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9882-5319-4570-84C1-26229DE1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0CB1-80FA-42B4-8F43-F09D9803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D58D-0F78-4C37-B883-2F634941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9728-3B96-4CD2-8B01-911E5946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8899-2597-4896-83D2-95A20CDA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E088-A7A9-41B3-A879-3FC279ED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BAC5-F631-42C1-B947-CF5333A7D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304920"/>
            <a:ext cx="2819160" cy="2057040"/>
            <a:chOff x="304920" y="304920"/>
            <a:chExt cx="2819160" cy="20570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492480" y="304920"/>
              <a:ext cx="1869840" cy="16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 txBox="1"/>
            <p:nvPr/>
          </p:nvSpPr>
          <p:spPr>
            <a:xfrm>
              <a:off x="304920" y="833040"/>
              <a:ext cx="2819160" cy="152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571680" y="48769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ystery Pictur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08280" y="6248520"/>
            <a:ext cx="54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e Forensic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228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7080" y="647712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6 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2505240"/>
            <a:ext cx="81532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CSI Challeng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1625400" cy="11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2280" y="3049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you identify the mystery items?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the items are associated with crime scene investig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>
            <a:grayscl/>
          </a:blip>
          <a:srcRect l="18726" t="41597" r="65760" b="43512"/>
          <a:stretch/>
        </p:blipFill>
        <p:spPr>
          <a:xfrm>
            <a:off x="1446120" y="2133720"/>
            <a:ext cx="1297080" cy="933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rcRect l="38001" t="9996" r="9996" b="58012"/>
          <a:stretch/>
        </p:blipFill>
        <p:spPr>
          <a:xfrm>
            <a:off x="1447920" y="4419720"/>
            <a:ext cx="1663560" cy="1023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rcRect l="23197" t="0" r="51291" b="50009"/>
          <a:stretch/>
        </p:blipFill>
        <p:spPr>
          <a:xfrm>
            <a:off x="5562720" y="3886200"/>
            <a:ext cx="1512720" cy="2057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rcRect l="46295" t="62566" r="0" b="28651"/>
          <a:stretch/>
        </p:blipFill>
        <p:spPr>
          <a:xfrm rot="11907000">
            <a:off x="4876200" y="2361600"/>
            <a:ext cx="2205000" cy="533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62120" y="2297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4834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19920" y="19810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4419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304920"/>
            <a:ext cx="861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answers are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 rot="20308200">
            <a:off x="1980720" y="2209320"/>
            <a:ext cx="2210040" cy="1657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209680" y="4191120"/>
            <a:ext cx="2210040" cy="2209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934320" y="1143000"/>
            <a:ext cx="1587240" cy="2344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rcRect l="0" t="0" r="49815" b="0"/>
          <a:stretch/>
        </p:blipFill>
        <p:spPr>
          <a:xfrm>
            <a:off x="7010280" y="4191120"/>
            <a:ext cx="1762200" cy="2438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>
            <a:grayscl/>
          </a:blip>
          <a:srcRect l="18726" t="41597" r="65760" b="43512"/>
          <a:stretch/>
        </p:blipFill>
        <p:spPr>
          <a:xfrm>
            <a:off x="1447920" y="2133720"/>
            <a:ext cx="1296720" cy="933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rcRect l="38001" t="9996" r="9996" b="58012"/>
          <a:stretch/>
        </p:blipFill>
        <p:spPr>
          <a:xfrm>
            <a:off x="1447920" y="4419720"/>
            <a:ext cx="1663560" cy="1023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rcRect l="23197" t="0" r="51291" b="50009"/>
          <a:stretch/>
        </p:blipFill>
        <p:spPr>
          <a:xfrm>
            <a:off x="5562720" y="3886200"/>
            <a:ext cx="1512720" cy="2057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rcRect l="46295" t="62566" r="0" b="28651"/>
          <a:stretch/>
        </p:blipFill>
        <p:spPr>
          <a:xfrm rot="11907000">
            <a:off x="4876200" y="2361600"/>
            <a:ext cx="2205000" cy="533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62120" y="2297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4834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19810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81480" y="4419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 Trimpe</cp:lastModifiedBy>
  <dcterms:modified xsi:type="dcterms:W3CDTF">2008-11-26T04:01:18Z</dcterms:modified>
  <cp:revision>91</cp:revision>
  <dc:subject/>
  <dc:title>Slide 1</dc:title>
</cp:coreProperties>
</file>