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6FE-107A-4621-BEE2-AAB9EA07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09B-8FB2-4C53-A8E1-CDA459A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DDE-38A0-4998-A4B6-0D736404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4CC-7A49-4CD5-9508-DA96E3F0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8CB-B7A7-4FA5-8817-90770D6D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6D9-47DF-49C3-A809-C953D70C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B71-D2D8-4AB9-BE75-2383DCD7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198-9AF5-4ED0-A702-3CC46CA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39-1260-4E0D-8333-489CCF7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3EC-7FED-40F2-A73D-68BCD862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FFC-778F-48F4-8B27-B8FE50F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E3B-809A-455F-B1C6-45CEAF4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7466-4E9F-40F0-B0C5-CA12F918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stery Pic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625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identify the mystery items?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items are associated with crime scene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rcRect l="18726" t="41597" r="65760" b="43512"/>
          <a:stretch/>
        </p:blipFill>
        <p:spPr>
          <a:xfrm>
            <a:off x="1446120" y="2133720"/>
            <a:ext cx="129708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38001" t="9996" r="9996" b="58012"/>
          <a:stretch/>
        </p:blipFill>
        <p:spPr>
          <a:xfrm>
            <a:off x="1447920" y="4419720"/>
            <a:ext cx="166356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23197" t="0" r="51291" b="50009"/>
          <a:stretch/>
        </p:blipFill>
        <p:spPr>
          <a:xfrm>
            <a:off x="5562720" y="3886200"/>
            <a:ext cx="151272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46295" t="62566" r="0" b="28651"/>
          <a:stretch/>
        </p:blipFill>
        <p:spPr>
          <a:xfrm rot="11907000">
            <a:off x="4876200" y="2361600"/>
            <a:ext cx="2205000" cy="53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2297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83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20308200">
            <a:off x="1980720" y="220932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934320" y="1143000"/>
            <a:ext cx="1587240" cy="234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0" t="0" r="49815" b="0"/>
          <a:stretch/>
        </p:blipFill>
        <p:spPr>
          <a:xfrm>
            <a:off x="7010280" y="4191120"/>
            <a:ext cx="17622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>
            <a:grayscl/>
          </a:blip>
          <a:srcRect l="18726" t="41597" r="65760" b="43512"/>
          <a:stretch/>
        </p:blipFill>
        <p:spPr>
          <a:xfrm>
            <a:off x="1447920" y="2133720"/>
            <a:ext cx="1296720" cy="93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38001" t="9996" r="9996" b="58012"/>
          <a:stretch/>
        </p:blipFill>
        <p:spPr>
          <a:xfrm>
            <a:off x="1447920" y="4419720"/>
            <a:ext cx="1663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23197" t="0" r="51291" b="50009"/>
          <a:stretch/>
        </p:blipFill>
        <p:spPr>
          <a:xfrm>
            <a:off x="5562720" y="3886200"/>
            <a:ext cx="15127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46295" t="62566" r="0" b="28651"/>
          <a:stretch/>
        </p:blipFill>
        <p:spPr>
          <a:xfrm rot="11907000">
            <a:off x="4876200" y="2361600"/>
            <a:ext cx="2205000" cy="53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2297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83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1:18Z</dcterms:modified>
  <cp:revision>91</cp:revision>
  <dc:subject/>
  <dc:title>Slide 1</dc:title>
</cp:coreProperties>
</file>