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58400" cy="7315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4C14-F724-48E7-88CE-353A3A05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2282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DA0F-5C49-4349-BFDD-DE6B5653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94E9-C32A-4EB1-95A9-DC94B91D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A8D5-DC14-4051-8195-4A989B9C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8892-48FD-4218-9669-19FC33CC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D27-C3B9-451E-A899-23DD32D5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A0CB-CDA7-4A8B-9437-35DBBF5B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385D-E2CE-4FDA-BF0E-1A1DF60C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93760"/>
            <a:ext cx="9051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00B4-00D0-4421-83DC-21FBD273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0C14-972B-4076-9182-F854FC6B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894C-B62B-4924-9356-533807D4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858C-E82B-4257-8F9B-31B4D373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128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36640" indent="-2476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660720"/>
            <a:ext cx="234612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6660720"/>
            <a:ext cx="318456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6660720"/>
            <a:ext cx="234612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BA76-88E9-475B-80DC-6AFD631AE732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videos.howstuffworks.com/hsw/20458-the-world-of-plants-our-flowering-world-video.htm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Tracy\AppData\Local\Microsoft\Windows\Temporary Internet Files\Content.IE5\8LG3ELMS\MC900441123[1].jpg"/>
          <p:cNvPicPr/>
          <p:nvPr/>
        </p:nvPicPr>
        <p:blipFill>
          <a:blip r:embed="rId1"/>
          <a:stretch/>
        </p:blipFill>
        <p:spPr>
          <a:xfrm>
            <a:off x="1517760" y="-6480"/>
            <a:ext cx="7327800" cy="732816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 rot="20255400">
            <a:off x="539640" y="1598400"/>
            <a:ext cx="90680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lower Power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763120" y="7010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T. Trimpe 201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2"/>
          <p:cNvGrpSpPr/>
          <p:nvPr/>
        </p:nvGrpSpPr>
        <p:grpSpPr>
          <a:xfrm>
            <a:off x="2600280" y="1447920"/>
            <a:ext cx="5095800" cy="5162400"/>
            <a:chOff x="2600280" y="1447920"/>
            <a:chExt cx="5095800" cy="5162400"/>
          </a:xfrm>
        </p:grpSpPr>
        <p:pic>
          <p:nvPicPr>
            <p:cNvPr id="45" name="Picture 6" descr="flowerdiagram.jpg"/>
            <p:cNvPicPr/>
            <p:nvPr/>
          </p:nvPicPr>
          <p:blipFill>
            <a:blip r:embed="rId1"/>
            <a:stretch/>
          </p:blipFill>
          <p:spPr>
            <a:xfrm>
              <a:off x="2600280" y="1447920"/>
              <a:ext cx="5095800" cy="51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Rectangle 21"/>
            <p:cNvSpPr/>
            <p:nvPr/>
          </p:nvSpPr>
          <p:spPr>
            <a:xfrm>
              <a:off x="7238880" y="3886560"/>
              <a:ext cx="4572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tangle 23"/>
          <p:cNvSpPr/>
          <p:nvPr/>
        </p:nvSpPr>
        <p:spPr>
          <a:xfrm>
            <a:off x="2638440" y="1022400"/>
            <a:ext cx="45720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6"/>
          <p:cNvSpPr/>
          <p:nvPr/>
        </p:nvSpPr>
        <p:spPr>
          <a:xfrm>
            <a:off x="304920" y="22860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ower B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Label the parts of the fl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152280" y="693432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: http://www.smithlifescience.com/SciFlowerDiagramBlank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2523960" y="1447920"/>
            <a:ext cx="1447920" cy="3988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0"/>
          <p:cNvGrpSpPr/>
          <p:nvPr/>
        </p:nvGrpSpPr>
        <p:grpSpPr>
          <a:xfrm>
            <a:off x="304920" y="3886200"/>
            <a:ext cx="2904840" cy="989640"/>
            <a:chOff x="304920" y="3886200"/>
            <a:chExt cx="2904840" cy="989640"/>
          </a:xfrm>
        </p:grpSpPr>
        <p:grpSp>
          <p:nvGrpSpPr>
            <p:cNvPr id="52" name="Group 25"/>
            <p:cNvGrpSpPr/>
            <p:nvPr/>
          </p:nvGrpSpPr>
          <p:grpSpPr>
            <a:xfrm>
              <a:off x="304920" y="4000320"/>
              <a:ext cx="1752480" cy="800280"/>
              <a:chOff x="304920" y="4000320"/>
              <a:chExt cx="1752480" cy="800280"/>
            </a:xfrm>
          </p:grpSpPr>
          <p:grpSp>
            <p:nvGrpSpPr>
              <p:cNvPr id="53" name="Group 3"/>
              <p:cNvGrpSpPr/>
              <p:nvPr/>
            </p:nvGrpSpPr>
            <p:grpSpPr>
              <a:xfrm>
                <a:off x="1676520" y="4000320"/>
                <a:ext cx="380880" cy="800280"/>
                <a:chOff x="1676520" y="4000320"/>
                <a:chExt cx="380880" cy="800280"/>
              </a:xfrm>
            </p:grpSpPr>
            <p:sp>
              <p:nvSpPr>
                <p:cNvPr id="54" name="Rectangle 4"/>
                <p:cNvSpPr/>
                <p:nvPr/>
              </p:nvSpPr>
              <p:spPr>
                <a:xfrm>
                  <a:off x="1676520" y="4060440"/>
                  <a:ext cx="228600" cy="686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"/>
                <p:cNvSpPr/>
                <p:nvPr/>
              </p:nvSpPr>
              <p:spPr>
                <a:xfrm>
                  <a:off x="1828800" y="4000320"/>
                  <a:ext cx="228600" cy="800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" name="Line 6"/>
              <p:cNvSpPr/>
              <p:nvPr/>
            </p:nvSpPr>
            <p:spPr>
              <a:xfrm>
                <a:off x="1524240" y="44002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Box 10"/>
              <p:cNvSpPr/>
              <p:nvPr/>
            </p:nvSpPr>
            <p:spPr>
              <a:xfrm>
                <a:off x="304920" y="4190760"/>
                <a:ext cx="1219320" cy="3988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tame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TextBox 8"/>
            <p:cNvSpPr/>
            <p:nvPr/>
          </p:nvSpPr>
          <p:spPr>
            <a:xfrm>
              <a:off x="1762200" y="3886200"/>
              <a:ext cx="1447560" cy="398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th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9"/>
            <p:cNvSpPr/>
            <p:nvPr/>
          </p:nvSpPr>
          <p:spPr>
            <a:xfrm>
              <a:off x="1762200" y="4476960"/>
              <a:ext cx="1447560" cy="398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la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1"/>
          <p:cNvGrpSpPr/>
          <p:nvPr/>
        </p:nvGrpSpPr>
        <p:grpSpPr>
          <a:xfrm>
            <a:off x="7010280" y="3581280"/>
            <a:ext cx="2819520" cy="989640"/>
            <a:chOff x="7010280" y="3581280"/>
            <a:chExt cx="2819520" cy="989640"/>
          </a:xfrm>
        </p:grpSpPr>
        <p:grpSp>
          <p:nvGrpSpPr>
            <p:cNvPr id="61" name="Group 26"/>
            <p:cNvGrpSpPr/>
            <p:nvPr/>
          </p:nvGrpSpPr>
          <p:grpSpPr>
            <a:xfrm>
              <a:off x="8153280" y="3657240"/>
              <a:ext cx="1676520" cy="800280"/>
              <a:chOff x="8153280" y="3657240"/>
              <a:chExt cx="1676520" cy="800280"/>
            </a:xfrm>
          </p:grpSpPr>
          <p:grpSp>
            <p:nvGrpSpPr>
              <p:cNvPr id="62" name="Group 23"/>
              <p:cNvGrpSpPr/>
              <p:nvPr/>
            </p:nvGrpSpPr>
            <p:grpSpPr>
              <a:xfrm>
                <a:off x="8153280" y="3657240"/>
                <a:ext cx="533520" cy="800280"/>
                <a:chOff x="8153280" y="3657240"/>
                <a:chExt cx="533520" cy="800280"/>
              </a:xfrm>
            </p:grpSpPr>
            <p:grpSp>
              <p:nvGrpSpPr>
                <p:cNvPr id="63" name="Group 3"/>
                <p:cNvGrpSpPr/>
                <p:nvPr/>
              </p:nvGrpSpPr>
              <p:grpSpPr>
                <a:xfrm>
                  <a:off x="8153280" y="3657240"/>
                  <a:ext cx="380880" cy="800280"/>
                  <a:chOff x="8153280" y="3657240"/>
                  <a:chExt cx="380880" cy="800280"/>
                </a:xfrm>
              </p:grpSpPr>
              <p:sp>
                <p:nvSpPr>
                  <p:cNvPr id="64" name="Rectangle 4"/>
                  <p:cNvSpPr/>
                  <p:nvPr/>
                </p:nvSpPr>
                <p:spPr>
                  <a:xfrm flipH="1">
                    <a:off x="8305200" y="3717360"/>
                    <a:ext cx="228600" cy="68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Rectangle 5"/>
                  <p:cNvSpPr/>
                  <p:nvPr/>
                </p:nvSpPr>
                <p:spPr>
                  <a:xfrm flipH="1">
                    <a:off x="8152920" y="3657240"/>
                    <a:ext cx="228600" cy="800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" name="Line 6"/>
                <p:cNvSpPr/>
                <p:nvPr/>
              </p:nvSpPr>
              <p:spPr>
                <a:xfrm>
                  <a:off x="8534520" y="40384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" name="TextBox 24"/>
              <p:cNvSpPr/>
              <p:nvPr/>
            </p:nvSpPr>
            <p:spPr>
              <a:xfrm>
                <a:off x="8686800" y="3809520"/>
                <a:ext cx="1143000" cy="39888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isti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TextBox 19"/>
            <p:cNvSpPr/>
            <p:nvPr/>
          </p:nvSpPr>
          <p:spPr>
            <a:xfrm>
              <a:off x="7010280" y="3581280"/>
              <a:ext cx="1447920" cy="39888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ig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20"/>
            <p:cNvSpPr/>
            <p:nvPr/>
          </p:nvSpPr>
          <p:spPr>
            <a:xfrm>
              <a:off x="7010280" y="4172040"/>
              <a:ext cx="1447920" cy="39888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y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32"/>
          <p:cNvGrpSpPr/>
          <p:nvPr/>
        </p:nvGrpSpPr>
        <p:grpSpPr>
          <a:xfrm>
            <a:off x="3352680" y="4753080"/>
            <a:ext cx="4648320" cy="1437120"/>
            <a:chOff x="3352680" y="4753080"/>
            <a:chExt cx="4648320" cy="1437120"/>
          </a:xfrm>
        </p:grpSpPr>
        <p:sp>
          <p:nvSpPr>
            <p:cNvPr id="71" name="TextBox 27"/>
            <p:cNvSpPr/>
            <p:nvPr/>
          </p:nvSpPr>
          <p:spPr>
            <a:xfrm>
              <a:off x="6553080" y="4753080"/>
              <a:ext cx="1447920" cy="398880"/>
            </a:xfrm>
            <a:prstGeom prst="rect">
              <a:avLst/>
            </a:prstGeom>
            <a:solidFill>
              <a:srgbClr val="99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u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28"/>
            <p:cNvSpPr/>
            <p:nvPr/>
          </p:nvSpPr>
          <p:spPr>
            <a:xfrm>
              <a:off x="3352680" y="5791320"/>
              <a:ext cx="1447920" cy="398880"/>
            </a:xfrm>
            <a:prstGeom prst="rect">
              <a:avLst/>
            </a:prstGeom>
            <a:solidFill>
              <a:srgbClr val="99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29"/>
          <p:cNvSpPr/>
          <p:nvPr/>
        </p:nvSpPr>
        <p:spPr>
          <a:xfrm>
            <a:off x="2133720" y="5257800"/>
            <a:ext cx="1447560" cy="3988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Tracy\AppData\Local\Microsoft\Windows\Temporary Internet Files\Content.IE5\S5KGZE2D\MCj04260680000[1].wm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839080" y="228600"/>
            <a:ext cx="1044720" cy="9828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4"/>
          <p:cNvSpPr/>
          <p:nvPr/>
        </p:nvSpPr>
        <p:spPr>
          <a:xfrm>
            <a:off x="7315200" y="2286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Flowering Worl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152280" y="147600"/>
            <a:ext cx="9829800" cy="67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Identify each part of the flower described below using the words in the word l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female part of a f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 small plant that is just starting to g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place where pollen develops and is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female sex cell in 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ccurs when the sperm and egg cells un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 sugary substance that attracts ins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male sex cell in 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male part of a f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stalk that supports the an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part of the pistil that receives the po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art that connects the stigma and ov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otective leaf-like enclosure for the flower b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ripened ovary of a plant that contains s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Flower that contains both male and female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Flower that lacks either male or female par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structures that make up the outside of the flower and may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ored or contain nectar or perfume g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8229600" y="914400"/>
            <a:ext cx="152388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ord L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er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c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p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g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09440" y="533520"/>
            <a:ext cx="2514600" cy="61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IST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E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T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V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C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IG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1039"/>
          <p:cNvGrpSpPr/>
          <p:nvPr/>
        </p:nvGrpSpPr>
        <p:grpSpPr>
          <a:xfrm>
            <a:off x="838080" y="2971800"/>
            <a:ext cx="8615160" cy="4076280"/>
            <a:chOff x="838080" y="2971800"/>
            <a:chExt cx="8615160" cy="4076280"/>
          </a:xfrm>
        </p:grpSpPr>
        <p:grpSp>
          <p:nvGrpSpPr>
            <p:cNvPr id="80" name="Group 1031"/>
            <p:cNvGrpSpPr/>
            <p:nvPr/>
          </p:nvGrpSpPr>
          <p:grpSpPr>
            <a:xfrm>
              <a:off x="4576680" y="2971800"/>
              <a:ext cx="4876560" cy="4076280"/>
              <a:chOff x="4576680" y="2971800"/>
              <a:chExt cx="4876560" cy="4076280"/>
            </a:xfrm>
          </p:grpSpPr>
          <p:pic>
            <p:nvPicPr>
              <p:cNvPr id="81" name="Picture 1029" descr=""/>
              <p:cNvPicPr/>
              <p:nvPr/>
            </p:nvPicPr>
            <p:blipFill>
              <a:blip r:embed="rId1"/>
              <a:stretch/>
            </p:blipFill>
            <p:spPr>
              <a:xfrm>
                <a:off x="5352480" y="2971800"/>
                <a:ext cx="3324960" cy="3382920"/>
              </a:xfrm>
              <a:prstGeom prst="rect">
                <a:avLst/>
              </a:prstGeom>
              <a:ln w="28440">
                <a:solidFill>
                  <a:srgbClr val="000000"/>
                </a:solidFill>
                <a:miter/>
              </a:ln>
            </p:spPr>
          </p:pic>
          <p:pic>
            <p:nvPicPr>
              <p:cNvPr id="82" name="Picture 1030" descr=""/>
              <p:cNvPicPr/>
              <p:nvPr/>
            </p:nvPicPr>
            <p:blipFill>
              <a:blip r:embed="rId2"/>
              <a:srcRect l="6404" t="0" r="5602" b="0"/>
              <a:stretch/>
            </p:blipFill>
            <p:spPr>
              <a:xfrm>
                <a:off x="4576680" y="6417720"/>
                <a:ext cx="4876560" cy="630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3" name="Group 1036"/>
            <p:cNvGrpSpPr/>
            <p:nvPr/>
          </p:nvGrpSpPr>
          <p:grpSpPr>
            <a:xfrm>
              <a:off x="957240" y="3047760"/>
              <a:ext cx="2971800" cy="2379600"/>
              <a:chOff x="957240" y="3047760"/>
              <a:chExt cx="2971800" cy="2379600"/>
            </a:xfrm>
          </p:grpSpPr>
          <p:grpSp>
            <p:nvGrpSpPr>
              <p:cNvPr id="84" name="Group 1035"/>
              <p:cNvGrpSpPr/>
              <p:nvPr/>
            </p:nvGrpSpPr>
            <p:grpSpPr>
              <a:xfrm>
                <a:off x="957240" y="3504600"/>
                <a:ext cx="2971800" cy="1922760"/>
                <a:chOff x="957240" y="3504600"/>
                <a:chExt cx="2971800" cy="1922760"/>
              </a:xfrm>
            </p:grpSpPr>
            <p:sp>
              <p:nvSpPr>
                <p:cNvPr id="85" name="Text Box 1032"/>
                <p:cNvSpPr/>
                <p:nvPr/>
              </p:nvSpPr>
              <p:spPr>
                <a:xfrm>
                  <a:off x="957240" y="3504600"/>
                  <a:ext cx="152388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n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a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ee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Moths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irds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Text Box 1033"/>
                <p:cNvSpPr/>
                <p:nvPr/>
              </p:nvSpPr>
              <p:spPr>
                <a:xfrm>
                  <a:off x="2252520" y="3504600"/>
                  <a:ext cx="167652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utterflies</a:t>
                  </a:r>
                  <a:br>
                    <a:rPr sz="2400"/>
                  </a:b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lie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eetle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rue Bugs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Wasp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Text Box 1034"/>
              <p:cNvSpPr/>
              <p:nvPr/>
            </p:nvSpPr>
            <p:spPr>
              <a:xfrm>
                <a:off x="1147680" y="3047760"/>
                <a:ext cx="259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ollinato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 Box 1037"/>
            <p:cNvSpPr/>
            <p:nvPr/>
          </p:nvSpPr>
          <p:spPr>
            <a:xfrm>
              <a:off x="838080" y="5562360"/>
              <a:ext cx="3352680" cy="1313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id you know?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oney bees are the most common pollinators.  What insect comes in second place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1040" descr="j0197385"/>
          <p:cNvPicPr/>
          <p:nvPr/>
        </p:nvPicPr>
        <p:blipFill>
          <a:blip r:embed="rId3"/>
          <a:stretch/>
        </p:blipFill>
        <p:spPr>
          <a:xfrm>
            <a:off x="3581280" y="4838760"/>
            <a:ext cx="1551240" cy="123192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13"/>
          <p:cNvGrpSpPr/>
          <p:nvPr/>
        </p:nvGrpSpPr>
        <p:grpSpPr>
          <a:xfrm>
            <a:off x="228600" y="685800"/>
            <a:ext cx="9524880" cy="1542240"/>
            <a:chOff x="228600" y="685800"/>
            <a:chExt cx="9524880" cy="1542240"/>
          </a:xfrm>
        </p:grpSpPr>
        <p:sp>
          <p:nvSpPr>
            <p:cNvPr id="91" name="TextBox 14"/>
            <p:cNvSpPr/>
            <p:nvPr/>
          </p:nvSpPr>
          <p:spPr>
            <a:xfrm>
              <a:off x="228600" y="685800"/>
              <a:ext cx="9524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LF-POLLINATION:  POLLEN FROM A FLOWER LANDS ON THE PISTIL OF THE 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SAME FLOWER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 A FLOWER ON THE 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SAME PLANT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15"/>
            <p:cNvSpPr/>
            <p:nvPr/>
          </p:nvSpPr>
          <p:spPr>
            <a:xfrm>
              <a:off x="228600" y="1524240"/>
              <a:ext cx="9524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OSS-POLLINATION:  POLLEN FROM A FLOWER LANDS ON THE PISTIL OF THE A FLOWER ON A 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DIFFERENT PLANT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Box 16"/>
          <p:cNvSpPr/>
          <p:nvPr/>
        </p:nvSpPr>
        <p:spPr>
          <a:xfrm>
            <a:off x="152280" y="152280"/>
            <a:ext cx="9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What is the difference between self-pollination and cross-pollinati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00:46:50Z</dcterms:created>
  <dc:creator>Tracy Trimpe</dc:creator>
  <dc:description/>
  <dc:language>en-US</dc:language>
  <cp:lastModifiedBy>Tracy</cp:lastModifiedBy>
  <dcterms:modified xsi:type="dcterms:W3CDTF">2010-05-01T20:16:01Z</dcterms:modified>
  <cp:revision>145</cp:revision>
  <dc:subject/>
  <dc:title>Slide 1</dc:title>
</cp:coreProperties>
</file>