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5.png" ContentType="image/png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58400" cy="73152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23E4-67A5-4D63-89C9-CAD8CA71B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93760"/>
            <a:ext cx="9051840" cy="1218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06400"/>
            <a:ext cx="9051840" cy="2302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228200"/>
            <a:ext cx="9051840" cy="2302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91F9-75D6-4DA8-81A7-FBA5325BF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93760"/>
            <a:ext cx="9051840" cy="1218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06400"/>
            <a:ext cx="4417200" cy="2302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1880" y="1706400"/>
            <a:ext cx="4417200" cy="2302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228200"/>
            <a:ext cx="4417200" cy="2302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1880" y="4228200"/>
            <a:ext cx="4417200" cy="2302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0A93-477A-4630-A6BA-5E6784CA2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93760"/>
            <a:ext cx="9051840" cy="1218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06400"/>
            <a:ext cx="2914560" cy="2302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4000" y="1706400"/>
            <a:ext cx="2914560" cy="2302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4720" y="1706400"/>
            <a:ext cx="2914560" cy="2302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228200"/>
            <a:ext cx="2914560" cy="2302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4000" y="4228200"/>
            <a:ext cx="2914560" cy="2302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4720" y="4228200"/>
            <a:ext cx="2914560" cy="2302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8A17-E43F-49EC-8756-45612ACE5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93760"/>
            <a:ext cx="9051840" cy="1218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06400"/>
            <a:ext cx="90518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8DB6-94ED-4BE9-AEFD-36600FA26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93760"/>
            <a:ext cx="9051840" cy="1218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06400"/>
            <a:ext cx="9051840" cy="48276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8C8C-0673-4DD8-BC2A-2BF4EAFCA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93760"/>
            <a:ext cx="9051840" cy="1218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06400"/>
            <a:ext cx="4417200" cy="48276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1880" y="1706400"/>
            <a:ext cx="4417200" cy="48276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7909-B158-4B4C-BAF6-5EEF6E18C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93760"/>
            <a:ext cx="9051840" cy="1218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A47E-4053-4423-A5F3-96169C723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93760"/>
            <a:ext cx="905184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D465-B921-41B7-8F7B-9B7D2928A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93760"/>
            <a:ext cx="9051840" cy="1218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06400"/>
            <a:ext cx="4417200" cy="2302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880" y="1706400"/>
            <a:ext cx="4417200" cy="48276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228200"/>
            <a:ext cx="4417200" cy="2302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010C-DB0C-4585-8F08-BEF29A180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93760"/>
            <a:ext cx="9051840" cy="1218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06400"/>
            <a:ext cx="4417200" cy="48276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880" y="1706400"/>
            <a:ext cx="4417200" cy="2302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1880" y="4228200"/>
            <a:ext cx="4417200" cy="2302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087B-5C80-49BB-9C78-3A5273610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93760"/>
            <a:ext cx="9051840" cy="1218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06400"/>
            <a:ext cx="4417200" cy="2302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1880" y="1706400"/>
            <a:ext cx="4417200" cy="2302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228200"/>
            <a:ext cx="9051840" cy="2302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A504-8DE0-43FD-944A-99F3FE64A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93760"/>
            <a:ext cx="9051840" cy="1218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06400"/>
            <a:ext cx="9051840" cy="48276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marL="372960" indent="-3729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-30960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2" marL="1241280" indent="-24912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3" marL="1736640" indent="-24768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4" marL="2233440" indent="-2473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5" marL="2233440" indent="-2473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6" marL="2233440" indent="-2473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660720"/>
            <a:ext cx="2346120" cy="507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6660720"/>
            <a:ext cx="3184560" cy="507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8640" y="6660720"/>
            <a:ext cx="2346120" cy="507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B5D40-C7D3-4906-B53D-35B58C260C82}" type="slidenum">
              <a:rPr b="0" lang="en-US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videos.howstuffworks.com/hsw/20458-the-world-of-plants-our-flowering-world-video.htm" TargetMode="External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C:\Users\Tracy\AppData\Local\Microsoft\Windows\Temporary Internet Files\Content.IE5\8LG3ELMS\MC900441123[1].jpg"/>
          <p:cNvPicPr/>
          <p:nvPr/>
        </p:nvPicPr>
        <p:blipFill>
          <a:blip r:embed="rId1"/>
          <a:stretch/>
        </p:blipFill>
        <p:spPr>
          <a:xfrm>
            <a:off x="1517760" y="-6480"/>
            <a:ext cx="7327800" cy="7328160"/>
          </a:xfrm>
          <a:prstGeom prst="rect">
            <a:avLst/>
          </a:prstGeom>
          <a:ln w="0">
            <a:noFill/>
          </a:ln>
        </p:spPr>
      </p:pic>
      <p:sp>
        <p:nvSpPr>
          <p:cNvPr id="42" name="WordArt 4"/>
          <p:cNvSpPr txBox="1"/>
          <p:nvPr/>
        </p:nvSpPr>
        <p:spPr>
          <a:xfrm rot="20255400">
            <a:off x="539640" y="1598400"/>
            <a:ext cx="906804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Flower Power</a:t>
            </a:r>
            <a:endParaRPr b="0" lang="en-US" sz="2000" spc="1" strike="noStrike">
              <a:ln w="2844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43" name="TextBox 8"/>
          <p:cNvSpPr/>
          <p:nvPr/>
        </p:nvSpPr>
        <p:spPr>
          <a:xfrm>
            <a:off x="8763120" y="701028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T. Trimpe 201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2"/>
          <p:cNvGrpSpPr/>
          <p:nvPr/>
        </p:nvGrpSpPr>
        <p:grpSpPr>
          <a:xfrm>
            <a:off x="2600280" y="1447920"/>
            <a:ext cx="5095800" cy="5162400"/>
            <a:chOff x="2600280" y="1447920"/>
            <a:chExt cx="5095800" cy="5162400"/>
          </a:xfrm>
        </p:grpSpPr>
        <p:pic>
          <p:nvPicPr>
            <p:cNvPr id="45" name="Picture 6" descr="flowerdiagram.jpg"/>
            <p:cNvPicPr/>
            <p:nvPr/>
          </p:nvPicPr>
          <p:blipFill>
            <a:blip r:embed="rId1"/>
            <a:stretch/>
          </p:blipFill>
          <p:spPr>
            <a:xfrm>
              <a:off x="2600280" y="1447920"/>
              <a:ext cx="5095800" cy="516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Rectangle 21"/>
            <p:cNvSpPr/>
            <p:nvPr/>
          </p:nvSpPr>
          <p:spPr>
            <a:xfrm>
              <a:off x="7238880" y="3886560"/>
              <a:ext cx="45720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Rectangle 23"/>
          <p:cNvSpPr/>
          <p:nvPr/>
        </p:nvSpPr>
        <p:spPr>
          <a:xfrm>
            <a:off x="2638440" y="1022400"/>
            <a:ext cx="457200" cy="34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26"/>
          <p:cNvSpPr/>
          <p:nvPr/>
        </p:nvSpPr>
        <p:spPr>
          <a:xfrm>
            <a:off x="304920" y="228600"/>
            <a:ext cx="8229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lower Ba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Label the parts of the flow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5"/>
          <p:cNvSpPr/>
          <p:nvPr/>
        </p:nvSpPr>
        <p:spPr>
          <a:xfrm>
            <a:off x="152280" y="6934320"/>
            <a:ext cx="701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: http://www.smithlifescience.com/SciFlowerDiagramBlank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7"/>
          <p:cNvSpPr/>
          <p:nvPr/>
        </p:nvSpPr>
        <p:spPr>
          <a:xfrm>
            <a:off x="2523960" y="1447920"/>
            <a:ext cx="1447920" cy="39888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t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Group 30"/>
          <p:cNvGrpSpPr/>
          <p:nvPr/>
        </p:nvGrpSpPr>
        <p:grpSpPr>
          <a:xfrm>
            <a:off x="304920" y="3886200"/>
            <a:ext cx="2904840" cy="989640"/>
            <a:chOff x="304920" y="3886200"/>
            <a:chExt cx="2904840" cy="989640"/>
          </a:xfrm>
        </p:grpSpPr>
        <p:grpSp>
          <p:nvGrpSpPr>
            <p:cNvPr id="52" name="Group 25"/>
            <p:cNvGrpSpPr/>
            <p:nvPr/>
          </p:nvGrpSpPr>
          <p:grpSpPr>
            <a:xfrm>
              <a:off x="304920" y="4000320"/>
              <a:ext cx="1752480" cy="800280"/>
              <a:chOff x="304920" y="4000320"/>
              <a:chExt cx="1752480" cy="800280"/>
            </a:xfrm>
          </p:grpSpPr>
          <p:grpSp>
            <p:nvGrpSpPr>
              <p:cNvPr id="53" name="Group 3"/>
              <p:cNvGrpSpPr/>
              <p:nvPr/>
            </p:nvGrpSpPr>
            <p:grpSpPr>
              <a:xfrm>
                <a:off x="1676520" y="4000320"/>
                <a:ext cx="380880" cy="800280"/>
                <a:chOff x="1676520" y="4000320"/>
                <a:chExt cx="380880" cy="800280"/>
              </a:xfrm>
            </p:grpSpPr>
            <p:sp>
              <p:nvSpPr>
                <p:cNvPr id="54" name="Rectangle 4"/>
                <p:cNvSpPr/>
                <p:nvPr/>
              </p:nvSpPr>
              <p:spPr>
                <a:xfrm>
                  <a:off x="1676520" y="4060440"/>
                  <a:ext cx="228600" cy="686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" name="Rectangle 5"/>
                <p:cNvSpPr/>
                <p:nvPr/>
              </p:nvSpPr>
              <p:spPr>
                <a:xfrm>
                  <a:off x="1828800" y="4000320"/>
                  <a:ext cx="228600" cy="800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" name="Line 6"/>
              <p:cNvSpPr/>
              <p:nvPr/>
            </p:nvSpPr>
            <p:spPr>
              <a:xfrm>
                <a:off x="1524240" y="440028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TextBox 10"/>
              <p:cNvSpPr/>
              <p:nvPr/>
            </p:nvSpPr>
            <p:spPr>
              <a:xfrm>
                <a:off x="304920" y="4190760"/>
                <a:ext cx="1219320" cy="398880"/>
              </a:xfrm>
              <a:prstGeom prst="rect">
                <a:avLst/>
              </a:prstGeom>
              <a:solidFill>
                <a:srgbClr val="cce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Stamen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" name="TextBox 8"/>
            <p:cNvSpPr/>
            <p:nvPr/>
          </p:nvSpPr>
          <p:spPr>
            <a:xfrm>
              <a:off x="1762200" y="3886200"/>
              <a:ext cx="1447560" cy="398880"/>
            </a:xfrm>
            <a:prstGeom prst="rect">
              <a:avLst/>
            </a:prstGeom>
            <a:solidFill>
              <a:srgbClr val="cce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th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Box 9"/>
            <p:cNvSpPr/>
            <p:nvPr/>
          </p:nvSpPr>
          <p:spPr>
            <a:xfrm>
              <a:off x="1762200" y="4476960"/>
              <a:ext cx="1447560" cy="398880"/>
            </a:xfrm>
            <a:prstGeom prst="rect">
              <a:avLst/>
            </a:prstGeom>
            <a:solidFill>
              <a:srgbClr val="cce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ila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Group 31"/>
          <p:cNvGrpSpPr/>
          <p:nvPr/>
        </p:nvGrpSpPr>
        <p:grpSpPr>
          <a:xfrm>
            <a:off x="7010280" y="3581280"/>
            <a:ext cx="2819520" cy="989640"/>
            <a:chOff x="7010280" y="3581280"/>
            <a:chExt cx="2819520" cy="989640"/>
          </a:xfrm>
        </p:grpSpPr>
        <p:grpSp>
          <p:nvGrpSpPr>
            <p:cNvPr id="61" name="Group 26"/>
            <p:cNvGrpSpPr/>
            <p:nvPr/>
          </p:nvGrpSpPr>
          <p:grpSpPr>
            <a:xfrm>
              <a:off x="8153280" y="3657240"/>
              <a:ext cx="1676520" cy="800280"/>
              <a:chOff x="8153280" y="3657240"/>
              <a:chExt cx="1676520" cy="800280"/>
            </a:xfrm>
          </p:grpSpPr>
          <p:grpSp>
            <p:nvGrpSpPr>
              <p:cNvPr id="62" name="Group 23"/>
              <p:cNvGrpSpPr/>
              <p:nvPr/>
            </p:nvGrpSpPr>
            <p:grpSpPr>
              <a:xfrm>
                <a:off x="8153280" y="3657240"/>
                <a:ext cx="533520" cy="800280"/>
                <a:chOff x="8153280" y="3657240"/>
                <a:chExt cx="533520" cy="800280"/>
              </a:xfrm>
            </p:grpSpPr>
            <p:grpSp>
              <p:nvGrpSpPr>
                <p:cNvPr id="63" name="Group 3"/>
                <p:cNvGrpSpPr/>
                <p:nvPr/>
              </p:nvGrpSpPr>
              <p:grpSpPr>
                <a:xfrm>
                  <a:off x="8153280" y="3657240"/>
                  <a:ext cx="380880" cy="800280"/>
                  <a:chOff x="8153280" y="3657240"/>
                  <a:chExt cx="380880" cy="800280"/>
                </a:xfrm>
              </p:grpSpPr>
              <p:sp>
                <p:nvSpPr>
                  <p:cNvPr id="64" name="Rectangle 4"/>
                  <p:cNvSpPr/>
                  <p:nvPr/>
                </p:nvSpPr>
                <p:spPr>
                  <a:xfrm flipH="1">
                    <a:off x="8305200" y="3717360"/>
                    <a:ext cx="228600" cy="6861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Rectangle 5"/>
                  <p:cNvSpPr/>
                  <p:nvPr/>
                </p:nvSpPr>
                <p:spPr>
                  <a:xfrm flipH="1">
                    <a:off x="8152920" y="3657240"/>
                    <a:ext cx="228600" cy="8002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6" name="Line 6"/>
                <p:cNvSpPr/>
                <p:nvPr/>
              </p:nvSpPr>
              <p:spPr>
                <a:xfrm>
                  <a:off x="8534520" y="4038480"/>
                  <a:ext cx="15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" name="TextBox 24"/>
              <p:cNvSpPr/>
              <p:nvPr/>
            </p:nvSpPr>
            <p:spPr>
              <a:xfrm>
                <a:off x="8686800" y="3809520"/>
                <a:ext cx="1143000" cy="398880"/>
              </a:xfrm>
              <a:prstGeom prst="rect">
                <a:avLst/>
              </a:prstGeom>
              <a:solidFill>
                <a:srgbClr val="ffc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Pistil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" name="TextBox 19"/>
            <p:cNvSpPr/>
            <p:nvPr/>
          </p:nvSpPr>
          <p:spPr>
            <a:xfrm>
              <a:off x="7010280" y="3581280"/>
              <a:ext cx="1447920" cy="398880"/>
            </a:xfrm>
            <a:prstGeom prst="rect">
              <a:avLst/>
            </a:prstGeom>
            <a:solidFill>
              <a:srgbClr val="ff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igm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Box 20"/>
            <p:cNvSpPr/>
            <p:nvPr/>
          </p:nvSpPr>
          <p:spPr>
            <a:xfrm>
              <a:off x="7010280" y="4172040"/>
              <a:ext cx="1447920" cy="398880"/>
            </a:xfrm>
            <a:prstGeom prst="rect">
              <a:avLst/>
            </a:prstGeom>
            <a:solidFill>
              <a:srgbClr val="ff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y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Group 32"/>
          <p:cNvGrpSpPr/>
          <p:nvPr/>
        </p:nvGrpSpPr>
        <p:grpSpPr>
          <a:xfrm>
            <a:off x="3352680" y="4753080"/>
            <a:ext cx="4648320" cy="1437120"/>
            <a:chOff x="3352680" y="4753080"/>
            <a:chExt cx="4648320" cy="1437120"/>
          </a:xfrm>
        </p:grpSpPr>
        <p:sp>
          <p:nvSpPr>
            <p:cNvPr id="71" name="TextBox 27"/>
            <p:cNvSpPr/>
            <p:nvPr/>
          </p:nvSpPr>
          <p:spPr>
            <a:xfrm>
              <a:off x="6553080" y="4753080"/>
              <a:ext cx="1447920" cy="398880"/>
            </a:xfrm>
            <a:prstGeom prst="rect">
              <a:avLst/>
            </a:prstGeom>
            <a:solidFill>
              <a:srgbClr val="99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vu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TextBox 28"/>
            <p:cNvSpPr/>
            <p:nvPr/>
          </p:nvSpPr>
          <p:spPr>
            <a:xfrm>
              <a:off x="3352680" y="5791320"/>
              <a:ext cx="1447920" cy="398880"/>
            </a:xfrm>
            <a:prstGeom prst="rect">
              <a:avLst/>
            </a:prstGeom>
            <a:solidFill>
              <a:srgbClr val="99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va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TextBox 29"/>
          <p:cNvSpPr/>
          <p:nvPr/>
        </p:nvSpPr>
        <p:spPr>
          <a:xfrm>
            <a:off x="2133720" y="5257800"/>
            <a:ext cx="1447560" cy="39888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p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" descr="C:\Users\Tracy\AppData\Local\Microsoft\Windows\Temporary Internet Files\Content.IE5\S5KGZE2D\MCj04260680000[1].wmf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839080" y="228600"/>
            <a:ext cx="1044720" cy="982800"/>
          </a:xfrm>
          <a:prstGeom prst="rect">
            <a:avLst/>
          </a:prstGeom>
          <a:ln w="0">
            <a:noFill/>
          </a:ln>
        </p:spPr>
      </p:pic>
      <p:sp>
        <p:nvSpPr>
          <p:cNvPr id="75" name="TextBox 34"/>
          <p:cNvSpPr/>
          <p:nvPr/>
        </p:nvSpPr>
        <p:spPr>
          <a:xfrm>
            <a:off x="7315200" y="228600"/>
            <a:ext cx="1752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r Flowering World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4"/>
          <p:cNvSpPr/>
          <p:nvPr/>
        </p:nvSpPr>
        <p:spPr>
          <a:xfrm>
            <a:off x="152280" y="147600"/>
            <a:ext cx="9829800" cy="67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 Identify each part of the flower described below using the words in the word lis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_________________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The female part of a flo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_________________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A small plant that is just starting to g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_________________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The place where pollen develops and is sto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_________________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The female sex cell in a pl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_________________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Occurs when the sperm and egg cells un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_________________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A sugary substance that attracts ins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_________________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The male sex cell in a pl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_________________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The male part of a flo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_________________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The stalk that supports the an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_________________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The part of the pistil that receives the pol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_________________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Part that connects the stigma and ov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_________________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Protective leaf-like enclosure for the flower bu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_________________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The ripened ovary of a plant that contains se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_________________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Flower that contains both male and female pa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_________________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Flower that lacks either male or female par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_________________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The structures that make up the outside of the flower and mayb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ored or contain nectar or perfume gl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8229600" y="914400"/>
            <a:ext cx="1523880" cy="487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ord Lis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ertil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la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erf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c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v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erf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et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ist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l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ed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p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ig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y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109440" y="533520"/>
            <a:ext cx="2514600" cy="61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ISTI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ED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NTH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V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ERTI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CT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OL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A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LA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IG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Y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P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RU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ERF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MPERF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ET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Group 1039"/>
          <p:cNvGrpSpPr/>
          <p:nvPr/>
        </p:nvGrpSpPr>
        <p:grpSpPr>
          <a:xfrm>
            <a:off x="838080" y="2971800"/>
            <a:ext cx="8615160" cy="4076280"/>
            <a:chOff x="838080" y="2971800"/>
            <a:chExt cx="8615160" cy="4076280"/>
          </a:xfrm>
        </p:grpSpPr>
        <p:grpSp>
          <p:nvGrpSpPr>
            <p:cNvPr id="80" name="Group 1031"/>
            <p:cNvGrpSpPr/>
            <p:nvPr/>
          </p:nvGrpSpPr>
          <p:grpSpPr>
            <a:xfrm>
              <a:off x="4576680" y="2971800"/>
              <a:ext cx="4876560" cy="4076280"/>
              <a:chOff x="4576680" y="2971800"/>
              <a:chExt cx="4876560" cy="4076280"/>
            </a:xfrm>
          </p:grpSpPr>
          <p:pic>
            <p:nvPicPr>
              <p:cNvPr id="81" name="Picture 1029" descr=""/>
              <p:cNvPicPr/>
              <p:nvPr/>
            </p:nvPicPr>
            <p:blipFill>
              <a:blip r:embed="rId1"/>
              <a:stretch/>
            </p:blipFill>
            <p:spPr>
              <a:xfrm>
                <a:off x="5352480" y="2971800"/>
                <a:ext cx="3324960" cy="3382920"/>
              </a:xfrm>
              <a:prstGeom prst="rect">
                <a:avLst/>
              </a:prstGeom>
              <a:ln w="28440">
                <a:solidFill>
                  <a:srgbClr val="000000"/>
                </a:solidFill>
                <a:miter/>
              </a:ln>
            </p:spPr>
          </p:pic>
          <p:pic>
            <p:nvPicPr>
              <p:cNvPr id="82" name="Picture 1030" descr=""/>
              <p:cNvPicPr/>
              <p:nvPr/>
            </p:nvPicPr>
            <p:blipFill>
              <a:blip r:embed="rId2"/>
              <a:srcRect l="6404" t="0" r="5602" b="0"/>
              <a:stretch/>
            </p:blipFill>
            <p:spPr>
              <a:xfrm>
                <a:off x="4576680" y="6417720"/>
                <a:ext cx="4876560" cy="630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3" name="Group 1036"/>
            <p:cNvGrpSpPr/>
            <p:nvPr/>
          </p:nvGrpSpPr>
          <p:grpSpPr>
            <a:xfrm>
              <a:off x="957240" y="3047760"/>
              <a:ext cx="2971800" cy="2379600"/>
              <a:chOff x="957240" y="3047760"/>
              <a:chExt cx="2971800" cy="2379600"/>
            </a:xfrm>
          </p:grpSpPr>
          <p:grpSp>
            <p:nvGrpSpPr>
              <p:cNvPr id="84" name="Group 1035"/>
              <p:cNvGrpSpPr/>
              <p:nvPr/>
            </p:nvGrpSpPr>
            <p:grpSpPr>
              <a:xfrm>
                <a:off x="957240" y="3504600"/>
                <a:ext cx="2971800" cy="1922760"/>
                <a:chOff x="957240" y="3504600"/>
                <a:chExt cx="2971800" cy="1922760"/>
              </a:xfrm>
            </p:grpSpPr>
            <p:sp>
              <p:nvSpPr>
                <p:cNvPr id="85" name="Text Box 1032"/>
                <p:cNvSpPr/>
                <p:nvPr/>
              </p:nvSpPr>
              <p:spPr>
                <a:xfrm>
                  <a:off x="957240" y="3504600"/>
                  <a:ext cx="1523880" cy="192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92160"/>
                      <a:tab algn="l" pos="1984320"/>
                      <a:tab algn="l" pos="2976480"/>
                      <a:tab algn="l" pos="3968640"/>
                      <a:tab algn="l" pos="4960800"/>
                      <a:tab algn="l" pos="5952960"/>
                      <a:tab algn="l" pos="6945480"/>
                      <a:tab algn="l" pos="7937640"/>
                      <a:tab algn="l" pos="8929800"/>
                      <a:tab algn="l" pos="9921960"/>
                      <a:tab algn="l" pos="1091412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Ants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92160"/>
                      <a:tab algn="l" pos="1984320"/>
                      <a:tab algn="l" pos="2976480"/>
                      <a:tab algn="l" pos="3968640"/>
                      <a:tab algn="l" pos="4960800"/>
                      <a:tab algn="l" pos="5952960"/>
                      <a:tab algn="l" pos="6945480"/>
                      <a:tab algn="l" pos="7937640"/>
                      <a:tab algn="l" pos="8929800"/>
                      <a:tab algn="l" pos="9921960"/>
                      <a:tab algn="l" pos="1091412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Bats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92160"/>
                      <a:tab algn="l" pos="1984320"/>
                      <a:tab algn="l" pos="2976480"/>
                      <a:tab algn="l" pos="3968640"/>
                      <a:tab algn="l" pos="4960800"/>
                      <a:tab algn="l" pos="5952960"/>
                      <a:tab algn="l" pos="6945480"/>
                      <a:tab algn="l" pos="7937640"/>
                      <a:tab algn="l" pos="8929800"/>
                      <a:tab algn="l" pos="9921960"/>
                      <a:tab algn="l" pos="1091412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Bees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92160"/>
                      <a:tab algn="l" pos="1984320"/>
                      <a:tab algn="l" pos="2976480"/>
                      <a:tab algn="l" pos="3968640"/>
                      <a:tab algn="l" pos="4960800"/>
                      <a:tab algn="l" pos="5952960"/>
                      <a:tab algn="l" pos="6945480"/>
                      <a:tab algn="l" pos="7937640"/>
                      <a:tab algn="l" pos="8929800"/>
                      <a:tab algn="l" pos="9921960"/>
                      <a:tab algn="l" pos="1091412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Moths 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92160"/>
                      <a:tab algn="l" pos="1984320"/>
                      <a:tab algn="l" pos="2976480"/>
                      <a:tab algn="l" pos="3968640"/>
                      <a:tab algn="l" pos="4960800"/>
                      <a:tab algn="l" pos="5952960"/>
                      <a:tab algn="l" pos="6945480"/>
                      <a:tab algn="l" pos="7937640"/>
                      <a:tab algn="l" pos="8929800"/>
                      <a:tab algn="l" pos="9921960"/>
                      <a:tab algn="l" pos="1091412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Birds 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Text Box 1033"/>
                <p:cNvSpPr/>
                <p:nvPr/>
              </p:nvSpPr>
              <p:spPr>
                <a:xfrm>
                  <a:off x="2252520" y="3504600"/>
                  <a:ext cx="1676520" cy="192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92160"/>
                      <a:tab algn="l" pos="1984320"/>
                      <a:tab algn="l" pos="2976480"/>
                      <a:tab algn="l" pos="3968640"/>
                      <a:tab algn="l" pos="4960800"/>
                      <a:tab algn="l" pos="5952960"/>
                      <a:tab algn="l" pos="6945480"/>
                      <a:tab algn="l" pos="7937640"/>
                      <a:tab algn="l" pos="8929800"/>
                      <a:tab algn="l" pos="9921960"/>
                      <a:tab algn="l" pos="1091412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Butterflies</a:t>
                  </a:r>
                  <a:br>
                    <a:rPr sz="2400"/>
                  </a:b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Flies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92160"/>
                      <a:tab algn="l" pos="1984320"/>
                      <a:tab algn="l" pos="2976480"/>
                      <a:tab algn="l" pos="3968640"/>
                      <a:tab algn="l" pos="4960800"/>
                      <a:tab algn="l" pos="5952960"/>
                      <a:tab algn="l" pos="6945480"/>
                      <a:tab algn="l" pos="7937640"/>
                      <a:tab algn="l" pos="8929800"/>
                      <a:tab algn="l" pos="9921960"/>
                      <a:tab algn="l" pos="1091412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Beetles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92160"/>
                      <a:tab algn="l" pos="1984320"/>
                      <a:tab algn="l" pos="2976480"/>
                      <a:tab algn="l" pos="3968640"/>
                      <a:tab algn="l" pos="4960800"/>
                      <a:tab algn="l" pos="5952960"/>
                      <a:tab algn="l" pos="6945480"/>
                      <a:tab algn="l" pos="7937640"/>
                      <a:tab algn="l" pos="8929800"/>
                      <a:tab algn="l" pos="9921960"/>
                      <a:tab algn="l" pos="1091412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True Bugs 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92160"/>
                      <a:tab algn="l" pos="1984320"/>
                      <a:tab algn="l" pos="2976480"/>
                      <a:tab algn="l" pos="3968640"/>
                      <a:tab algn="l" pos="4960800"/>
                      <a:tab algn="l" pos="5952960"/>
                      <a:tab algn="l" pos="6945480"/>
                      <a:tab algn="l" pos="7937640"/>
                      <a:tab algn="l" pos="8929800"/>
                      <a:tab algn="l" pos="9921960"/>
                      <a:tab algn="l" pos="1091412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Wasps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7" name="Text Box 1034"/>
              <p:cNvSpPr/>
              <p:nvPr/>
            </p:nvSpPr>
            <p:spPr>
              <a:xfrm>
                <a:off x="1147680" y="3047760"/>
                <a:ext cx="259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92160"/>
                    <a:tab algn="l" pos="1984320"/>
                    <a:tab algn="l" pos="2976480"/>
                    <a:tab algn="l" pos="3968640"/>
                    <a:tab algn="l" pos="4960800"/>
                    <a:tab algn="l" pos="5952960"/>
                    <a:tab algn="l" pos="6945480"/>
                    <a:tab algn="l" pos="7937640"/>
                    <a:tab algn="l" pos="8929800"/>
                    <a:tab algn="l" pos="9921960"/>
                    <a:tab algn="l" pos="1091412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Pollinator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" name="Text Box 1037"/>
            <p:cNvSpPr/>
            <p:nvPr/>
          </p:nvSpPr>
          <p:spPr>
            <a:xfrm>
              <a:off x="838080" y="5562360"/>
              <a:ext cx="3352680" cy="13136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Did you know?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Honey bees are the most common pollinators.  What insect comes in second place?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9" name="Picture 1040" descr="j0197385"/>
          <p:cNvPicPr/>
          <p:nvPr/>
        </p:nvPicPr>
        <p:blipFill>
          <a:blip r:embed="rId3"/>
          <a:stretch/>
        </p:blipFill>
        <p:spPr>
          <a:xfrm>
            <a:off x="3581280" y="4838760"/>
            <a:ext cx="1551240" cy="1231920"/>
          </a:xfrm>
          <a:prstGeom prst="rect">
            <a:avLst/>
          </a:prstGeom>
          <a:ln w="0">
            <a:noFill/>
          </a:ln>
        </p:spPr>
      </p:pic>
      <p:grpSp>
        <p:nvGrpSpPr>
          <p:cNvPr id="90" name="Group 13"/>
          <p:cNvGrpSpPr/>
          <p:nvPr/>
        </p:nvGrpSpPr>
        <p:grpSpPr>
          <a:xfrm>
            <a:off x="228600" y="685800"/>
            <a:ext cx="9524880" cy="1542240"/>
            <a:chOff x="228600" y="685800"/>
            <a:chExt cx="9524880" cy="1542240"/>
          </a:xfrm>
        </p:grpSpPr>
        <p:sp>
          <p:nvSpPr>
            <p:cNvPr id="91" name="TextBox 14"/>
            <p:cNvSpPr/>
            <p:nvPr/>
          </p:nvSpPr>
          <p:spPr>
            <a:xfrm>
              <a:off x="228600" y="685800"/>
              <a:ext cx="95248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LF-POLLINATION:  POLLEN FROM A FLOWER LANDS ON THE PISTIL OF THE </a:t>
              </a: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Times New Roman"/>
                </a:rPr>
                <a:t>SAME FLOWER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R A FLOWER ON THE </a:t>
              </a: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Times New Roman"/>
                </a:rPr>
                <a:t>SAME PLANT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Box 15"/>
            <p:cNvSpPr/>
            <p:nvPr/>
          </p:nvSpPr>
          <p:spPr>
            <a:xfrm>
              <a:off x="228600" y="1524240"/>
              <a:ext cx="95248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OSS-POLLINATION:  POLLEN FROM A FLOWER LANDS ON THE PISTIL OF THE A FLOWER ON A </a:t>
              </a: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Times New Roman"/>
                </a:rPr>
                <a:t>DIFFERENT PLANT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TextBox 16"/>
          <p:cNvSpPr/>
          <p:nvPr/>
        </p:nvSpPr>
        <p:spPr>
          <a:xfrm>
            <a:off x="152280" y="152280"/>
            <a:ext cx="952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What is the difference between self-pollination and cross-pollination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5T00:46:50Z</dcterms:created>
  <dc:creator>Tracy Trimpe</dc:creator>
  <dc:description/>
  <dc:language>en-US</dc:language>
  <cp:lastModifiedBy>Tracy</cp:lastModifiedBy>
  <dcterms:modified xsi:type="dcterms:W3CDTF">2010-05-01T20:16:01Z</dcterms:modified>
  <cp:revision>145</cp:revision>
  <dc:subject/>
  <dc:title>Slide 1</dc:title>
</cp:coreProperties>
</file>