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DCF-ED33-4320-8F3B-0F29B3B2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CCC-AFEB-4046-BFD6-B7FB16BB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4B0-8A7B-44C8-9A99-6E075E39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3F2-7E78-4BCA-8AC4-D97F0744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FCB5-5D87-4E45-89C2-A26FD799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B57D-7375-4741-8BDA-6B180513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F943-229E-4D76-92FF-1078228B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6E7E-DA97-4E1E-BC20-5E7E7DAD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D92D-0C2A-4C9E-AC07-6B23FAF4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3E8B-1F17-4379-982C-C36D4781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3731-8F0B-4777-A99A-A54F45FD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784-774D-4DBC-837F-05BFC785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354F-4529-4275-8D55-F4B41BAF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5149-6922-466C-A057-01ABF8A5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1AFA-11EF-4D05-80E6-B11641E2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8117-F7D8-4618-BB62-DD101AEF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08CE-F808-4185-97F3-DCB816CA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47EA6-BE69-4A56-9E0F-4F79CABC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7D49C-07B4-4BDF-9415-B436E6B7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7D29D-CEAE-444D-A6A6-7D55DBD1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7FCD1-3BC1-4947-AE89-2100FCA8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E03A9-95F8-4BEC-9F33-C3EEE371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418-C4E6-4BF6-8996-34742876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A3F6-9812-4578-8E21-C053F043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440D2-46E9-41CE-A17A-D426DF19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FE11-78B6-438B-B2B5-8DD01A8D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50DD4-8E40-4F9A-BA88-5B32207B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B0006-3EF2-47B3-86E9-C9F3AFF2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60C60-EBC9-4071-873C-E0A39D20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CBCF5-3FBC-4F12-953C-CC3AE488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721B5-4958-4A1B-AFCA-037412C9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E775F-374B-48AA-89E1-C6BAA222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D91BF-4756-4F6B-BAF1-C8AEAB5D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B8F-A363-4BC3-8E86-DB0E5856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1B98E-D79F-4387-B673-573D7DA4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7DDD7-ADE6-4F9A-824E-FCDC1EE0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64403-AA12-4AED-B431-6FE42ABE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C01C7-5A51-403C-9185-256E927A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08C40-2A07-4E6B-8D2E-EFB0F013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7D4A4-10E3-45DA-949C-09BD857D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65CFA-12D8-4BC4-93DC-B466ACF5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9C295-2F3F-4073-B2AB-9CB0B2E7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CDD53-BCF1-432E-8057-F3EE6740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55722-BF11-45AD-B4CE-C4E9E4CA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B58-77F6-4F04-BF86-81852138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A1420-E4E6-4866-9F7A-5AAE89A9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38E40-ED3E-4C35-B150-7B40D73D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1E98D-A5DE-415E-8ED9-42836DEE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94E60-CE38-4F4D-B36D-D308014E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5C454-C27D-4775-8ACE-73635BC4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94B13-836A-4FE8-AB9D-B92939F0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53BAF-8754-4B07-A77C-B0F3D830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3C84E-77FD-427A-A1A2-2B88BF0F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79325-9FF4-4503-8128-BD39BFE9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5B31B-E0B2-4349-88D9-433087E1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2F1-428D-4F93-8994-B24ADCE6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2CBC2-724C-4479-ACA1-01D5769A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769CE-CBA6-4118-B3C0-7E595C58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ECEF7-838D-431B-8F02-C4BB5A5F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DACA4-1E0E-4304-B871-1B9575AD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FA5B7-0ECF-4564-B9B5-B714F062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F086B-0DBF-4A84-8DA7-FCBFFB2C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ACDA1-67EF-4F2C-821A-B9289103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B490E-E627-4A96-B819-9991D1A5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BFD41-8172-4B8E-BD1E-D700F30D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797DC-83EE-46A0-87C5-CDCD633E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64A-0E1C-4865-B1AC-584EE078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BDBEA-1372-460B-AD33-491582A6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E9A56-C0A0-4A94-8D7E-79F9BCC1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B9E27-A8BE-4C17-B2D1-472F006D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555-7FBF-42DD-9D35-0CE0BA2C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A04-3F4A-4FE4-A288-272A6100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24A0-D783-4224-9EE1-F34D81424E2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502A-F40F-4A35-BB9D-215452B7403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C33E-E2A0-464A-AB5C-F3CFCE4EEB3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02EF-8582-4A07-97D2-7EE3917C74F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49B9-C086-45A1-8B9E-EFE268D2DDD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B455-DF71-4CB7-8DAE-95625A17B8B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1335240" y="4664160"/>
            <a:ext cx="6486480" cy="10602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447920" y="5867280"/>
            <a:ext cx="6480000" cy="609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s originally posted on http://sciencespot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5" descr="C:\Documents and Settings\Liz\Local Settings\Temporary Internet Files\Content.IE5\LCKUCK84\MPj04383850000[1].jpg"/>
          <p:cNvPicPr/>
          <p:nvPr/>
        </p:nvPicPr>
        <p:blipFill>
          <a:blip r:embed="rId2"/>
          <a:stretch/>
        </p:blipFill>
        <p:spPr>
          <a:xfrm>
            <a:off x="1371600" y="533520"/>
            <a:ext cx="64008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Earth the second, third, or fourth planet fr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: 2nd, 3rd, or 4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formation in a cave rise from the floor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stalagmi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stalact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agma cools and hardens, it form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Igneous 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Sedimentary ro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Metamorphic 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Earth the second, third, or fourth planet fr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: 2nd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4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formation in a cave rise from the floor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stalagmi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stalact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agma cools and hardens, it forms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Igneous 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Sedimentary ro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Metamorphic r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F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rch, Daylight Savings Time begins. W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set our clocks ahead 1 h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set them back 1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s the deepest ocea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tlantic Oce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Indian Oce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Arctic Oce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Pacific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 longest river on Earth 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Mississipp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Ni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Amaz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F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rch, Daylight Savings Time begins. W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set our clocks ahead 1 h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set them back 1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s the deepest ocea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tlantic Oce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Indian Oce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Arctic Oce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 Pacific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 longest river on Earth 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Mississipp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Ni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Amaz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9520" indent="-35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9903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classified 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morphic rock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Basalt     B. Marble     C. Sh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ong does it take the light from the sun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h u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2 minu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6 minu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8 minu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10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the oldest mounta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on Eart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Rockies (in N. Americ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Andes (in S. Americ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Highlands (in Scotlan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9903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classified 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morphic rock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Basalt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Marble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Sh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ong does it take the light from the sun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h u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2 minu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6 minu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 8 minut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10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of the following is the oldest mounta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on Eart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Rockies (in N. Americ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Andes (in S. Americ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 Highlands (in Scotlan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9903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s larger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Pacific Oce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Atlantic Ocean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Continent of Asia  D. Continent of Antarc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is statement: The moon's diame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________ the size of Earth's diame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1/8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1/4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1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egrees does the Earth turn in 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9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18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3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9903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s larger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Pacific Ocea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Atlantic Ocean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Continent of Asia  D. Continent of Antarc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is statement: The moon's diame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________ the size of Earth's diame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1/8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1/4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1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4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egrees does the Earth turn in 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9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18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 3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9903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arch and September, the sun is directly over 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or.  These ar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Equinoxes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Sols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6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of the following is the longest mountain rang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Ear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ndes (in S. Americ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Rockies (in N. Americ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Great Dividing Range (in Austral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7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ercent of the people on Earth live nor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o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40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. 60%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9903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arch and September, the sun is directly over 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or.  These ar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. Equinoxes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Sols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6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of the following is the longest mountain rang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Ear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. Andes (in S. Americ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Rockies (in N. America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Great Dividing Range (in Austral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7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ercent of the people on Earth live nor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o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680" indent="-252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40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. 60%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.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Europe and North America drifting clos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gether or farther apar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. Closer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B. Far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s the largest body of water on Eart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Pacific Ocean      B. Atlantic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does not belong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Sha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Basal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 Sandsto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Limes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Europe and North America drifting clos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gether or farther apar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. Closer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     B. Far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s the largest body of water on Eart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Pacific Ocean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Atlantic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does not belong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Sha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. Basalt (Igneous Roc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02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 Sandsto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Limes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B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oth Caves in Kentucky is the longe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ve system in the world. How long is i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400 km    B. 480 km    C. 550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maginary lines circles the earth bel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quator (Southern Hemisphere)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Tropic of Cancer       B. Tropic of Capric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times a day do high tides occ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the worl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One    B. Two    C. Four    D. 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B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oth Caves in Kentucky is the longe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ve system in the world. How long is i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400 km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480 km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550 k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maginary lines circles the earth bel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quator (Southern Hemisphere)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Tropic of Cancer  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Tropic of Capric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times a day do high tides occu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nd the world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One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Two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Four     D. 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37116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C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about 9 million cubic miles of ice on Earth. 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it located nea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the North pole       B. the South p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 map, are the lines that run parallel to the equat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ed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Longit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La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t is 2:00 pm in New York City, what time is it in L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eles, Californi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11:00 am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Noon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1:00 pm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2:00 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C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about 9 million cubic miles of ice on Earth. 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it located nea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the North pole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. the South p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 map, are the lines that run parallel to the equat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ed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Longit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. La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t is 2:00 pm in New York City, what time is it in L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eles, Californi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. 11:00 am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Noon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1:00 pm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2:00 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water in the ocean colder at the surfac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50 feet below the surfac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At the surface     B. 50 feet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ympus Mons is a volcano almost three tim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all as Mount Everest. Is it found 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Earth     B. Mars     C. V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ercent of the world’s population live 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ed Stat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6%   B. 12%   C. 18%    D. 2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b0f0"/>
                </a:solidFill>
                <a:latin typeface="Franklin Gothic Book"/>
              </a:rPr>
              <a:t>Earth Science Trivia - 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water in the ocean colder at the surfac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50 feet below the surfac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At the surface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50 feet be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ympus Mons is a volcano almost three tim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all as Mount Everest. Is it found 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Earth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Mars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V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ercent of the world’s population live 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ed Stat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6%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12%   C. 18%    D. 2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6:22:01Z</dcterms:created>
  <dc:creator>Liz</dc:creator>
  <dc:description/>
  <dc:language>en-US</dc:language>
  <cp:lastModifiedBy>Tracy</cp:lastModifiedBy>
  <dcterms:modified xsi:type="dcterms:W3CDTF">2009-03-15T01:59:46Z</dcterms:modified>
  <cp:revision>19</cp:revision>
  <dc:subject/>
  <dc:title>Earth Science Trivia</dc:title>
</cp:coreProperties>
</file>