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0F0E-72D5-4EA5-95B8-3515E0BE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47D-2F57-40C4-874F-F5B67B23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C5D4-2C2C-42C6-85E7-691E0936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405-08E8-4446-8856-241F0F1F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F2BC-8E0F-44F7-ABEC-ED348944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0608-E382-43D1-800E-D697A38D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958F-E179-4780-8B53-2E204F1A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A840-423D-40CF-9B35-43AF105E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7220-05F2-4F33-A28A-B070A79C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FA33-EDA0-42E8-A961-859B1D6F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254B-E416-4F2F-9D76-9B43E29D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085-263C-447C-835A-3FE0B6DB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1D23-2737-4728-89CB-F05106B4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791F-EDCB-4CD6-9580-434F8141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5593-954F-48F0-833D-920420FE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1779-2AB6-4E8E-BBDD-0F7DF95C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9D9A-BB7E-4460-AC76-53D16E4E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16150-A02C-4388-B6C5-FBDAFE03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211AA-5B24-4FB1-B474-3501688A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B00B0-9289-4457-B187-A064219B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9AA46-121F-45F4-A0E9-B8B5C32C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C2C47-73F5-4F49-AF6F-B0B455F0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AED-E2C7-4260-9FD1-6F36C237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14C0B-6CC7-4AE8-86AC-BC5D7C06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6968-A1E5-4ACC-A09A-E7A30876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26B38-59E6-40DA-B768-D6D25721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3F77C-8D06-41D4-9EB8-A5CF6C14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23BD8-C3B1-4666-A7A0-9C4839E7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54847-7B8C-4CCB-B18E-6BC2A6B7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E208D-38BF-41F0-8064-64FDBF2E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24156-D424-4832-9117-1B91D230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B5E85-5F93-4E09-B35B-077434FF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BE29C-9DAE-42F7-89EB-0CA8B60D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8B2-31C1-4BEA-85F3-EB85BCFE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ADAFF-9542-431C-8C26-89909527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E8815-50E9-42D2-A9D1-D21E28DF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91C78-5D3A-41A1-AB1D-628916D0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9FE31-6491-43F9-BD1F-55B92F4D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8DDAD-7B12-44A8-B685-0CE7C4F8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E58D2-BC7D-497D-B5A3-2AF239B8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C0FBF-D8D8-46F0-B2BE-9DD086DD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CB358-D352-45C4-B4DE-C2261255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62F6E-3965-4DB7-A2D3-A28318F2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AE194-7F1D-496E-B129-BB7850CA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FD9-9B26-4900-BC0C-0C84CB73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CB6D4-73BD-4CA7-96D6-25769690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B1ABB-B4FD-4792-9214-3733C5EB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9CCAA-4008-4B1B-90B4-67D862BC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79FAB-8B8F-4BA9-B450-007A2BBE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36D8D-BE6C-4439-AB41-0D4AF154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4A12F-C280-4972-B115-3DA34F0A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98A53-931E-469C-9E8D-B492AFEB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DB093-1078-4E08-B747-95B90AAE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BA56A-41E9-4F6C-8836-5EB02CFF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30F80-F3E9-4A79-B35F-079EE5C7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BFD-05CD-47ED-9B73-93F29516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668FF-3826-4BCD-9CCA-0831B0D3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95EAB-4C77-4DA1-BCDB-0EE95266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E8040-D693-4EB8-8B15-F3119F90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16C50-9CB3-4DD9-838B-02C3A88B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E68A3-C8D9-4E0B-A382-49CB6D91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AE8F1-8804-4480-9E54-1C30A400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E8D33-8579-423F-B32E-60C0E831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CC5EF-C265-40ED-8DD2-58596BC0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B34B5-5906-4796-BD72-C013511C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9B339-50B7-4BF8-A3B8-CFDE220A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E1A-16EC-4D05-A8D9-5D88EF37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CC98A-D0A4-4967-B368-4F31935B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83FFA-51BE-43EF-83EE-562DA487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D6CF7-E714-4F1B-B422-5D7FEE99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DF6-0BC4-4106-A0A3-E124795E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4D4-AA3B-471E-9285-1F15C9EC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02E1-6717-413F-9930-A886C1667AA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58ED-56FE-4038-A043-9AF2DFD35C9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B011-BDD0-4E37-BB6D-16389080231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1821-5FE9-49F1-87D3-2B25801DB00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2392-0F9D-4CD9-8B53-AE87793A45D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59E5-D65B-4D55-933C-1F5D5F2B6B8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1335240" y="4664160"/>
            <a:ext cx="6486480" cy="10602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47920" y="5867280"/>
            <a:ext cx="6480000" cy="609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s originally posted on http://sciencespot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5" descr="C:\Documents and Settings\Liz\Local Settings\Temporary Internet Files\Content.IE5\LCKUCK84\MPj04383850000[1].jpg"/>
          <p:cNvPicPr/>
          <p:nvPr/>
        </p:nvPicPr>
        <p:blipFill>
          <a:blip r:embed="rId2"/>
          <a:stretch/>
        </p:blipFill>
        <p:spPr>
          <a:xfrm>
            <a:off x="1371600" y="533520"/>
            <a:ext cx="64008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Earth the second, third, or fourth planet fro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: 2nd, 3rd, or 4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formation in a cave rise from the floor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stalagmit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stalact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agma cools and hardens, it form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Igneous r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Sedimentary roc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Metamorphic r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Earth the second, third, or fourth planet fro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: 2nd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 4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formation in a cave rise from the floor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stalagmit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stalact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agma cools and hardens, it form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Igneous r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Sedimentary roc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Metamorphic r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F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0666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rch, Daylight Savings Time begins. W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set our clocks ahead 1 h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set them back 1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s the deepest ocea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tlantic Oce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Indian Oce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Arctic Oce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Pacific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 longest river on Earth 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Mississipp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Ni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Amaz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F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0666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rch, Daylight Savings Time begins. W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set our clocks ahead 1 h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set them back 1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s the deepest ocea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tlantic Oce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Indian Oce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Arctic Oce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 Pacific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 longest river on Earth 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Mississipp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Ni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Amaz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9903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classified 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morphic rock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Basalt     B. Marble     C. Sh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ong does it take the light from the sun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h u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2 minut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6 minut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8 minut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10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the oldest mounta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on Eart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Rockies (in N. Americ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Andes (in S. Americ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Highlands (in Scotlan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9903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classified 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morphic rock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Basalt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Marble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Sh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ong does it take the light from the sun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h u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2 minut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6 minut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 8 minut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10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the oldest mounta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on Eart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Rockies (in N. Americ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Andes (in S. Americ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 Highlands (in Scotlan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H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9903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s larger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Pacific Oce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Atlantic Ocean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Continent of Asia  D. Continent of Antarc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is statement: The moon's diame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________ the size of Earth's diame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1/8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1/4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1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egrees does the Earth turn in 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9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18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3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H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9903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s larger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Pacific Ocea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Atlantic Ocean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Continent of Asia  D. Continent of Antarc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is statement: The moon's diame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________ the size of Earth's diame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1/8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1/4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1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egrees does the Earth turn in 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9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18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 3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9903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arch and September, the sun is directly over 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or.  These ar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Equinoxes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Sols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6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of the following is the longest mountain rang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Earth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ndes (in S. Americ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Rockies (in N. Americ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Great Dividing Range (in Austral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7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ercent of the people on Earth live nor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o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40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. 60%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9903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arch and September, the sun is directly over 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or.  These ar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. Equinoxes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Sols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6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of the following is the longest mountain rang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Earth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. Andes (in S. Americ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Rockies (in N. Americ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Great Dividing Range (in Austral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7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ercent of the people on Earth live nor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o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40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. 60%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. 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Europe and North America drifting clos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gether or farther apar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. Closer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B. Far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s the largest body of water on Eart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Pacific Ocean      B. Atlantic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does not belong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Sha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Basal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 Sandston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Limes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Europe and North America drifting clos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gether or farther apar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. Closer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     B. Far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s the largest body of water on Eart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Pacific Ocean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Atlantic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does not belong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Sha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. Basalt (Igneous Roc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 Sandston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Limes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B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oth Caves in Kentucky is the longe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ve system in the world. How long is i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400 km    B. 480 km    C. 550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maginary lines circles the earth bel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quator (Southern Hemisphere)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Tropic of Cancer       B. Tropic of Capric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times a day do high tides occ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nd the worl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One    B. Two    C. Four    D. 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B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oth Caves in Kentucky is the longe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ve system in the world. How long is i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400 km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480 km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550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maginary lines circles the earth bel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quator (Southern Hemisphere)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Tropic of Cancer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Tropic of Capric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times a day do high tides occ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nd the worl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One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Two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Four     D. 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C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about 9 million cubic miles of ice on Earth. 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 it located nea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the North pole       B. the South p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a map, are the lines that run parallel to the equat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ed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Longit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Lat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t is 2:00 pm in New York City, what time is it in L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eles, Californi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11:00 am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Noon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1:00 pm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2:00 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C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about 9 million cubic miles of ice on Earth. 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 it located nea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the North pole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. the South p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a map, are the lines that run parallel to the equat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ed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Longit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. Lat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t is 2:00 pm in New York City, what time is it in L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eles, Californi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. 11:00 am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Noon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1:00 pm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2:00 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water in the ocean colder at the surfac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50 feet below the surfac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At the surface     B. 50 feet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ympus Mons is a volcano almost three tim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all as Mount Everest. Is it found 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Earth     B. Mars     C. V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ercent of the world’s population live 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ted Stat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6%   B. 12%   C. 18%    D. 2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water in the ocean colder at the surfac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50 feet below the surfac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At the surface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50 feet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ympus Mons is a volcano almost three tim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all as Mount Everest. Is it found 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Earth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Mars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V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ercent of the world’s population live 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ted Stat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6%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12%   C. 18%    D. 2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6:22:01Z</dcterms:created>
  <dc:creator>Liz</dc:creator>
  <dc:description/>
  <dc:language>en-US</dc:language>
  <cp:lastModifiedBy>Tracy</cp:lastModifiedBy>
  <dcterms:modified xsi:type="dcterms:W3CDTF">2009-03-15T01:59:46Z</dcterms:modified>
  <cp:revision>19</cp:revision>
  <dc:subject/>
  <dc:title>Earth Science Trivia</dc:title>
</cp:coreProperties>
</file>