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129-ACDE-45D5-9319-6E7ECD47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707-2DC6-4F91-BA22-E3D04FB6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5B4-A485-4308-85DC-0B9679BE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F24-B445-4AAD-AE2A-1350D453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A2D-176B-4DCC-8C4A-6E55A19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667-AC95-4FC5-B986-67F47069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7E5-2E74-4629-A999-EE19EEC9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5C7-6468-4A91-9995-2E676330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DFC-6215-4BA8-B6E5-781AF93B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64A-6FFF-4B81-9E71-8F3DA606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7B4-3D69-455A-B8B1-4C81530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2E7-4827-4298-8189-E9580C7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3E1E-63F5-4351-A7A0-1CC1969FE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61920" cy="6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1754280"/>
            <a:ext cx="9144000" cy="5103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4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5"/>
          <a:stretch/>
        </p:blipFill>
        <p:spPr>
          <a:xfrm>
            <a:off x="1347840" y="49320"/>
            <a:ext cx="61689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482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3" descr=""/>
          <p:cNvPicPr/>
          <p:nvPr/>
        </p:nvPicPr>
        <p:blipFill>
          <a:blip r:embed="rId2"/>
          <a:stretch/>
        </p:blipFill>
        <p:spPr>
          <a:xfrm>
            <a:off x="2700360" y="274680"/>
            <a:ext cx="37861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3" descr=""/>
          <p:cNvPicPr/>
          <p:nvPr/>
        </p:nvPicPr>
        <p:blipFill>
          <a:blip r:embed="rId2"/>
          <a:stretch/>
        </p:blipFill>
        <p:spPr>
          <a:xfrm>
            <a:off x="2548080" y="49320"/>
            <a:ext cx="37861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20520" y="1447920"/>
            <a:ext cx="9164520" cy="54100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3" descr=""/>
          <p:cNvPicPr/>
          <p:nvPr/>
        </p:nvPicPr>
        <p:blipFill>
          <a:blip r:embed="rId2"/>
          <a:stretch/>
        </p:blipFill>
        <p:spPr>
          <a:xfrm>
            <a:off x="2664000" y="122400"/>
            <a:ext cx="382248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52434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3" descr=""/>
          <p:cNvPicPr/>
          <p:nvPr/>
        </p:nvPicPr>
        <p:blipFill>
          <a:blip r:embed="rId2"/>
          <a:stretch/>
        </p:blipFill>
        <p:spPr>
          <a:xfrm>
            <a:off x="2664000" y="274680"/>
            <a:ext cx="397476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2124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4" descr=""/>
          <p:cNvPicPr/>
          <p:nvPr/>
        </p:nvPicPr>
        <p:blipFill>
          <a:blip r:embed="rId2"/>
          <a:stretch/>
        </p:blipFill>
        <p:spPr>
          <a:xfrm>
            <a:off x="2346480" y="426960"/>
            <a:ext cx="416376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6480" y="1447920"/>
            <a:ext cx="9150480" cy="541008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3" descr=""/>
          <p:cNvPicPr/>
          <p:nvPr/>
        </p:nvPicPr>
        <p:blipFill>
          <a:blip r:embed="rId2"/>
          <a:stretch/>
        </p:blipFill>
        <p:spPr>
          <a:xfrm>
            <a:off x="2359080" y="579600"/>
            <a:ext cx="427968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2"/>
          <a:stretch/>
        </p:blipFill>
        <p:spPr>
          <a:xfrm>
            <a:off x="1901880" y="201600"/>
            <a:ext cx="496260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6480" y="1447920"/>
            <a:ext cx="9150480" cy="541008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432160" y="274680"/>
            <a:ext cx="40543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240" y="1371600"/>
            <a:ext cx="914724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3" descr=""/>
          <p:cNvPicPr/>
          <p:nvPr/>
        </p:nvPicPr>
        <p:blipFill>
          <a:blip r:embed="rId2"/>
          <a:stretch/>
        </p:blipFill>
        <p:spPr>
          <a:xfrm>
            <a:off x="2664000" y="201600"/>
            <a:ext cx="374328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1523880"/>
            <a:ext cx="9151920" cy="53341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3" descr=""/>
          <p:cNvPicPr/>
          <p:nvPr/>
        </p:nvPicPr>
        <p:blipFill>
          <a:blip r:embed="rId2"/>
          <a:stretch/>
        </p:blipFill>
        <p:spPr>
          <a:xfrm>
            <a:off x="2664000" y="353880"/>
            <a:ext cx="374328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3" descr=""/>
          <p:cNvPicPr/>
          <p:nvPr/>
        </p:nvPicPr>
        <p:blipFill>
          <a:blip r:embed="rId2"/>
          <a:stretch/>
        </p:blipFill>
        <p:spPr>
          <a:xfrm>
            <a:off x="2432160" y="201600"/>
            <a:ext cx="43592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1447920"/>
            <a:ext cx="9156600" cy="54100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2359080" y="274680"/>
            <a:ext cx="4432320" cy="113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3240" y="1447920"/>
            <a:ext cx="914724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3" descr=""/>
          <p:cNvPicPr/>
          <p:nvPr/>
        </p:nvPicPr>
        <p:blipFill>
          <a:blip r:embed="rId2"/>
          <a:stretch/>
        </p:blipFill>
        <p:spPr>
          <a:xfrm>
            <a:off x="2511360" y="201600"/>
            <a:ext cx="4280040" cy="11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226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" descr=""/>
          <p:cNvPicPr/>
          <p:nvPr/>
        </p:nvPicPr>
        <p:blipFill>
          <a:blip r:embed="rId2"/>
          <a:stretch/>
        </p:blipFill>
        <p:spPr>
          <a:xfrm>
            <a:off x="2584440" y="122400"/>
            <a:ext cx="4359240" cy="113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38:24Z</dcterms:created>
  <dc:creator>Tracy</dc:creator>
  <dc:description/>
  <dc:language>en-US</dc:language>
  <cp:lastModifiedBy>Tracy</cp:lastModifiedBy>
  <dcterms:modified xsi:type="dcterms:W3CDTF">2010-05-03T00:28:16Z</dcterms:modified>
  <cp:revision>12</cp:revision>
  <dc:subject/>
  <dc:title>Parent/Interphase</dc:title>
</cp:coreProperties>
</file>