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40D-1A5E-49CE-8BF3-F513B4E7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4A6-7A5F-4F43-AF0F-C1B57CEB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7C7-62CB-4E64-B4F4-F6C29C46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F11-B382-4A9C-822D-509958A1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EE5-AB16-4027-8550-1C2EDAD8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9C8-862B-4E8C-BAE7-6D597991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E38-96F9-43EC-A4BF-4C16F819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24F-0668-4268-A13E-6B8FA639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79F-3E10-4661-BD5E-D2DF16D7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A83-CCD6-42C7-B86E-C89A85B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542-5D34-44ED-8F21-D1E2B153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72B-2A46-4276-B8CC-41BBDA0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DEDA-4C7C-4B66-BBD7-1C99ECEB9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61920" cy="6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175428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6" descr=""/>
          <p:cNvPicPr/>
          <p:nvPr/>
        </p:nvPicPr>
        <p:blipFill>
          <a:blip r:embed="rId5"/>
          <a:stretch/>
        </p:blipFill>
        <p:spPr>
          <a:xfrm>
            <a:off x="1347840" y="49320"/>
            <a:ext cx="616896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482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2700360" y="274680"/>
            <a:ext cx="378612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2548080" y="49320"/>
            <a:ext cx="378612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20520" y="1447920"/>
            <a:ext cx="9164520" cy="541008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2664000" y="122400"/>
            <a:ext cx="382248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52434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3" descr=""/>
          <p:cNvPicPr/>
          <p:nvPr/>
        </p:nvPicPr>
        <p:blipFill>
          <a:blip r:embed="rId2"/>
          <a:stretch/>
        </p:blipFill>
        <p:spPr>
          <a:xfrm>
            <a:off x="2664000" y="274680"/>
            <a:ext cx="397476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2124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4" descr=""/>
          <p:cNvPicPr/>
          <p:nvPr/>
        </p:nvPicPr>
        <p:blipFill>
          <a:blip r:embed="rId2"/>
          <a:stretch/>
        </p:blipFill>
        <p:spPr>
          <a:xfrm>
            <a:off x="2346480" y="426960"/>
            <a:ext cx="416376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6480" y="1447920"/>
            <a:ext cx="9150480" cy="541008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3" descr=""/>
          <p:cNvPicPr/>
          <p:nvPr/>
        </p:nvPicPr>
        <p:blipFill>
          <a:blip r:embed="rId2"/>
          <a:stretch/>
        </p:blipFill>
        <p:spPr>
          <a:xfrm>
            <a:off x="2359080" y="579600"/>
            <a:ext cx="427968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901880" y="201600"/>
            <a:ext cx="496260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6480" y="1447920"/>
            <a:ext cx="9150480" cy="541008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2432160" y="274680"/>
            <a:ext cx="405432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240" y="1371600"/>
            <a:ext cx="914724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2664000" y="201600"/>
            <a:ext cx="374328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1523880"/>
            <a:ext cx="9151920" cy="533412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2"/>
          <a:stretch/>
        </p:blipFill>
        <p:spPr>
          <a:xfrm>
            <a:off x="2664000" y="353880"/>
            <a:ext cx="374328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3" descr=""/>
          <p:cNvPicPr/>
          <p:nvPr/>
        </p:nvPicPr>
        <p:blipFill>
          <a:blip r:embed="rId2"/>
          <a:stretch/>
        </p:blipFill>
        <p:spPr>
          <a:xfrm>
            <a:off x="2432160" y="201600"/>
            <a:ext cx="435924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1447920"/>
            <a:ext cx="9156600" cy="54100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2359080" y="274680"/>
            <a:ext cx="443232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3240" y="1447920"/>
            <a:ext cx="914724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3" descr=""/>
          <p:cNvPicPr/>
          <p:nvPr/>
        </p:nvPicPr>
        <p:blipFill>
          <a:blip r:embed="rId2"/>
          <a:stretch/>
        </p:blipFill>
        <p:spPr>
          <a:xfrm>
            <a:off x="2511360" y="201600"/>
            <a:ext cx="428004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226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3" descr=""/>
          <p:cNvPicPr/>
          <p:nvPr/>
        </p:nvPicPr>
        <p:blipFill>
          <a:blip r:embed="rId2"/>
          <a:stretch/>
        </p:blipFill>
        <p:spPr>
          <a:xfrm>
            <a:off x="2584440" y="122400"/>
            <a:ext cx="4359240" cy="113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8:38:24Z</dcterms:created>
  <dc:creator>Tracy</dc:creator>
  <dc:description/>
  <dc:language>en-US</dc:language>
  <cp:lastModifiedBy>Tracy</cp:lastModifiedBy>
  <dcterms:modified xsi:type="dcterms:W3CDTF">2010-05-03T00:28:16Z</dcterms:modified>
  <cp:revision>12</cp:revision>
  <dc:subject/>
  <dc:title>Parent/Interphase</dc:title>
</cp:coreProperties>
</file>