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31F-267E-4A12-B2C5-C7334F74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7EB0-A206-40FD-B817-99E7D431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CB7-90AD-4EFB-94BC-F23D297F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C10-5884-407C-9974-F54F1710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8F5-C06E-4B82-BCBC-904C13E7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83E-78CF-4D21-A2E8-0AC299F2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98E-175D-4394-AE41-E5C1CF0D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FA0-99D7-4355-8530-71E66743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CCB-2D83-4424-9241-8024049C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F84-E5F1-47CB-B8DE-BAEF5FC1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F08-9B67-472E-845E-E329F311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C4D-F916-4999-98E9-A2DCDCBD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9263-AA86-4C47-8E99-D70BABB5E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63244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. Trimpe 2008      http://sciencespot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990720"/>
            <a:ext cx="80773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onding Basic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2666880" cy="168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>
            <a:off x="6324120" y="4495680"/>
            <a:ext cx="26672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522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Complete the chart using your knowledge of atom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5555" t="36111" r="10418" b="20370"/>
          <a:stretch/>
        </p:blipFill>
        <p:spPr>
          <a:xfrm>
            <a:off x="380880" y="609480"/>
            <a:ext cx="8534520" cy="331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343400"/>
            <a:ext cx="8229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cab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– What do we call the electrons in the outermost energy lev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– What term refers to an atom that has lost or gained electron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– What is a 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– What is an an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474984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1436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556272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ositively charged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60040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negatively charged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96080" y="5486400"/>
            <a:ext cx="9781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8382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Ionic Bonds - Draw the Lewis structures for each atom, draw arrows to show the transfer of electrons, write the charge for each ion, and then write the chem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)  Potassium + Iod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B) Magnesium + Oxyg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) Lithium +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8382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Covalent Bonds – Draw the Lewis structures for each atom, draw circles to show the electrons that are shared, and then write the bond structure and chem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)  Fluorine + Fluor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(B) 3 Hydrogen + 1 Phosphor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) 2 Hydrogen + 1 Sulfu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1:33:06Z</dcterms:created>
  <dc:creator>Tracy Trimpe</dc:creator>
  <dc:description/>
  <dc:language>en-US</dc:language>
  <cp:lastModifiedBy>Tracy Trimpe</cp:lastModifiedBy>
  <dcterms:modified xsi:type="dcterms:W3CDTF">2008-12-06T00:56:08Z</dcterms:modified>
  <cp:revision>15</cp:revision>
  <dc:subject/>
  <dc:title>Slide 1</dc:title>
</cp:coreProperties>
</file>