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C56-E3ED-4531-9B86-958AE1BD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8A9-996C-4B77-9A45-69C60DFA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674-93C8-4C33-AD35-3C24C069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07F-C8AC-4AE9-99D5-2F441C59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959-8398-454C-A5E7-B61ABC56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C02-B594-45DD-AC6E-4E3B23BE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E0A-D6EA-4269-A8F5-1798AF03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70E-E154-4149-9E30-205B10F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40F-EE61-4AFB-9CD9-84190E52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98E-1A54-4482-AA2B-69B549AF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728-7AA9-45BE-A2E8-B73FA5FF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761-7A88-4EA7-85BB-43928CDB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32DF-7A9A-4D65-970D-10B50F5E4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63244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. Trimpe 2008      http://sciencespot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990720"/>
            <a:ext cx="80773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onding Basic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666880" cy="168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>
            <a:off x="6324120" y="4495680"/>
            <a:ext cx="26672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522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Complete the chart using your knowledge of atom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5555" t="36111" r="10418" b="20370"/>
          <a:stretch/>
        </p:blipFill>
        <p:spPr>
          <a:xfrm>
            <a:off x="380880" y="609480"/>
            <a:ext cx="8534520" cy="331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343400"/>
            <a:ext cx="8229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cab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– What do we call the electrons in the outermost energy lev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– What term refers to an atom that has lost or gained electron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– What is a 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– What is an an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474984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1436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556272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ositively charged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60040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negatively charged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96080" y="5486400"/>
            <a:ext cx="9781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8382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Ionic Bonds - Draw the Lewis structures for each atom, draw arrows to show the transfer of electrons, write the charge for each ion, and then write the chem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)  Potassium + Iod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) Magnesium + Oxyg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) Lithium +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8382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Covalent Bonds – Draw the Lewis structures for each atom, draw circles to show the electrons that are shared, and then write the bond structure and chem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)  Fluorine + Fluor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(B) 3 Hydrogen + 1 Phosphor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) 2 Hydrogen + 1 Sulfu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1:33:06Z</dcterms:created>
  <dc:creator>Tracy Trimpe</dc:creator>
  <dc:description/>
  <dc:language>en-US</dc:language>
  <cp:lastModifiedBy>Tracy Trimpe</cp:lastModifiedBy>
  <dcterms:modified xsi:type="dcterms:W3CDTF">2008-12-06T00:56:08Z</dcterms:modified>
  <cp:revision>15</cp:revision>
  <dc:subject/>
  <dc:title>Slide 1</dc:title>
</cp:coreProperties>
</file>