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16F-F742-4878-8C54-DA4697EE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B42-31D7-410D-ADE1-DE2A8BE8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471-FC69-4D21-985A-1554E227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F35-38FD-4F8A-91B0-D033A964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DF8-D58E-4F9B-B7B6-E6658DD7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317-6D1E-49C8-A951-37D4E52A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484-988E-41BA-BF14-FC1C67C4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DC8-69A0-40AF-AF69-149C9D36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7CD-F4E9-4EAE-B001-A8A1C670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8E6-6E93-4541-9566-BFA762E5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591-A274-4308-BC04-683D5AC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918-EA9B-4FBA-BDAE-1B13E50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B2B-0217-46C8-A95C-3B279F85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de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09680" y="63244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. Trimpe 2008 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57200" y="990720"/>
            <a:ext cx="80773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onding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7" descr="na00121_"/>
          <p:cNvPicPr/>
          <p:nvPr/>
        </p:nvPicPr>
        <p:blipFill>
          <a:blip r:embed="rId1"/>
          <a:stretch/>
        </p:blipFill>
        <p:spPr>
          <a:xfrm>
            <a:off x="304920" y="44956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na00121_"/>
          <p:cNvPicPr/>
          <p:nvPr/>
        </p:nvPicPr>
        <p:blipFill>
          <a:blip r:embed="rId2"/>
          <a:stretch/>
        </p:blipFill>
        <p:spPr>
          <a:xfrm flipH="1">
            <a:off x="6324120" y="4495680"/>
            <a:ext cx="26672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tion A:  Complete the chart using a periodic table to help you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MCj03912060000[1]"/>
          <p:cNvPicPr/>
          <p:nvPr/>
        </p:nvPicPr>
        <p:blipFill>
          <a:blip r:embed="rId1"/>
          <a:stretch/>
        </p:blipFill>
        <p:spPr>
          <a:xfrm>
            <a:off x="479268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MCj03912060000[1]"/>
          <p:cNvPicPr/>
          <p:nvPr/>
        </p:nvPicPr>
        <p:blipFill>
          <a:blip r:embed="rId2"/>
          <a:stretch/>
        </p:blipFill>
        <p:spPr>
          <a:xfrm>
            <a:off x="62247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j03912060000[1]"/>
          <p:cNvPicPr/>
          <p:nvPr/>
        </p:nvPicPr>
        <p:blipFill>
          <a:blip r:embed="rId3"/>
          <a:stretch/>
        </p:blipFill>
        <p:spPr>
          <a:xfrm>
            <a:off x="765828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MCj03912060000[1]"/>
          <p:cNvPicPr/>
          <p:nvPr/>
        </p:nvPicPr>
        <p:blipFill>
          <a:blip r:embed="rId4"/>
          <a:stretch/>
        </p:blipFill>
        <p:spPr>
          <a:xfrm>
            <a:off x="33591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Cj03912060000[1]"/>
          <p:cNvPicPr/>
          <p:nvPr/>
        </p:nvPicPr>
        <p:blipFill>
          <a:blip r:embed="rId5"/>
          <a:stretch/>
        </p:blipFill>
        <p:spPr>
          <a:xfrm>
            <a:off x="1927080" y="5372280"/>
            <a:ext cx="93852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Cj03912060000[1]"/>
          <p:cNvPicPr/>
          <p:nvPr/>
        </p:nvPicPr>
        <p:blipFill>
          <a:blip r:embed="rId6"/>
          <a:stretch/>
        </p:blipFill>
        <p:spPr>
          <a:xfrm>
            <a:off x="495360" y="5372280"/>
            <a:ext cx="938160" cy="895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7"/>
          <a:srcRect l="47919" t="30003" r="12499" b="35002"/>
          <a:stretch/>
        </p:blipFill>
        <p:spPr>
          <a:xfrm>
            <a:off x="380880" y="609480"/>
            <a:ext cx="83059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457200"/>
            <a:ext cx="83822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ne or more electrons will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loses one or more electrons will have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tom that gains or loses one or more electrons is called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sitive ion is calle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a negative ion is called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9436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4360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845400" y="2844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MCj03797790000[1]"/>
          <p:cNvPicPr/>
          <p:nvPr/>
        </p:nvPicPr>
        <p:blipFill>
          <a:blip r:embed="rId1"/>
          <a:stretch/>
        </p:blipFill>
        <p:spPr>
          <a:xfrm>
            <a:off x="5638680" y="4267080"/>
            <a:ext cx="2514600" cy="22989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5"/>
          <p:cNvGrpSpPr/>
          <p:nvPr/>
        </p:nvGrpSpPr>
        <p:grpSpPr>
          <a:xfrm>
            <a:off x="533520" y="3454560"/>
            <a:ext cx="4305240" cy="1104840"/>
            <a:chOff x="533520" y="3454560"/>
            <a:chExt cx="4305240" cy="1104840"/>
          </a:xfrm>
        </p:grpSpPr>
        <p:grpSp>
          <p:nvGrpSpPr>
            <p:cNvPr id="60" name="Group 10"/>
            <p:cNvGrpSpPr/>
            <p:nvPr/>
          </p:nvGrpSpPr>
          <p:grpSpPr>
            <a:xfrm>
              <a:off x="685800" y="3454560"/>
              <a:ext cx="4000680" cy="764280"/>
              <a:chOff x="685800" y="3454560"/>
              <a:chExt cx="4000680" cy="764280"/>
            </a:xfrm>
          </p:grpSpPr>
          <p:sp>
            <p:nvSpPr>
              <p:cNvPr id="61" name="Text Box 8"/>
              <p:cNvSpPr/>
              <p:nvPr/>
            </p:nvSpPr>
            <p:spPr>
              <a:xfrm>
                <a:off x="3162240" y="3454560"/>
                <a:ext cx="15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9"/>
              <p:cNvSpPr/>
              <p:nvPr/>
            </p:nvSpPr>
            <p:spPr>
              <a:xfrm>
                <a:off x="685800" y="375912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2"/>
            <p:cNvSpPr/>
            <p:nvPr/>
          </p:nvSpPr>
          <p:spPr>
            <a:xfrm>
              <a:off x="533520" y="41911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-Eye-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4"/>
            <p:cNvSpPr/>
            <p:nvPr/>
          </p:nvSpPr>
          <p:spPr>
            <a:xfrm>
              <a:off x="3086280" y="38862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t-Eye-On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an ionic b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will transfer one or m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nother to form the bo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atom is left with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uter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onic bond forms between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with a positive charge an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 with a negativ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1: Sodium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2: Magnes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429000" y="800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90920" y="1397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429000" y="2019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17520" y="23367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3: Potassium + Iod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4: So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5: Calcium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B6: Aluminum + Chl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22860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a covalent bo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oms ___________ one or more electrons with each other to form the bon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atom is left with a ________________ outer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valent bond forms between two _________________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1: Hydrogen + Hydro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2: 2 Hyd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977760" y="800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705040" y="13971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140360" y="200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3: Chlorine + Chlor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4: Oxy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5: Carbon + 2 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C6: Carbon + 4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1:33:06Z</dcterms:created>
  <dc:creator>Tracy Trimpe</dc:creator>
  <dc:description/>
  <dc:language>en-US</dc:language>
  <cp:lastModifiedBy>Tracy</cp:lastModifiedBy>
  <dcterms:modified xsi:type="dcterms:W3CDTF">2010-04-27T23:21:00Z</dcterms:modified>
  <cp:revision>13</cp:revision>
  <dc:subject/>
  <dc:title>Slide 1</dc:title>
</cp:coreProperties>
</file>