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67C6-0008-4127-9078-4B4DF4B01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F921-2752-4EB4-9950-E2A5356F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27B6-7D3F-468E-A316-926C883B3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1594-50BF-444B-B602-E63DCDFC2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81FD-484C-4E48-A890-D94EFABB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089B-790D-4D90-8E3D-9B9010E7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C963-AF1E-4DF3-9BF5-E8ED4B97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C6B6-601D-4976-8C5E-33DD6408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DBB1-B3F8-46BA-816B-BCBD37F7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6B7E-AEAB-4FC9-AE50-9F182B61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4BC9-FCB7-4255-971F-B2AA2556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ECFB-21E2-433C-9702-F20FFB3F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FFB8-88F4-4B15-B6E1-71051E0A6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rade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2209680" y="63244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. Trimpe 2008      http://sciencespot.ne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457200" y="990720"/>
            <a:ext cx="807732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oper Black"/>
              </a:rPr>
              <a:t>Bonding Basics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oper Black"/>
              <a:ea typeface="Cooper Black"/>
            </a:endParaRPr>
          </a:p>
        </p:txBody>
      </p:sp>
      <p:pic>
        <p:nvPicPr>
          <p:cNvPr id="44" name="Picture 7" descr="na00121_"/>
          <p:cNvPicPr/>
          <p:nvPr/>
        </p:nvPicPr>
        <p:blipFill>
          <a:blip r:embed="rId1"/>
          <a:stretch/>
        </p:blipFill>
        <p:spPr>
          <a:xfrm>
            <a:off x="304920" y="4495680"/>
            <a:ext cx="2666880" cy="1681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na00121_"/>
          <p:cNvPicPr/>
          <p:nvPr/>
        </p:nvPicPr>
        <p:blipFill>
          <a:blip r:embed="rId2"/>
          <a:stretch/>
        </p:blipFill>
        <p:spPr>
          <a:xfrm flipH="1">
            <a:off x="6324120" y="4495680"/>
            <a:ext cx="266724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152280" y="15228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ction A:  Complete the chart using a periodic table to help you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MCj03912060000[1]"/>
          <p:cNvPicPr/>
          <p:nvPr/>
        </p:nvPicPr>
        <p:blipFill>
          <a:blip r:embed="rId1"/>
          <a:stretch/>
        </p:blipFill>
        <p:spPr>
          <a:xfrm>
            <a:off x="4792680" y="5372280"/>
            <a:ext cx="938160" cy="895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MCj03912060000[1]"/>
          <p:cNvPicPr/>
          <p:nvPr/>
        </p:nvPicPr>
        <p:blipFill>
          <a:blip r:embed="rId2"/>
          <a:stretch/>
        </p:blipFill>
        <p:spPr>
          <a:xfrm>
            <a:off x="6224760" y="5372280"/>
            <a:ext cx="938160" cy="895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MCj03912060000[1]"/>
          <p:cNvPicPr/>
          <p:nvPr/>
        </p:nvPicPr>
        <p:blipFill>
          <a:blip r:embed="rId3"/>
          <a:stretch/>
        </p:blipFill>
        <p:spPr>
          <a:xfrm>
            <a:off x="7658280" y="5372280"/>
            <a:ext cx="938160" cy="895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MCj03912060000[1]"/>
          <p:cNvPicPr/>
          <p:nvPr/>
        </p:nvPicPr>
        <p:blipFill>
          <a:blip r:embed="rId4"/>
          <a:stretch/>
        </p:blipFill>
        <p:spPr>
          <a:xfrm>
            <a:off x="3359160" y="5372280"/>
            <a:ext cx="938160" cy="895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MCj03912060000[1]"/>
          <p:cNvPicPr/>
          <p:nvPr/>
        </p:nvPicPr>
        <p:blipFill>
          <a:blip r:embed="rId5"/>
          <a:stretch/>
        </p:blipFill>
        <p:spPr>
          <a:xfrm>
            <a:off x="1927080" y="5372280"/>
            <a:ext cx="938520" cy="895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MCj03912060000[1]"/>
          <p:cNvPicPr/>
          <p:nvPr/>
        </p:nvPicPr>
        <p:blipFill>
          <a:blip r:embed="rId6"/>
          <a:stretch/>
        </p:blipFill>
        <p:spPr>
          <a:xfrm>
            <a:off x="495360" y="5372280"/>
            <a:ext cx="938160" cy="895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"/>
          <p:cNvPicPr/>
          <p:nvPr/>
        </p:nvPicPr>
        <p:blipFill>
          <a:blip r:embed="rId7"/>
          <a:srcRect l="47919" t="30003" r="12499" b="35002"/>
          <a:stretch/>
        </p:blipFill>
        <p:spPr>
          <a:xfrm>
            <a:off x="380880" y="609480"/>
            <a:ext cx="830592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80880" y="457200"/>
            <a:ext cx="838224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swer these ques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atom that gains one or more electrons will have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_______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ar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atom that loses one or more electrons will have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_______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ar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atom that gains or loses one or more electrons is called a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ositive ion is called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_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a negative ion is called a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5943600" y="1905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943600" y="990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6845400" y="2844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1" descr="MCj03797790000[1]"/>
          <p:cNvPicPr/>
          <p:nvPr/>
        </p:nvPicPr>
        <p:blipFill>
          <a:blip r:embed="rId1"/>
          <a:stretch/>
        </p:blipFill>
        <p:spPr>
          <a:xfrm>
            <a:off x="5638680" y="4267080"/>
            <a:ext cx="2514600" cy="229896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15"/>
          <p:cNvGrpSpPr/>
          <p:nvPr/>
        </p:nvGrpSpPr>
        <p:grpSpPr>
          <a:xfrm>
            <a:off x="533520" y="3454560"/>
            <a:ext cx="4305240" cy="1104840"/>
            <a:chOff x="533520" y="3454560"/>
            <a:chExt cx="4305240" cy="1104840"/>
          </a:xfrm>
        </p:grpSpPr>
        <p:grpSp>
          <p:nvGrpSpPr>
            <p:cNvPr id="60" name="Group 10"/>
            <p:cNvGrpSpPr/>
            <p:nvPr/>
          </p:nvGrpSpPr>
          <p:grpSpPr>
            <a:xfrm>
              <a:off x="685800" y="3454560"/>
              <a:ext cx="4000680" cy="764280"/>
              <a:chOff x="685800" y="3454560"/>
              <a:chExt cx="4000680" cy="764280"/>
            </a:xfrm>
          </p:grpSpPr>
          <p:sp>
            <p:nvSpPr>
              <p:cNvPr id="61" name="Text Box 8"/>
              <p:cNvSpPr/>
              <p:nvPr/>
            </p:nvSpPr>
            <p:spPr>
              <a:xfrm>
                <a:off x="3162240" y="3454560"/>
                <a:ext cx="152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A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9"/>
              <p:cNvSpPr/>
              <p:nvPr/>
            </p:nvSpPr>
            <p:spPr>
              <a:xfrm>
                <a:off x="685800" y="3759120"/>
                <a:ext cx="1523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N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Text Box 12"/>
            <p:cNvSpPr/>
            <p:nvPr/>
          </p:nvSpPr>
          <p:spPr>
            <a:xfrm>
              <a:off x="533520" y="41911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n-Eye-On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4"/>
            <p:cNvSpPr/>
            <p:nvPr/>
          </p:nvSpPr>
          <p:spPr>
            <a:xfrm>
              <a:off x="3086280" y="38862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t-Eye-On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28600" y="228600"/>
            <a:ext cx="8686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is an ionic bo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oms will transfer one or mor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___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another to form the bon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atom is left with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___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uter sh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ionic bond forms between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on with a positive charge and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___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on with a negative char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 B1: Sodium + Chlorin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 B2: Magnesium + Iod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3429000" y="8002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2590920" y="139716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3429000" y="2019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317520" y="233676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228600" y="228600"/>
            <a:ext cx="8686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 B3: Potassium + Iodin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 B4: Sodium + 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 B5: Calcium + Chlorin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 B6: Aluminum + Chlo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228600" y="228600"/>
            <a:ext cx="8686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is a covalent bo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oms ___________ one or more electrons with each other to form the bon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atom is left with a ________________ outer sh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ovalent bond forms between two _________________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 C1: Hydrogen + Hydroge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 C2: 2 Hydrogen + 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977760" y="800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2705040" y="139716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4140360" y="200664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228600" y="228600"/>
            <a:ext cx="8686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 C3: Chlorine + Chlorin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 C4: Oxygen + 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 C5: Carbon + 2 Oxyge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 C6: Carbon + 4 Hydr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1:33:06Z</dcterms:created>
  <dc:creator>Tracy Trimpe</dc:creator>
  <dc:description/>
  <dc:language>en-US</dc:language>
  <cp:lastModifiedBy>Tracy</cp:lastModifiedBy>
  <dcterms:modified xsi:type="dcterms:W3CDTF">2010-04-27T23:21:00Z</dcterms:modified>
  <cp:revision>13</cp:revision>
  <dc:subject/>
  <dc:title>Slide 1</dc:title>
</cp:coreProperties>
</file>