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8B7C8-7B8F-4349-AD02-4D120731E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AECC3-DD41-4EBA-87B2-1610EDDB3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F7B85-B2D6-417E-963C-51970A4F3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B9CF-06BB-4D41-AA61-3DC1C5F90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79312-63B7-419F-AC3F-F98159C3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BEE73-8E3B-4EBC-9247-598A5E83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A7FA3-AD48-415A-BB4A-61DABFDD1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8C90-A9C7-4370-AABE-5171CA1EA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60B7-5DBE-43F7-9E79-9862AB326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261D-5AE0-4FEB-87C1-2EA1D3938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65D4-D510-436D-AD3D-DAC167AB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4C44-1967-4B44-B46E-1EA1BF728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AFAFA-26BC-4B6E-9033-B2AD43C66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 descr=""/>
          <p:cNvPicPr/>
          <p:nvPr/>
        </p:nvPicPr>
        <p:blipFill>
          <a:blip r:embed="rId1"/>
          <a:stretch/>
        </p:blipFill>
        <p:spPr>
          <a:xfrm>
            <a:off x="4162320" y="4952880"/>
            <a:ext cx="1600200" cy="1455840"/>
          </a:xfrm>
          <a:prstGeom prst="rect">
            <a:avLst/>
          </a:prstGeom>
          <a:ln w="0">
            <a:noFill/>
          </a:ln>
        </p:spPr>
      </p:pic>
      <p:pic>
        <p:nvPicPr>
          <p:cNvPr id="249" name="" descr=""/>
          <p:cNvPicPr/>
          <p:nvPr/>
        </p:nvPicPr>
        <p:blipFill>
          <a:blip r:embed="rId2"/>
          <a:stretch/>
        </p:blipFill>
        <p:spPr>
          <a:xfrm flipH="1">
            <a:off x="7341840" y="4495680"/>
            <a:ext cx="1668600" cy="1667160"/>
          </a:xfrm>
          <a:prstGeom prst="rect">
            <a:avLst/>
          </a:prstGeom>
          <a:ln w="0">
            <a:noFill/>
          </a:ln>
        </p:spPr>
      </p:pic>
      <p:pic>
        <p:nvPicPr>
          <p:cNvPr id="250" name="" descr=""/>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 descr=""/>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a:hlinkClick r:id="rId1" action="ppaction://hlinksldjump"/>
          </p:cNvPr>
          <p:cNvSpPr/>
          <p:nvPr/>
        </p:nvSpPr>
        <p:spPr>
          <a:xfrm rot="558000">
            <a:off x="2514240" y="1676520"/>
            <a:ext cx="3657600" cy="2819160"/>
          </a:xfrm>
          <a:prstGeom prst="pie">
            <a:avLst/>
          </a:pr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
            <a:hlinkClick r:id="rId2" action="ppaction://hlinksldjump"/>
          </p:cNvPr>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rcRect l="10938" t="38298" r="65842" b="36462"/>
          <a:stretch/>
        </p:blipFill>
        <p:spPr>
          <a:xfrm>
            <a:off x="1327320" y="1447920"/>
            <a:ext cx="3003480" cy="2671560"/>
          </a:xfrm>
          <a:prstGeom prst="rect">
            <a:avLst/>
          </a:prstGeom>
          <a:ln w="0">
            <a:noFill/>
          </a:ln>
        </p:spPr>
      </p:pic>
      <p:sp>
        <p:nvSpPr>
          <p:cNvPr id="260" name=""/>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
          <p:cNvGrpSpPr/>
          <p:nvPr/>
        </p:nvGrpSpPr>
        <p:grpSpPr>
          <a:xfrm>
            <a:off x="4699080" y="4419720"/>
            <a:ext cx="4775040" cy="592560"/>
            <a:chOff x="4699080" y="4419720"/>
            <a:chExt cx="4775040" cy="592560"/>
          </a:xfrm>
        </p:grpSpPr>
        <p:sp>
          <p:nvSpPr>
            <p:cNvPr id="268" name=""/>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
          <p:cNvGrpSpPr/>
          <p:nvPr/>
        </p:nvGrpSpPr>
        <p:grpSpPr>
          <a:xfrm>
            <a:off x="4419720" y="5029200"/>
            <a:ext cx="5013000" cy="594000"/>
            <a:chOff x="4419720" y="5029200"/>
            <a:chExt cx="5013000" cy="594000"/>
          </a:xfrm>
        </p:grpSpPr>
        <p:sp>
          <p:nvSpPr>
            <p:cNvPr id="271" name=""/>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rcRect l="10155" t="28124" r="8594" b="25004"/>
          <a:stretch/>
        </p:blipFill>
        <p:spPr>
          <a:xfrm>
            <a:off x="349200" y="685800"/>
            <a:ext cx="9150480" cy="4319640"/>
          </a:xfrm>
          <a:prstGeom prst="rect">
            <a:avLst/>
          </a:prstGeom>
          <a:ln w="0">
            <a:noFill/>
          </a:ln>
        </p:spPr>
      </p:pic>
      <p:sp>
        <p:nvSpPr>
          <p:cNvPr id="275" name=""/>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5238720" y="3581280"/>
            <a:ext cx="4624560" cy="2667240"/>
            <a:chOff x="5238720" y="3581280"/>
            <a:chExt cx="4624560" cy="2667240"/>
          </a:xfrm>
        </p:grpSpPr>
        <p:sp>
          <p:nvSpPr>
            <p:cNvPr id="45" name=""/>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
            <p:cNvGrpSpPr/>
            <p:nvPr/>
          </p:nvGrpSpPr>
          <p:grpSpPr>
            <a:xfrm>
              <a:off x="7962840" y="3733920"/>
              <a:ext cx="1536480" cy="1523880"/>
              <a:chOff x="7962840" y="3733920"/>
              <a:chExt cx="1536480" cy="1523880"/>
            </a:xfrm>
          </p:grpSpPr>
          <p:sp>
            <p:nvSpPr>
              <p:cNvPr id="47" name=""/>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
          <p:cNvGrpSpPr/>
          <p:nvPr/>
        </p:nvGrpSpPr>
        <p:grpSpPr>
          <a:xfrm>
            <a:off x="5253120" y="685800"/>
            <a:ext cx="4610160" cy="2666880"/>
            <a:chOff x="5253120" y="685800"/>
            <a:chExt cx="4610160" cy="2666880"/>
          </a:xfrm>
        </p:grpSpPr>
        <p:sp>
          <p:nvSpPr>
            <p:cNvPr id="54" name=""/>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
            <p:cNvGrpSpPr/>
            <p:nvPr/>
          </p:nvGrpSpPr>
          <p:grpSpPr>
            <a:xfrm>
              <a:off x="7977240" y="838080"/>
              <a:ext cx="1536840" cy="1524240"/>
              <a:chOff x="7977240" y="838080"/>
              <a:chExt cx="1536840" cy="1524240"/>
            </a:xfrm>
          </p:grpSpPr>
          <p:grpSp>
            <p:nvGrpSpPr>
              <p:cNvPr id="56" name=""/>
              <p:cNvGrpSpPr/>
              <p:nvPr/>
            </p:nvGrpSpPr>
            <p:grpSpPr>
              <a:xfrm>
                <a:off x="7977240" y="838080"/>
                <a:ext cx="1536840" cy="1524240"/>
                <a:chOff x="7977240" y="838080"/>
                <a:chExt cx="1536840" cy="1524240"/>
              </a:xfrm>
            </p:grpSpPr>
            <p:sp>
              <p:nvSpPr>
                <p:cNvPr id="57" name=""/>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0800000">
                  <a:off x="8253720" y="978840"/>
                  <a:ext cx="983520" cy="115812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 name=""/>
              <p:cNvGrpSpPr/>
              <p:nvPr/>
            </p:nvGrpSpPr>
            <p:grpSpPr>
              <a:xfrm>
                <a:off x="8253720" y="1153080"/>
                <a:ext cx="983160" cy="365760"/>
                <a:chOff x="8253720" y="1153080"/>
                <a:chExt cx="983160" cy="365760"/>
              </a:xfrm>
            </p:grpSpPr>
            <p:grpSp>
              <p:nvGrpSpPr>
                <p:cNvPr id="60" name=""/>
                <p:cNvGrpSpPr/>
                <p:nvPr/>
              </p:nvGrpSpPr>
              <p:grpSpPr>
                <a:xfrm>
                  <a:off x="8253720" y="1153080"/>
                  <a:ext cx="368640" cy="365760"/>
                  <a:chOff x="8253720" y="1153080"/>
                  <a:chExt cx="368640" cy="365760"/>
                </a:xfrm>
              </p:grpSpPr>
              <p:sp>
                <p:nvSpPr>
                  <p:cNvPr id="61" name=""/>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8868240" y="1153080"/>
                  <a:ext cx="368640" cy="365760"/>
                  <a:chOff x="8868240" y="1153080"/>
                  <a:chExt cx="368640" cy="365760"/>
                </a:xfrm>
              </p:grpSpPr>
              <p:sp>
                <p:nvSpPr>
                  <p:cNvPr id="64" name=""/>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5643720" y="533520"/>
            <a:ext cx="4275000" cy="2666880"/>
            <a:chOff x="5643720" y="533520"/>
            <a:chExt cx="4275000" cy="2666880"/>
          </a:xfrm>
        </p:grpSpPr>
        <p:sp>
          <p:nvSpPr>
            <p:cNvPr id="67" name=""/>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
            <p:cNvGrpSpPr/>
            <p:nvPr/>
          </p:nvGrpSpPr>
          <p:grpSpPr>
            <a:xfrm>
              <a:off x="8367480" y="685800"/>
              <a:ext cx="1326960" cy="1522800"/>
              <a:chOff x="8367480" y="685800"/>
              <a:chExt cx="1326960" cy="1522800"/>
            </a:xfrm>
          </p:grpSpPr>
          <p:sp>
            <p:nvSpPr>
              <p:cNvPr id="69" name=""/>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rot="10800000">
                <a:off x="8606160" y="1505160"/>
                <a:ext cx="848880" cy="70308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8628480" y="1073160"/>
                <a:ext cx="777240" cy="162720"/>
                <a:chOff x="8628480" y="1073160"/>
                <a:chExt cx="777240" cy="162720"/>
              </a:xfrm>
            </p:grpSpPr>
            <p:sp>
              <p:nvSpPr>
                <p:cNvPr id="72" name=""/>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 descr=""/>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
          <p:cNvGrpSpPr/>
          <p:nvPr/>
        </p:nvGrpSpPr>
        <p:grpSpPr>
          <a:xfrm>
            <a:off x="2793960" y="2819520"/>
            <a:ext cx="3772080" cy="3809880"/>
            <a:chOff x="2793960" y="2819520"/>
            <a:chExt cx="3772080" cy="3809880"/>
          </a:xfrm>
        </p:grpSpPr>
        <p:sp>
          <p:nvSpPr>
            <p:cNvPr id="79" name=""/>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
          <p:cNvGrpSpPr/>
          <p:nvPr/>
        </p:nvGrpSpPr>
        <p:grpSpPr>
          <a:xfrm>
            <a:off x="5117760" y="4724280"/>
            <a:ext cx="4165920" cy="703800"/>
            <a:chOff x="5117760" y="4724280"/>
            <a:chExt cx="4165920" cy="703800"/>
          </a:xfrm>
        </p:grpSpPr>
        <p:sp>
          <p:nvSpPr>
            <p:cNvPr id="85" name=""/>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457200" y="3276720"/>
            <a:ext cx="2819520" cy="1008720"/>
            <a:chOff x="457200" y="3276720"/>
            <a:chExt cx="2819520" cy="1008720"/>
          </a:xfrm>
        </p:grpSpPr>
        <p:sp>
          <p:nvSpPr>
            <p:cNvPr id="88" name=""/>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5486400" y="2438280"/>
            <a:ext cx="3137040" cy="703800"/>
            <a:chOff x="5486400" y="2438280"/>
            <a:chExt cx="3137040" cy="703800"/>
          </a:xfrm>
        </p:grpSpPr>
        <p:sp>
          <p:nvSpPr>
            <p:cNvPr id="91" name=""/>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380880" y="4952880"/>
            <a:ext cx="3124440" cy="1008720"/>
            <a:chOff x="380880" y="4952880"/>
            <a:chExt cx="3124440" cy="1008720"/>
          </a:xfrm>
        </p:grpSpPr>
        <p:sp>
          <p:nvSpPr>
            <p:cNvPr id="94" name=""/>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
          <p:cNvGrpSpPr/>
          <p:nvPr/>
        </p:nvGrpSpPr>
        <p:grpSpPr>
          <a:xfrm>
            <a:off x="558720" y="2743200"/>
            <a:ext cx="1746360" cy="1905120"/>
            <a:chOff x="558720" y="2743200"/>
            <a:chExt cx="1746360" cy="1905120"/>
          </a:xfrm>
        </p:grpSpPr>
        <p:grpSp>
          <p:nvGrpSpPr>
            <p:cNvPr id="98" name=""/>
            <p:cNvGrpSpPr/>
            <p:nvPr/>
          </p:nvGrpSpPr>
          <p:grpSpPr>
            <a:xfrm>
              <a:off x="558720" y="2743200"/>
              <a:ext cx="1746360" cy="1905120"/>
              <a:chOff x="558720" y="2743200"/>
              <a:chExt cx="1746360" cy="1905120"/>
            </a:xfrm>
          </p:grpSpPr>
          <p:sp>
            <p:nvSpPr>
              <p:cNvPr id="99" name=""/>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0800000">
                <a:off x="87300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 name=""/>
            <p:cNvGrpSpPr/>
            <p:nvPr/>
          </p:nvGrpSpPr>
          <p:grpSpPr>
            <a:xfrm>
              <a:off x="873000" y="3137040"/>
              <a:ext cx="1117080" cy="457200"/>
              <a:chOff x="873000" y="3137040"/>
              <a:chExt cx="1117080" cy="457200"/>
            </a:xfrm>
          </p:grpSpPr>
          <p:grpSp>
            <p:nvGrpSpPr>
              <p:cNvPr id="102" name=""/>
              <p:cNvGrpSpPr/>
              <p:nvPr/>
            </p:nvGrpSpPr>
            <p:grpSpPr>
              <a:xfrm>
                <a:off x="873000" y="3137040"/>
                <a:ext cx="419040" cy="457200"/>
                <a:chOff x="873000" y="3137040"/>
                <a:chExt cx="419040" cy="457200"/>
              </a:xfrm>
            </p:grpSpPr>
            <p:sp>
              <p:nvSpPr>
                <p:cNvPr id="103" name=""/>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571040" y="3137040"/>
                <a:ext cx="419040" cy="457200"/>
                <a:chOff x="1571040" y="3137040"/>
                <a:chExt cx="419040" cy="457200"/>
              </a:xfrm>
            </p:grpSpPr>
            <p:sp>
              <p:nvSpPr>
                <p:cNvPr id="106" name=""/>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
          <p:cNvGrpSpPr/>
          <p:nvPr/>
        </p:nvGrpSpPr>
        <p:grpSpPr>
          <a:xfrm>
            <a:off x="2654280" y="2743200"/>
            <a:ext cx="1746360" cy="1905120"/>
            <a:chOff x="2654280" y="2743200"/>
            <a:chExt cx="1746360" cy="1905120"/>
          </a:xfrm>
        </p:grpSpPr>
        <p:grpSp>
          <p:nvGrpSpPr>
            <p:cNvPr id="109" name=""/>
            <p:cNvGrpSpPr/>
            <p:nvPr/>
          </p:nvGrpSpPr>
          <p:grpSpPr>
            <a:xfrm>
              <a:off x="2654280" y="2743200"/>
              <a:ext cx="1746360" cy="1905120"/>
              <a:chOff x="2654280" y="2743200"/>
              <a:chExt cx="1746360" cy="1905120"/>
            </a:xfrm>
          </p:grpSpPr>
          <p:sp>
            <p:nvSpPr>
              <p:cNvPr id="110" name=""/>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10800000">
                <a:off x="296856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 name=""/>
            <p:cNvGrpSpPr/>
            <p:nvPr/>
          </p:nvGrpSpPr>
          <p:grpSpPr>
            <a:xfrm>
              <a:off x="2968560" y="3137040"/>
              <a:ext cx="1117080" cy="457200"/>
              <a:chOff x="2968560" y="3137040"/>
              <a:chExt cx="1117080" cy="457200"/>
            </a:xfrm>
          </p:grpSpPr>
          <p:grpSp>
            <p:nvGrpSpPr>
              <p:cNvPr id="113" name=""/>
              <p:cNvGrpSpPr/>
              <p:nvPr/>
            </p:nvGrpSpPr>
            <p:grpSpPr>
              <a:xfrm>
                <a:off x="2968560" y="3137040"/>
                <a:ext cx="419040" cy="457200"/>
                <a:chOff x="2968560" y="3137040"/>
                <a:chExt cx="419040" cy="457200"/>
              </a:xfrm>
            </p:grpSpPr>
            <p:sp>
              <p:nvSpPr>
                <p:cNvPr id="114" name=""/>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3666600" y="3137040"/>
                <a:ext cx="419040" cy="457200"/>
                <a:chOff x="3666600" y="3137040"/>
                <a:chExt cx="419040" cy="457200"/>
              </a:xfrm>
            </p:grpSpPr>
            <p:sp>
              <p:nvSpPr>
                <p:cNvPr id="117" name=""/>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
          <p:cNvGrpSpPr/>
          <p:nvPr/>
        </p:nvGrpSpPr>
        <p:grpSpPr>
          <a:xfrm>
            <a:off x="4749840" y="2743200"/>
            <a:ext cx="1746360" cy="1905120"/>
            <a:chOff x="4749840" y="2743200"/>
            <a:chExt cx="1746360" cy="1905120"/>
          </a:xfrm>
        </p:grpSpPr>
        <p:grpSp>
          <p:nvGrpSpPr>
            <p:cNvPr id="120" name=""/>
            <p:cNvGrpSpPr/>
            <p:nvPr/>
          </p:nvGrpSpPr>
          <p:grpSpPr>
            <a:xfrm>
              <a:off x="4749840" y="2743200"/>
              <a:ext cx="1746360" cy="1905120"/>
              <a:chOff x="4749840" y="2743200"/>
              <a:chExt cx="1746360" cy="1905120"/>
            </a:xfrm>
          </p:grpSpPr>
          <p:sp>
            <p:nvSpPr>
              <p:cNvPr id="121" name=""/>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10800000">
                <a:off x="506412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064120" y="3137040"/>
              <a:ext cx="1117080" cy="457200"/>
              <a:chOff x="5064120" y="3137040"/>
              <a:chExt cx="1117080" cy="457200"/>
            </a:xfrm>
          </p:grpSpPr>
          <p:grpSp>
            <p:nvGrpSpPr>
              <p:cNvPr id="124" name=""/>
              <p:cNvGrpSpPr/>
              <p:nvPr/>
            </p:nvGrpSpPr>
            <p:grpSpPr>
              <a:xfrm>
                <a:off x="5064120" y="3137040"/>
                <a:ext cx="419040" cy="457200"/>
                <a:chOff x="5064120" y="3137040"/>
                <a:chExt cx="419040" cy="457200"/>
              </a:xfrm>
            </p:grpSpPr>
            <p:sp>
              <p:nvSpPr>
                <p:cNvPr id="125" name=""/>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5762160" y="3137040"/>
                <a:ext cx="419040" cy="457200"/>
                <a:chOff x="5762160" y="3137040"/>
                <a:chExt cx="419040" cy="457200"/>
              </a:xfrm>
            </p:grpSpPr>
            <p:sp>
              <p:nvSpPr>
                <p:cNvPr id="128" name=""/>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
          <p:cNvGrpSpPr/>
          <p:nvPr/>
        </p:nvGrpSpPr>
        <p:grpSpPr>
          <a:xfrm>
            <a:off x="6845400" y="2743200"/>
            <a:ext cx="1746000" cy="1905120"/>
            <a:chOff x="6845400" y="2743200"/>
            <a:chExt cx="1746000" cy="1905120"/>
          </a:xfrm>
        </p:grpSpPr>
        <p:grpSp>
          <p:nvGrpSpPr>
            <p:cNvPr id="131" name=""/>
            <p:cNvGrpSpPr/>
            <p:nvPr/>
          </p:nvGrpSpPr>
          <p:grpSpPr>
            <a:xfrm>
              <a:off x="6845400" y="2743200"/>
              <a:ext cx="1746000" cy="1905120"/>
              <a:chOff x="6845400" y="2743200"/>
              <a:chExt cx="1746000" cy="1905120"/>
            </a:xfrm>
          </p:grpSpPr>
          <p:sp>
            <p:nvSpPr>
              <p:cNvPr id="132" name=""/>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10800000">
                <a:off x="7159680" y="29192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7159680" y="3137040"/>
              <a:ext cx="1117080" cy="457200"/>
              <a:chOff x="7159680" y="3137040"/>
              <a:chExt cx="1117080" cy="457200"/>
            </a:xfrm>
          </p:grpSpPr>
          <p:grpSp>
            <p:nvGrpSpPr>
              <p:cNvPr id="135" name=""/>
              <p:cNvGrpSpPr/>
              <p:nvPr/>
            </p:nvGrpSpPr>
            <p:grpSpPr>
              <a:xfrm>
                <a:off x="7159680" y="3137040"/>
                <a:ext cx="419040" cy="457200"/>
                <a:chOff x="7159680" y="3137040"/>
                <a:chExt cx="419040" cy="457200"/>
              </a:xfrm>
            </p:grpSpPr>
            <p:sp>
              <p:nvSpPr>
                <p:cNvPr id="136" name=""/>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7857720" y="3137040"/>
                <a:ext cx="419040" cy="457200"/>
                <a:chOff x="7857720" y="3137040"/>
                <a:chExt cx="419040" cy="457200"/>
              </a:xfrm>
            </p:grpSpPr>
            <p:sp>
              <p:nvSpPr>
                <p:cNvPr id="139" name=""/>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1467000" y="4572000"/>
            <a:ext cx="1746000" cy="1980000"/>
            <a:chOff x="1467000" y="4572000"/>
            <a:chExt cx="1746000" cy="1980000"/>
          </a:xfrm>
        </p:grpSpPr>
        <p:sp>
          <p:nvSpPr>
            <p:cNvPr id="144" name=""/>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rot="10800000">
              <a:off x="1780920" y="5637600"/>
              <a:ext cx="111708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
            <p:cNvGrpSpPr/>
            <p:nvPr/>
          </p:nvGrpSpPr>
          <p:grpSpPr>
            <a:xfrm>
              <a:off x="1810800" y="5074200"/>
              <a:ext cx="1022400" cy="214560"/>
              <a:chOff x="1810800" y="5074200"/>
              <a:chExt cx="1022400" cy="214560"/>
            </a:xfrm>
          </p:grpSpPr>
          <p:sp>
            <p:nvSpPr>
              <p:cNvPr id="147" name=""/>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
          <p:cNvGrpSpPr/>
          <p:nvPr/>
        </p:nvGrpSpPr>
        <p:grpSpPr>
          <a:xfrm>
            <a:off x="3906360" y="5074200"/>
            <a:ext cx="1023120" cy="214560"/>
            <a:chOff x="3906360" y="5074200"/>
            <a:chExt cx="1023120" cy="214560"/>
          </a:xfrm>
        </p:grpSpPr>
        <p:sp>
          <p:nvSpPr>
            <p:cNvPr id="150" name=""/>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6036480" y="5074200"/>
            <a:ext cx="1023480" cy="214560"/>
            <a:chOff x="6036480" y="5074200"/>
            <a:chExt cx="1023480" cy="214560"/>
          </a:xfrm>
        </p:grpSpPr>
        <p:sp>
          <p:nvSpPr>
            <p:cNvPr id="153" name=""/>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flipV="1" rot="10800000">
            <a:off x="3911760" y="56386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rot="10800000">
            <a:off x="6006600" y="5638680"/>
            <a:ext cx="111780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7753320" y="4572000"/>
            <a:ext cx="1746360" cy="1980000"/>
            <a:chOff x="7753320" y="4572000"/>
            <a:chExt cx="1746360" cy="1980000"/>
          </a:xfrm>
        </p:grpSpPr>
        <p:sp>
          <p:nvSpPr>
            <p:cNvPr id="158" name=""/>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 name=""/>
            <p:cNvGrpSpPr/>
            <p:nvPr/>
          </p:nvGrpSpPr>
          <p:grpSpPr>
            <a:xfrm>
              <a:off x="8166960" y="5074200"/>
              <a:ext cx="1023120" cy="214560"/>
              <a:chOff x="8166960" y="5074200"/>
              <a:chExt cx="1023120" cy="214560"/>
            </a:xfrm>
          </p:grpSpPr>
          <p:sp>
            <p:nvSpPr>
              <p:cNvPr id="160" name=""/>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flipV="1" rot="10800000">
              <a:off x="8102160" y="56376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3" name=""/>
          <p:cNvGrpSpPr/>
          <p:nvPr/>
        </p:nvGrpSpPr>
        <p:grpSpPr>
          <a:xfrm>
            <a:off x="8001000" y="4711680"/>
            <a:ext cx="1295280" cy="1676520"/>
            <a:chOff x="8001000" y="4711680"/>
            <a:chExt cx="1295280" cy="1676520"/>
          </a:xfrm>
        </p:grpSpPr>
        <p:sp>
          <p:nvSpPr>
            <p:cNvPr id="164" name=""/>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
          <p:cNvGrpSpPr/>
          <p:nvPr/>
        </p:nvGrpSpPr>
        <p:grpSpPr>
          <a:xfrm>
            <a:off x="907920" y="1828800"/>
            <a:ext cx="1746360" cy="1905120"/>
            <a:chOff x="907920" y="1828800"/>
            <a:chExt cx="1746360" cy="1905120"/>
          </a:xfrm>
        </p:grpSpPr>
        <p:grpSp>
          <p:nvGrpSpPr>
            <p:cNvPr id="168" name=""/>
            <p:cNvGrpSpPr/>
            <p:nvPr/>
          </p:nvGrpSpPr>
          <p:grpSpPr>
            <a:xfrm>
              <a:off x="907920" y="1828800"/>
              <a:ext cx="1746360" cy="1905120"/>
              <a:chOff x="907920" y="1828800"/>
              <a:chExt cx="1746360" cy="1905120"/>
            </a:xfrm>
          </p:grpSpPr>
          <p:sp>
            <p:nvSpPr>
              <p:cNvPr id="169" name=""/>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10800000">
                <a:off x="122220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1" name=""/>
            <p:cNvGrpSpPr/>
            <p:nvPr/>
          </p:nvGrpSpPr>
          <p:grpSpPr>
            <a:xfrm>
              <a:off x="1222200" y="2222640"/>
              <a:ext cx="1117080" cy="457200"/>
              <a:chOff x="1222200" y="2222640"/>
              <a:chExt cx="1117080" cy="457200"/>
            </a:xfrm>
          </p:grpSpPr>
          <p:grpSp>
            <p:nvGrpSpPr>
              <p:cNvPr id="172" name=""/>
              <p:cNvGrpSpPr/>
              <p:nvPr/>
            </p:nvGrpSpPr>
            <p:grpSpPr>
              <a:xfrm>
                <a:off x="1222200" y="2222640"/>
                <a:ext cx="419040" cy="457200"/>
                <a:chOff x="1222200" y="2222640"/>
                <a:chExt cx="419040" cy="457200"/>
              </a:xfrm>
            </p:grpSpPr>
            <p:sp>
              <p:nvSpPr>
                <p:cNvPr id="173" name=""/>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1920240" y="2222640"/>
                <a:ext cx="419040" cy="457200"/>
                <a:chOff x="1920240" y="2222640"/>
                <a:chExt cx="419040" cy="457200"/>
              </a:xfrm>
            </p:grpSpPr>
            <p:sp>
              <p:nvSpPr>
                <p:cNvPr id="176" name=""/>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
          <p:cNvGrpSpPr/>
          <p:nvPr/>
        </p:nvGrpSpPr>
        <p:grpSpPr>
          <a:xfrm>
            <a:off x="3003480" y="1828800"/>
            <a:ext cx="1746360" cy="1905120"/>
            <a:chOff x="3003480" y="1828800"/>
            <a:chExt cx="1746360" cy="1905120"/>
          </a:xfrm>
        </p:grpSpPr>
        <p:grpSp>
          <p:nvGrpSpPr>
            <p:cNvPr id="179" name=""/>
            <p:cNvGrpSpPr/>
            <p:nvPr/>
          </p:nvGrpSpPr>
          <p:grpSpPr>
            <a:xfrm>
              <a:off x="3003480" y="1828800"/>
              <a:ext cx="1746360" cy="1905120"/>
              <a:chOff x="3003480" y="1828800"/>
              <a:chExt cx="1746360" cy="1905120"/>
            </a:xfrm>
          </p:grpSpPr>
          <p:sp>
            <p:nvSpPr>
              <p:cNvPr id="180" name=""/>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0800000">
                <a:off x="331776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2" name=""/>
            <p:cNvGrpSpPr/>
            <p:nvPr/>
          </p:nvGrpSpPr>
          <p:grpSpPr>
            <a:xfrm>
              <a:off x="3317760" y="2222640"/>
              <a:ext cx="1117080" cy="457200"/>
              <a:chOff x="3317760" y="2222640"/>
              <a:chExt cx="1117080" cy="457200"/>
            </a:xfrm>
          </p:grpSpPr>
          <p:grpSp>
            <p:nvGrpSpPr>
              <p:cNvPr id="183" name=""/>
              <p:cNvGrpSpPr/>
              <p:nvPr/>
            </p:nvGrpSpPr>
            <p:grpSpPr>
              <a:xfrm>
                <a:off x="3317760" y="2222640"/>
                <a:ext cx="419040" cy="457200"/>
                <a:chOff x="3317760" y="2222640"/>
                <a:chExt cx="419040" cy="457200"/>
              </a:xfrm>
            </p:grpSpPr>
            <p:sp>
              <p:nvSpPr>
                <p:cNvPr id="184" name=""/>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4015800" y="2222640"/>
                <a:ext cx="419040" cy="457200"/>
                <a:chOff x="4015800" y="2222640"/>
                <a:chExt cx="419040" cy="457200"/>
              </a:xfrm>
            </p:grpSpPr>
            <p:sp>
              <p:nvSpPr>
                <p:cNvPr id="187" name=""/>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
          <p:cNvGrpSpPr/>
          <p:nvPr/>
        </p:nvGrpSpPr>
        <p:grpSpPr>
          <a:xfrm>
            <a:off x="5099040" y="1828800"/>
            <a:ext cx="1746360" cy="1905120"/>
            <a:chOff x="5099040" y="1828800"/>
            <a:chExt cx="1746360" cy="1905120"/>
          </a:xfrm>
        </p:grpSpPr>
        <p:grpSp>
          <p:nvGrpSpPr>
            <p:cNvPr id="190" name=""/>
            <p:cNvGrpSpPr/>
            <p:nvPr/>
          </p:nvGrpSpPr>
          <p:grpSpPr>
            <a:xfrm>
              <a:off x="5099040" y="1828800"/>
              <a:ext cx="1746360" cy="1905120"/>
              <a:chOff x="5099040" y="1828800"/>
              <a:chExt cx="1746360" cy="1905120"/>
            </a:xfrm>
          </p:grpSpPr>
          <p:sp>
            <p:nvSpPr>
              <p:cNvPr id="191" name=""/>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0800000">
                <a:off x="541332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5413320" y="2222640"/>
              <a:ext cx="1117080" cy="457200"/>
              <a:chOff x="5413320" y="2222640"/>
              <a:chExt cx="1117080" cy="457200"/>
            </a:xfrm>
          </p:grpSpPr>
          <p:grpSp>
            <p:nvGrpSpPr>
              <p:cNvPr id="194" name=""/>
              <p:cNvGrpSpPr/>
              <p:nvPr/>
            </p:nvGrpSpPr>
            <p:grpSpPr>
              <a:xfrm>
                <a:off x="5413320" y="2222640"/>
                <a:ext cx="419040" cy="457200"/>
                <a:chOff x="5413320" y="2222640"/>
                <a:chExt cx="419040" cy="457200"/>
              </a:xfrm>
            </p:grpSpPr>
            <p:sp>
              <p:nvSpPr>
                <p:cNvPr id="195" name=""/>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6111360" y="2222640"/>
                <a:ext cx="419040" cy="457200"/>
                <a:chOff x="6111360" y="2222640"/>
                <a:chExt cx="419040" cy="457200"/>
              </a:xfrm>
            </p:grpSpPr>
            <p:sp>
              <p:nvSpPr>
                <p:cNvPr id="198" name=""/>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
          <p:cNvGrpSpPr/>
          <p:nvPr/>
        </p:nvGrpSpPr>
        <p:grpSpPr>
          <a:xfrm>
            <a:off x="7194600" y="1828800"/>
            <a:ext cx="1746360" cy="1905120"/>
            <a:chOff x="7194600" y="1828800"/>
            <a:chExt cx="1746360" cy="1905120"/>
          </a:xfrm>
        </p:grpSpPr>
        <p:grpSp>
          <p:nvGrpSpPr>
            <p:cNvPr id="201" name=""/>
            <p:cNvGrpSpPr/>
            <p:nvPr/>
          </p:nvGrpSpPr>
          <p:grpSpPr>
            <a:xfrm>
              <a:off x="7194600" y="1828800"/>
              <a:ext cx="1746360" cy="1905120"/>
              <a:chOff x="7194600" y="1828800"/>
              <a:chExt cx="1746360" cy="1905120"/>
            </a:xfrm>
          </p:grpSpPr>
          <p:sp>
            <p:nvSpPr>
              <p:cNvPr id="202" name=""/>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0800000">
                <a:off x="7508880" y="2004840"/>
                <a:ext cx="1117440" cy="144756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7508880" y="2222640"/>
              <a:ext cx="1117080" cy="457200"/>
              <a:chOff x="7508880" y="2222640"/>
              <a:chExt cx="1117080" cy="457200"/>
            </a:xfrm>
          </p:grpSpPr>
          <p:grpSp>
            <p:nvGrpSpPr>
              <p:cNvPr id="205" name=""/>
              <p:cNvGrpSpPr/>
              <p:nvPr/>
            </p:nvGrpSpPr>
            <p:grpSpPr>
              <a:xfrm>
                <a:off x="7508880" y="2222640"/>
                <a:ext cx="419040" cy="457200"/>
                <a:chOff x="7508880" y="2222640"/>
                <a:chExt cx="419040" cy="457200"/>
              </a:xfrm>
            </p:grpSpPr>
            <p:sp>
              <p:nvSpPr>
                <p:cNvPr id="206" name=""/>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8206920" y="2222640"/>
                <a:ext cx="419040" cy="457200"/>
                <a:chOff x="8206920" y="2222640"/>
                <a:chExt cx="419040" cy="457200"/>
              </a:xfrm>
            </p:grpSpPr>
            <p:sp>
              <p:nvSpPr>
                <p:cNvPr id="209" name=""/>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
          <p:cNvGrpSpPr/>
          <p:nvPr/>
        </p:nvGrpSpPr>
        <p:grpSpPr>
          <a:xfrm>
            <a:off x="2095560" y="3657600"/>
            <a:ext cx="1746360" cy="1980000"/>
            <a:chOff x="2095560" y="3657600"/>
            <a:chExt cx="1746360" cy="1980000"/>
          </a:xfrm>
        </p:grpSpPr>
        <p:sp>
          <p:nvSpPr>
            <p:cNvPr id="212" name=""/>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rot="10800000">
              <a:off x="2409480" y="4723200"/>
              <a:ext cx="111708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4" name=""/>
            <p:cNvGrpSpPr/>
            <p:nvPr/>
          </p:nvGrpSpPr>
          <p:grpSpPr>
            <a:xfrm>
              <a:off x="2439360" y="4159800"/>
              <a:ext cx="1022400" cy="214560"/>
              <a:chOff x="2439360" y="4159800"/>
              <a:chExt cx="1022400" cy="214560"/>
            </a:xfrm>
          </p:grpSpPr>
          <p:sp>
            <p:nvSpPr>
              <p:cNvPr id="215" name=""/>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
          <p:cNvGrpSpPr/>
          <p:nvPr/>
        </p:nvGrpSpPr>
        <p:grpSpPr>
          <a:xfrm>
            <a:off x="4121280" y="3657600"/>
            <a:ext cx="1746000" cy="1981080"/>
            <a:chOff x="4121280" y="3657600"/>
            <a:chExt cx="1746000" cy="1981080"/>
          </a:xfrm>
        </p:grpSpPr>
        <p:sp>
          <p:nvSpPr>
            <p:cNvPr id="218" name=""/>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4465080" y="4159800"/>
              <a:ext cx="1022400" cy="214560"/>
              <a:chOff x="4465080" y="4159800"/>
              <a:chExt cx="1022400" cy="214560"/>
            </a:xfrm>
          </p:grpSpPr>
          <p:sp>
            <p:nvSpPr>
              <p:cNvPr id="220" name=""/>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
            <p:cNvSpPr/>
            <p:nvPr/>
          </p:nvSpPr>
          <p:spPr>
            <a:xfrm flipV="1" rot="10800000">
              <a:off x="4470120" y="47242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3" name=""/>
          <p:cNvGrpSpPr/>
          <p:nvPr/>
        </p:nvGrpSpPr>
        <p:grpSpPr>
          <a:xfrm>
            <a:off x="6146640" y="3657600"/>
            <a:ext cx="1746360" cy="1981080"/>
            <a:chOff x="6146640" y="3657600"/>
            <a:chExt cx="1746360" cy="1981080"/>
          </a:xfrm>
        </p:grpSpPr>
        <p:sp>
          <p:nvSpPr>
            <p:cNvPr id="224" name=""/>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 name=""/>
            <p:cNvGrpSpPr/>
            <p:nvPr/>
          </p:nvGrpSpPr>
          <p:grpSpPr>
            <a:xfrm>
              <a:off x="6525000" y="4159800"/>
              <a:ext cx="1023120" cy="214560"/>
              <a:chOff x="6525000" y="4159800"/>
              <a:chExt cx="1023120" cy="214560"/>
            </a:xfrm>
          </p:grpSpPr>
          <p:sp>
            <p:nvSpPr>
              <p:cNvPr id="226" name=""/>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flipV="1" rot="10800000">
              <a:off x="6495480" y="4724280"/>
              <a:ext cx="1117440" cy="91440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9" name=""/>
          <p:cNvGrpSpPr/>
          <p:nvPr/>
        </p:nvGrpSpPr>
        <p:grpSpPr>
          <a:xfrm>
            <a:off x="8172360" y="3657600"/>
            <a:ext cx="1746360" cy="1980000"/>
            <a:chOff x="8172360" y="3657600"/>
            <a:chExt cx="1746360" cy="1980000"/>
          </a:xfrm>
        </p:grpSpPr>
        <p:sp>
          <p:nvSpPr>
            <p:cNvPr id="230" name=""/>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1" name=""/>
            <p:cNvGrpSpPr/>
            <p:nvPr/>
          </p:nvGrpSpPr>
          <p:grpSpPr>
            <a:xfrm>
              <a:off x="8586000" y="4159800"/>
              <a:ext cx="1023120" cy="214560"/>
              <a:chOff x="8586000" y="4159800"/>
              <a:chExt cx="1023120" cy="214560"/>
            </a:xfrm>
          </p:grpSpPr>
          <p:sp>
            <p:nvSpPr>
              <p:cNvPr id="232" name=""/>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flipV="1" rot="10800000">
              <a:off x="8521200" y="47232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5" name=""/>
          <p:cNvGrpSpPr/>
          <p:nvPr/>
        </p:nvGrpSpPr>
        <p:grpSpPr>
          <a:xfrm>
            <a:off x="69840" y="3657600"/>
            <a:ext cx="1746360" cy="1980000"/>
            <a:chOff x="69840" y="3657600"/>
            <a:chExt cx="1746360" cy="1980000"/>
          </a:xfrm>
        </p:grpSpPr>
        <p:sp>
          <p:nvSpPr>
            <p:cNvPr id="236" name=""/>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483480" y="4159800"/>
              <a:ext cx="1023120" cy="214560"/>
              <a:chOff x="483480" y="4159800"/>
              <a:chExt cx="1023120" cy="214560"/>
            </a:xfrm>
          </p:grpSpPr>
          <p:sp>
            <p:nvSpPr>
              <p:cNvPr id="238" name=""/>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flipV="1" rot="10800000">
              <a:off x="418680" y="4723200"/>
              <a:ext cx="1117440" cy="914040"/>
            </a:xfrm>
            <a:prstGeom prst="blockArc">
              <a:avLst>
                <a:gd name="adj1" fmla="val 10800000"/>
                <a:gd name="adj2" fmla="val 0"/>
                <a:gd name="adj3" fmla="val 520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prstGeom prst="pie">
            <a:avLst/>
          </a:prstGeom>
          <a:gradFill rotWithShape="0">
            <a:gsLst>
              <a:gs pos="0">
                <a:srgbClr val="a603ab"/>
              </a:gs>
              <a:gs pos="50000">
                <a:srgbClr val="a603ab"/>
              </a:gs>
              <a:gs pos="100000">
                <a:srgbClr val="a603ab"/>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 descr=""/>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Tracy Trimpe</cp:lastModifiedBy>
  <dcterms:modified xsi:type="dcterms:W3CDTF">2008-04-21T23:11:03Z</dcterms:modified>
  <cp:revision>51</cp:revision>
  <dc:subject/>
  <dc:title>The Atoms Family</dc:title>
</cp:coreProperties>
</file>