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  <p:custShowLst>
    <p:custShow name="Section1_1" id="0">
      <p:sldLst>
        <p:sld r:id="rId4"/>
      </p:sldLst>
    </p:custShow>
    <p:custShow name="Section1_2" id="1">
      <p:sldLst>
        <p:sld r:id="rId4"/>
      </p:sldLst>
    </p:custShow>
    <p:custShow name="Section1_3" id="2">
      <p:sldLst>
        <p:sld r:id="rId4"/>
      </p:sldLst>
    </p:custShow>
    <p:custShow name="Section1_4_5" id="3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0230-C8E0-41B0-BF81-F948E0413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EF8F-136B-45C1-A740-75BF77206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8CF7-9639-4618-8D17-9577A13BB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020F-AA73-474F-A354-3346C814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3FA6-1249-4449-982E-1EEC92D03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9554-D7AC-4746-8251-CF84A41D5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71A8-2799-458C-AA7B-464A8E01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D2D9-B758-4520-8026-994B65CD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53FA-D083-4CB4-A53F-4C43FDEA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8ED1-D24A-43AC-9057-B7C464F2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D501-14AE-4F39-B961-F982D174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D202-D24B-4FAE-82BA-0371144F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E3AD-F783-4DCF-80DB-D297A011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2996-BC55-42BA-A1B1-35BCFCCA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86D9-9090-4F46-B120-6F3A1E25D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876560" y="4723920"/>
            <a:ext cx="33526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actice Worksh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304920" y="380880"/>
            <a:ext cx="853416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oper Black"/>
              </a:rPr>
              <a:t>Atomic Basic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oper Black"/>
              <a:ea typeface="Cooper Black"/>
            </a:endParaRPr>
          </a:p>
        </p:txBody>
      </p:sp>
      <p:pic>
        <p:nvPicPr>
          <p:cNvPr id="50" name="Picture 8" descr="MCIN00520_0000[1]"/>
          <p:cNvPicPr/>
          <p:nvPr/>
        </p:nvPicPr>
        <p:blipFill>
          <a:blip r:embed="rId1"/>
          <a:stretch/>
        </p:blipFill>
        <p:spPr>
          <a:xfrm>
            <a:off x="609480" y="4419720"/>
            <a:ext cx="289584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" descr=""/>
          <p:cNvPicPr/>
          <p:nvPr/>
        </p:nvPicPr>
        <p:blipFill>
          <a:blip r:embed="rId1"/>
          <a:srcRect l="23225" t="20644" r="20766" b="11355"/>
          <a:stretch/>
        </p:blipFill>
        <p:spPr>
          <a:xfrm>
            <a:off x="88920" y="76320"/>
            <a:ext cx="89265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"/>
          <p:cNvPicPr/>
          <p:nvPr/>
        </p:nvPicPr>
        <p:blipFill>
          <a:blip r:embed="rId1"/>
          <a:srcRect l="2776" t="18519" r="20833" b="76856"/>
          <a:stretch/>
        </p:blipFill>
        <p:spPr>
          <a:xfrm>
            <a:off x="152280" y="304920"/>
            <a:ext cx="8382240" cy="380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2"/>
          <a:srcRect l="11806" t="22225" r="11110" b="18519"/>
          <a:stretch/>
        </p:blipFill>
        <p:spPr>
          <a:xfrm>
            <a:off x="77760" y="719280"/>
            <a:ext cx="8991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rcRect l="3472" t="36545" r="3472" b="25003"/>
          <a:stretch/>
        </p:blipFill>
        <p:spPr>
          <a:xfrm>
            <a:off x="128520" y="2798640"/>
            <a:ext cx="8915400" cy="2764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rcRect l="3472" t="18519" r="3472" b="64523"/>
          <a:stretch/>
        </p:blipFill>
        <p:spPr>
          <a:xfrm>
            <a:off x="123840" y="1122480"/>
            <a:ext cx="8915400" cy="1218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3"/>
          <a:srcRect l="60917" t="21492" r="22349" b="49607"/>
          <a:stretch/>
        </p:blipFill>
        <p:spPr>
          <a:xfrm>
            <a:off x="7086600" y="152280"/>
            <a:ext cx="170964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9" descr=""/>
          <p:cNvPicPr/>
          <p:nvPr/>
        </p:nvPicPr>
        <p:blipFill>
          <a:blip r:embed="rId1"/>
          <a:srcRect l="9377" t="23001" r="9377" b="14002"/>
          <a:stretch/>
        </p:blipFill>
        <p:spPr>
          <a:xfrm>
            <a:off x="380880" y="457200"/>
            <a:ext cx="8229600" cy="3987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2"/>
          <a:srcRect l="3472" t="18113" r="11124" b="76248"/>
          <a:stretch/>
        </p:blipFill>
        <p:spPr>
          <a:xfrm>
            <a:off x="152280" y="108000"/>
            <a:ext cx="8991720" cy="4446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1"/>
          <p:cNvSpPr/>
          <p:nvPr/>
        </p:nvSpPr>
        <p:spPr>
          <a:xfrm>
            <a:off x="165240" y="4660920"/>
            <a:ext cx="8839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swer the questions below based on the elements in question #15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ch elements had a filled outermost shell?  _____ 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Which element would be most likely to lose electrons in a chemical bond?   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3) Which element would be most likely to gain electrons in a chemical bond? 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4) Which elements are not likely to bond with other elements?  _____ _____  Why? 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23:04:54Z</dcterms:created>
  <dc:creator>Tracy Trimpe</dc:creator>
  <dc:description/>
  <dc:language>en-US</dc:language>
  <cp:lastModifiedBy>Tracy</cp:lastModifiedBy>
  <dcterms:modified xsi:type="dcterms:W3CDTF">2010-04-25T23:06:49Z</dcterms:modified>
  <cp:revision>57</cp:revision>
  <dc:subject/>
  <dc:title>Chemistry of Matter</dc:title>
</cp:coreProperties>
</file>