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ection1_1" id="0">
      <p:sldLst>
        <p:sld r:id="rId4"/>
      </p:sldLst>
    </p:custShow>
    <p:custShow name="Section1_2" id="1">
      <p:sldLst>
        <p:sld r:id="rId4"/>
      </p:sldLst>
    </p:custShow>
    <p:custShow name="Section1_3" id="2">
      <p:sldLst>
        <p:sld r:id="rId4"/>
      </p:sldLst>
    </p:custShow>
    <p:custShow name="Section1_4_5" id="3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C2F-929A-4E13-8431-1246D69A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FE2-65F0-416E-876A-CF43E988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444-6AC0-49E7-84E9-82FD00BA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0D3-D17C-42A2-BC14-4040CA8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80E-E672-4CD5-9A5F-FA387252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F32-4526-49A4-8ACA-D9EE2A65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0D2-75E5-4F59-A453-26909197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F42-D163-490D-B429-DE64FD6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0BC-245A-4F8D-AE44-B8BDB7B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E03-06F4-446B-B6E5-73319D2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1AD-0DBC-446A-9F18-8C01C356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EB8-7641-4F0D-B13E-4B301E27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294-67B6-4F86-A658-17A0395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39D-2DD6-4F18-9827-704B340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C22-F63D-4D51-BC89-7BCC1407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876560" y="47239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tice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04920" y="380880"/>
            <a:ext cx="85341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Atomic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50" name="Picture 8" descr="MCIN00520_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8958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23225" t="20644" r="20766" b="11355"/>
          <a:stretch/>
        </p:blipFill>
        <p:spPr>
          <a:xfrm>
            <a:off x="88920" y="76320"/>
            <a:ext cx="892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2776" t="18519" r="20833" b="76856"/>
          <a:stretch/>
        </p:blipFill>
        <p:spPr>
          <a:xfrm>
            <a:off x="152280" y="304920"/>
            <a:ext cx="838224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rcRect l="11806" t="22225" r="11110" b="18519"/>
          <a:stretch/>
        </p:blipFill>
        <p:spPr>
          <a:xfrm>
            <a:off x="77760" y="719280"/>
            <a:ext cx="8991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3472" t="36545" r="3472" b="25003"/>
          <a:stretch/>
        </p:blipFill>
        <p:spPr>
          <a:xfrm>
            <a:off x="128520" y="2798640"/>
            <a:ext cx="8915400" cy="276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rcRect l="3472" t="18519" r="3472" b="64523"/>
          <a:stretch/>
        </p:blipFill>
        <p:spPr>
          <a:xfrm>
            <a:off x="123840" y="1122480"/>
            <a:ext cx="8915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rcRect l="60917" t="21492" r="22349" b="49607"/>
          <a:stretch/>
        </p:blipFill>
        <p:spPr>
          <a:xfrm>
            <a:off x="7086600" y="152280"/>
            <a:ext cx="1709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rcRect l="9377" t="23001" r="9377" b="14002"/>
          <a:stretch/>
        </p:blipFill>
        <p:spPr>
          <a:xfrm>
            <a:off x="380880" y="457200"/>
            <a:ext cx="8229600" cy="39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rcRect l="3472" t="18113" r="11124" b="76248"/>
          <a:stretch/>
        </p:blipFill>
        <p:spPr>
          <a:xfrm>
            <a:off x="152280" y="108000"/>
            <a:ext cx="8991720" cy="44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65240" y="4660920"/>
            <a:ext cx="883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 the questions below based on the elements in question #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elements had a filled outermost shell?  _____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Which element would be most likely to lose electrons in a chemical bond?  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 Which element would be most likely to gain electrons in a chemical bond?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) Which elements are not likely to bond with other elements?  _____ _____  Why?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3:04:54Z</dcterms:created>
  <dc:creator>Tracy Trimpe</dc:creator>
  <dc:description/>
  <dc:language>en-US</dc:language>
  <cp:lastModifiedBy>Tracy</cp:lastModifiedBy>
  <dcterms:modified xsi:type="dcterms:W3CDTF">2010-04-25T23:06:49Z</dcterms:modified>
  <cp:revision>57</cp:revision>
  <dc:subject/>
  <dc:title>Chemistry of Matter</dc:title>
</cp:coreProperties>
</file>