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3.wmf" ContentType="image/x-wmf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wmf" ContentType="image/x-wmf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69BF-B182-447A-ACDA-DA543360C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1B75-BB68-456E-872B-ADEE10D20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1CE1-BC2E-4F8B-91A9-2CF3A3CB0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A4C9-EB96-4EB3-86B3-31911B078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84E7-BB94-434F-AEFE-292B17A51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3E2B-BFF1-4539-9E57-641F4A604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11CC-975B-402A-92AF-1BA342C5E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4239-10A3-43BB-A0BF-C57ADFD47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0159-18D2-4EC6-8C1B-BA6F6AC50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7D30-3F6B-42B7-9D35-A0C004F32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3489-8B76-48DD-964A-BFFC7D505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59F4-8967-46E6-9EC7-FAA85B0AA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E6EF0-475E-449A-A934-B54EA367E4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7.png"/><Relationship Id="rId3" Type="http://schemas.openxmlformats.org/officeDocument/2006/relationships/image" Target="../media/image15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7.png"/><Relationship Id="rId3" Type="http://schemas.openxmlformats.org/officeDocument/2006/relationships/image" Target="../media/image15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2.png"/><Relationship Id="rId7" Type="http://schemas.openxmlformats.org/officeDocument/2006/relationships/image" Target="../media/image21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8001000" cy="62481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904760" y="5791320"/>
            <a:ext cx="5181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sentation created by Tracy Trim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Science Spot - http://sciencespot.ne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2362320" y="380880"/>
            <a:ext cx="4038480" cy="609840"/>
            <a:chOff x="2362320" y="380880"/>
            <a:chExt cx="4038480" cy="609840"/>
          </a:xfrm>
        </p:grpSpPr>
        <p:sp>
          <p:nvSpPr>
            <p:cNvPr id="44" name=""/>
            <p:cNvSpPr txBox="1"/>
            <p:nvPr/>
          </p:nvSpPr>
          <p:spPr>
            <a:xfrm>
              <a:off x="3354120" y="491040"/>
              <a:ext cx="3046680" cy="440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ooper Black"/>
                </a:rPr>
                <a:t>Butterfly Brigade</a:t>
              </a:r>
              <a:endPara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oper Black"/>
                <a:ea typeface="Cooper Black"/>
              </a:endParaRPr>
            </a:p>
          </p:txBody>
        </p:sp>
        <p:pic>
          <p:nvPicPr>
            <p:cNvPr id="45" name="" descr=""/>
            <p:cNvPicPr/>
            <p:nvPr/>
          </p:nvPicPr>
          <p:blipFill>
            <a:blip r:embed="rId2"/>
            <a:stretch/>
          </p:blipFill>
          <p:spPr>
            <a:xfrm>
              <a:off x="2362320" y="380880"/>
              <a:ext cx="920880" cy="609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" name=""/>
          <p:cNvSpPr/>
          <p:nvPr/>
        </p:nvSpPr>
        <p:spPr>
          <a:xfrm>
            <a:off x="228600" y="650880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mages from http://www.bfly.org/galleries.html unless otherwise no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 rot="2627400">
            <a:off x="2285640" y="4200480"/>
            <a:ext cx="1803240" cy="15908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2133720" y="1219320"/>
            <a:ext cx="4752720" cy="2765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962520" y="4435560"/>
            <a:ext cx="29718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oper Black"/>
              </a:rPr>
              <a:t>Whites &amp;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oper Black"/>
              </a:rPr>
              <a:t>Sulfurs</a:t>
            </a: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Cooper Black"/>
              </a:rPr>
              <a:t>(Family Pierida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410080" y="1447920"/>
            <a:ext cx="35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bbage Wh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95880" y="2362320"/>
            <a:ext cx="2590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ite butterflies with very little black at edges of forewing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3333600" cy="29052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581280" y="685800"/>
            <a:ext cx="2210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males have 2 dots on each forew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rcRect l="22864" t="17287" r="29150" b="28403"/>
          <a:stretch/>
        </p:blipFill>
        <p:spPr>
          <a:xfrm>
            <a:off x="3276720" y="2057400"/>
            <a:ext cx="2546280" cy="26668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rcRect l="0" t="2512" r="0" b="0"/>
          <a:stretch/>
        </p:blipFill>
        <p:spPr>
          <a:xfrm>
            <a:off x="5638680" y="3429000"/>
            <a:ext cx="3333960" cy="296244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228600" y="4343400"/>
            <a:ext cx="4419720" cy="2314440"/>
            <a:chOff x="228600" y="4343400"/>
            <a:chExt cx="4419720" cy="2314440"/>
          </a:xfrm>
        </p:grpSpPr>
        <p:sp>
          <p:nvSpPr>
            <p:cNvPr id="57" name=""/>
            <p:cNvSpPr/>
            <p:nvPr/>
          </p:nvSpPr>
          <p:spPr>
            <a:xfrm>
              <a:off x="2438280" y="5562720"/>
              <a:ext cx="2210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Checkered </a:t>
              </a:r>
              <a:br>
                <a:rPr sz="3200"/>
              </a:b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Whit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" name="" descr=""/>
            <p:cNvPicPr/>
            <p:nvPr/>
          </p:nvPicPr>
          <p:blipFill>
            <a:blip r:embed="rId4"/>
            <a:srcRect l="12291" t="0" r="0" b="0"/>
            <a:stretch/>
          </p:blipFill>
          <p:spPr>
            <a:xfrm>
              <a:off x="228600" y="4343400"/>
              <a:ext cx="2376360" cy="2314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9" name="" descr=""/>
          <p:cNvPicPr/>
          <p:nvPr/>
        </p:nvPicPr>
        <p:blipFill>
          <a:blip r:embed="rId5"/>
          <a:srcRect l="0" t="17686" r="0" b="16016"/>
          <a:stretch/>
        </p:blipFill>
        <p:spPr>
          <a:xfrm>
            <a:off x="5943600" y="228600"/>
            <a:ext cx="2647800" cy="9079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605480" y="6477120"/>
            <a:ext cx="4462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aterpillars: http://www.chias.org/online/thebutterflylab/fieldguide/native.htm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80880" y="152280"/>
            <a:ext cx="472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lfurs (Alfalfa/Orang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666880" y="3276720"/>
            <a:ext cx="5867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Orange has orange in the wing color, while Clouded is purely yellow.  Cloudless sulfurs do not have black edging on upperside of w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2362320" y="228600"/>
            <a:ext cx="6476760" cy="2952720"/>
            <a:chOff x="2362320" y="228600"/>
            <a:chExt cx="6476760" cy="2952720"/>
          </a:xfrm>
        </p:grpSpPr>
        <p:pic>
          <p:nvPicPr>
            <p:cNvPr id="64" name="" descr=""/>
            <p:cNvPicPr/>
            <p:nvPr/>
          </p:nvPicPr>
          <p:blipFill>
            <a:blip r:embed="rId1"/>
            <a:srcRect l="0" t="10037" r="0" b="0"/>
            <a:stretch/>
          </p:blipFill>
          <p:spPr>
            <a:xfrm>
              <a:off x="5486400" y="228600"/>
              <a:ext cx="3352680" cy="2749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" descr=""/>
            <p:cNvPicPr/>
            <p:nvPr/>
          </p:nvPicPr>
          <p:blipFill>
            <a:blip r:embed="rId2"/>
            <a:srcRect l="0" t="9162" r="0" b="0"/>
            <a:stretch/>
          </p:blipFill>
          <p:spPr>
            <a:xfrm>
              <a:off x="2362320" y="914400"/>
              <a:ext cx="3333600" cy="2266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6" name=""/>
          <p:cNvGrpSpPr/>
          <p:nvPr/>
        </p:nvGrpSpPr>
        <p:grpSpPr>
          <a:xfrm>
            <a:off x="380880" y="2514600"/>
            <a:ext cx="7620120" cy="2532600"/>
            <a:chOff x="380880" y="2514600"/>
            <a:chExt cx="7620120" cy="2532600"/>
          </a:xfrm>
        </p:grpSpPr>
        <p:pic>
          <p:nvPicPr>
            <p:cNvPr id="67" name="" descr=""/>
            <p:cNvPicPr/>
            <p:nvPr/>
          </p:nvPicPr>
          <p:blipFill>
            <a:blip r:embed="rId3"/>
            <a:stretch/>
          </p:blipFill>
          <p:spPr>
            <a:xfrm>
              <a:off x="380880" y="2514600"/>
              <a:ext cx="1638360" cy="209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685800" y="4648320"/>
              <a:ext cx="7315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ales have solid black coloring, while females have white patches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1143000" y="5105520"/>
            <a:ext cx="6552720" cy="977760"/>
            <a:chOff x="1143000" y="5105520"/>
            <a:chExt cx="6552720" cy="977760"/>
          </a:xfrm>
        </p:grpSpPr>
        <p:pic>
          <p:nvPicPr>
            <p:cNvPr id="70" name="" descr=""/>
            <p:cNvPicPr/>
            <p:nvPr/>
          </p:nvPicPr>
          <p:blipFill>
            <a:blip r:embed="rId4"/>
            <a:srcRect l="0" t="16254" r="0" b="32239"/>
            <a:stretch/>
          </p:blipFill>
          <p:spPr>
            <a:xfrm>
              <a:off x="4647960" y="5105520"/>
              <a:ext cx="3047760" cy="96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" descr=""/>
            <p:cNvPicPr/>
            <p:nvPr/>
          </p:nvPicPr>
          <p:blipFill>
            <a:blip r:embed="rId5"/>
            <a:srcRect l="1697" t="15448" r="0" b="34062"/>
            <a:stretch/>
          </p:blipFill>
          <p:spPr>
            <a:xfrm>
              <a:off x="1143000" y="5105520"/>
              <a:ext cx="3352680" cy="977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" name=""/>
          <p:cNvSpPr/>
          <p:nvPr/>
        </p:nvSpPr>
        <p:spPr>
          <a:xfrm>
            <a:off x="762120" y="6172200"/>
            <a:ext cx="7315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ale/Female Image: http://www.nsf.gov/news/mmg/mmg_disp.cfm?med_id=59762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aterpillar (Left): http://www.whatsthiscaterpillar.co.uk/america/smooth.htm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aterpillar (Right): http://www.discoverlife.org/20/q?search=Colias+philodi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4100400" y="409680"/>
            <a:ext cx="4510080" cy="3019320"/>
            <a:chOff x="4100400" y="409680"/>
            <a:chExt cx="4510080" cy="3019320"/>
          </a:xfrm>
        </p:grpSpPr>
        <p:pic>
          <p:nvPicPr>
            <p:cNvPr id="74" name="" descr=""/>
            <p:cNvPicPr/>
            <p:nvPr/>
          </p:nvPicPr>
          <p:blipFill>
            <a:blip r:embed="rId1"/>
            <a:srcRect l="17983" t="12589" r="0" b="0"/>
            <a:stretch/>
          </p:blipFill>
          <p:spPr>
            <a:xfrm>
              <a:off x="4100400" y="409680"/>
              <a:ext cx="2833920" cy="30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"/>
            <p:cNvSpPr/>
            <p:nvPr/>
          </p:nvSpPr>
          <p:spPr>
            <a:xfrm>
              <a:off x="6858000" y="1247760"/>
              <a:ext cx="17524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Dainty </a:t>
              </a:r>
              <a:br>
                <a:rPr sz="3200"/>
              </a:b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Sulfu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114800" y="3692520"/>
            <a:ext cx="4800600" cy="2802240"/>
            <a:chOff x="4114800" y="3692520"/>
            <a:chExt cx="4800600" cy="2802240"/>
          </a:xfrm>
        </p:grpSpPr>
        <p:pic>
          <p:nvPicPr>
            <p:cNvPr id="77" name="" descr=""/>
            <p:cNvPicPr/>
            <p:nvPr/>
          </p:nvPicPr>
          <p:blipFill>
            <a:blip r:embed="rId2"/>
            <a:stretch/>
          </p:blipFill>
          <p:spPr>
            <a:xfrm>
              <a:off x="5943600" y="3692520"/>
              <a:ext cx="2895480" cy="240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>
              <a:off x="4114800" y="4454640"/>
              <a:ext cx="2133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Dogface </a:t>
              </a:r>
              <a:br>
                <a:rPr sz="3200"/>
              </a:b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Sulfu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638680" y="6248520"/>
              <a:ext cx="3276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http://www.laspilitas.com/butterflylist_files/Dog_face_2.jp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152280" y="1066680"/>
            <a:ext cx="3962520" cy="5351760"/>
            <a:chOff x="152280" y="1066680"/>
            <a:chExt cx="3962520" cy="5351760"/>
          </a:xfrm>
        </p:grpSpPr>
        <p:grpSp>
          <p:nvGrpSpPr>
            <p:cNvPr id="81" name=""/>
            <p:cNvGrpSpPr/>
            <p:nvPr/>
          </p:nvGrpSpPr>
          <p:grpSpPr>
            <a:xfrm>
              <a:off x="152280" y="1066680"/>
              <a:ext cx="3581640" cy="4997520"/>
              <a:chOff x="152280" y="1066680"/>
              <a:chExt cx="3581640" cy="4997520"/>
            </a:xfrm>
          </p:grpSpPr>
          <p:pic>
            <p:nvPicPr>
              <p:cNvPr id="82" name="" descr=""/>
              <p:cNvPicPr/>
              <p:nvPr/>
            </p:nvPicPr>
            <p:blipFill>
              <a:blip r:embed="rId3"/>
              <a:srcRect l="12248" t="0" r="0" b="0"/>
              <a:stretch/>
            </p:blipFill>
            <p:spPr>
              <a:xfrm>
                <a:off x="457200" y="3002040"/>
                <a:ext cx="3276720" cy="3062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" name=""/>
              <p:cNvSpPr/>
              <p:nvPr/>
            </p:nvSpPr>
            <p:spPr>
              <a:xfrm>
                <a:off x="685800" y="1066680"/>
                <a:ext cx="27432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Little Yellow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4" name="" descr=""/>
              <p:cNvPicPr/>
              <p:nvPr/>
            </p:nvPicPr>
            <p:blipFill>
              <a:blip r:embed="rId4"/>
              <a:srcRect l="0" t="12121" r="0" b="11109"/>
              <a:stretch/>
            </p:blipFill>
            <p:spPr>
              <a:xfrm>
                <a:off x="152280" y="1859040"/>
                <a:ext cx="3048120" cy="1447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5" name=""/>
            <p:cNvSpPr/>
            <p:nvPr/>
          </p:nvSpPr>
          <p:spPr>
            <a:xfrm>
              <a:off x="228600" y="6172200"/>
              <a:ext cx="3886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Caterpillars: http://www.discoverlife.org/mp/20q?guide=Butterfli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8001000" cy="6248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7" name=""/>
          <p:cNvSpPr/>
          <p:nvPr/>
        </p:nvSpPr>
        <p:spPr>
          <a:xfrm>
            <a:off x="2286000" y="5181480"/>
            <a:ext cx="464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7 Butterflie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- 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4038480" y="609480"/>
            <a:ext cx="2590920" cy="21970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2438280" y="2133720"/>
            <a:ext cx="4191120" cy="25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996600"/>
                </a:solidFill>
                <a:latin typeface="Cooper Black"/>
              </a:rPr>
              <a:t>Quiz Time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996600"/>
              </a:solidFill>
              <a:latin typeface="Cooper Black"/>
              <a:ea typeface="Cooper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971800" y="2286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dentify each butterf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22864" t="17287" r="29150" b="28403"/>
          <a:stretch/>
        </p:blipFill>
        <p:spPr>
          <a:xfrm>
            <a:off x="6226200" y="228600"/>
            <a:ext cx="2255760" cy="23623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2819520" y="990720"/>
            <a:ext cx="3429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ered Whit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bbage Whit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ttle Yellow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uded Sulfu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udless Sulfu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inty Sulfu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gface Sulf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rcRect l="12248" t="0" r="0" b="0"/>
          <a:stretch/>
        </p:blipFill>
        <p:spPr>
          <a:xfrm>
            <a:off x="6210360" y="4495680"/>
            <a:ext cx="2286000" cy="21369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rcRect l="17983" t="12589" r="0" b="0"/>
          <a:stretch/>
        </p:blipFill>
        <p:spPr>
          <a:xfrm>
            <a:off x="534960" y="228600"/>
            <a:ext cx="2359080" cy="25146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533520" y="2895480"/>
            <a:ext cx="2361960" cy="15512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6172200" y="2819520"/>
            <a:ext cx="2362320" cy="148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6"/>
          <a:stretch/>
        </p:blipFill>
        <p:spPr>
          <a:xfrm>
            <a:off x="3200400" y="4419720"/>
            <a:ext cx="2647800" cy="16650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7"/>
          <a:stretch/>
        </p:blipFill>
        <p:spPr>
          <a:xfrm>
            <a:off x="571680" y="4495680"/>
            <a:ext cx="2286000" cy="2190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2514600" y="380880"/>
            <a:ext cx="252360" cy="40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09480" y="3962520"/>
            <a:ext cx="25236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438280" y="6172200"/>
            <a:ext cx="25236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343400" y="6095880"/>
            <a:ext cx="252360" cy="40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324480" y="380880"/>
            <a:ext cx="252360" cy="40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8191440" y="3822840"/>
            <a:ext cx="25236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F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324480" y="6095880"/>
            <a:ext cx="252360" cy="40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971800" y="228600"/>
            <a:ext cx="3124080" cy="459720"/>
          </a:xfrm>
          <a:prstGeom prst="rect">
            <a:avLst/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answers are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22864" t="17287" r="29150" b="28403"/>
          <a:stretch/>
        </p:blipFill>
        <p:spPr>
          <a:xfrm>
            <a:off x="6226200" y="254160"/>
            <a:ext cx="2384280" cy="23619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rcRect l="12248" t="0" r="0" b="0"/>
          <a:stretch/>
        </p:blipFill>
        <p:spPr>
          <a:xfrm>
            <a:off x="6210360" y="4495680"/>
            <a:ext cx="2400120" cy="21369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rcRect l="17983" t="12589" r="0" b="0"/>
          <a:stretch/>
        </p:blipFill>
        <p:spPr>
          <a:xfrm>
            <a:off x="534960" y="228600"/>
            <a:ext cx="2359080" cy="25146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533520" y="2895480"/>
            <a:ext cx="2361960" cy="15512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5"/>
          <a:stretch/>
        </p:blipFill>
        <p:spPr>
          <a:xfrm>
            <a:off x="6172200" y="2819520"/>
            <a:ext cx="2362320" cy="14889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6"/>
          <a:stretch/>
        </p:blipFill>
        <p:spPr>
          <a:xfrm>
            <a:off x="571680" y="4495680"/>
            <a:ext cx="2286000" cy="21909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2514600" y="380880"/>
            <a:ext cx="252360" cy="40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09480" y="3962520"/>
            <a:ext cx="25236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2438280" y="6172200"/>
            <a:ext cx="25236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6324480" y="380880"/>
            <a:ext cx="252360" cy="40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191440" y="3822840"/>
            <a:ext cx="25236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F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324480" y="6095880"/>
            <a:ext cx="252360" cy="40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19" name=""/>
          <p:cNvSpPr/>
          <p:nvPr/>
        </p:nvSpPr>
        <p:spPr>
          <a:xfrm>
            <a:off x="2971800" y="40384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gface Sulf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971800" y="1219320"/>
            <a:ext cx="114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inty Sulf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952880" y="6035760"/>
            <a:ext cx="129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ttle Yel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724280" y="1219320"/>
            <a:ext cx="14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bbage Wh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743200" y="6035760"/>
            <a:ext cx="1650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eckered Wh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895480" y="2895480"/>
            <a:ext cx="13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ouded Sulf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648320" y="2895480"/>
            <a:ext cx="152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oudlessSulf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7"/>
          <a:stretch/>
        </p:blipFill>
        <p:spPr>
          <a:xfrm>
            <a:off x="3200400" y="4419720"/>
            <a:ext cx="2647800" cy="16650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 txBox="1"/>
          <p:nvPr/>
        </p:nvSpPr>
        <p:spPr>
          <a:xfrm>
            <a:off x="3276720" y="5105520"/>
            <a:ext cx="25236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9T16:43:02Z</dcterms:created>
  <dc:creator>Tracy Trimpe</dc:creator>
  <dc:description/>
  <dc:language>en-US</dc:language>
  <cp:lastModifiedBy>Tracy Trimpe</cp:lastModifiedBy>
  <dcterms:modified xsi:type="dcterms:W3CDTF">2008-07-22T23:47:13Z</dcterms:modified>
  <cp:revision>198</cp:revision>
  <dc:subject/>
  <dc:title>Slide 1</dc:title>
</cp:coreProperties>
</file>