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782-A480-4D57-99F2-7969C790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F27-F806-4BA6-9E86-63911143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19E-A48A-4A6E-9D19-83F0309D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944-AB83-4644-BE7F-38755EF3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E5E-B4E6-4A10-ACA4-BC56840C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02C-B6AC-4B03-95DE-274747B0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DFB-0B9B-46B0-9E9C-2F4FBA15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621-5777-46E8-A2D4-13FF5646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6FE-2928-4A20-B31D-DA5BEB80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DC4-6397-4526-B65C-E888009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CBC-10E4-4CDA-A9B2-DE6F7DD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CAD-64ED-4836-B2F8-6B944E71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1983-6299-45E7-9D54-813A35878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2520" y="4435560"/>
            <a:ext cx="2971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Whites &amp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ulfur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oper Black"/>
              </a:rPr>
              <a:t>(Family Pierid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410080" y="14479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bbage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23623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te butterflies with very little black at edges of forew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33600" cy="290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81280" y="68580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ales have 2 dots on each fore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22864" t="17287" r="29150" b="28403"/>
          <a:stretch/>
        </p:blipFill>
        <p:spPr>
          <a:xfrm>
            <a:off x="3276720" y="2057400"/>
            <a:ext cx="254628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0" t="2512" r="0" b="0"/>
          <a:stretch/>
        </p:blipFill>
        <p:spPr>
          <a:xfrm>
            <a:off x="5638680" y="3429000"/>
            <a:ext cx="3333960" cy="29624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28600" y="4343400"/>
            <a:ext cx="4419720" cy="2314440"/>
            <a:chOff x="228600" y="4343400"/>
            <a:chExt cx="4419720" cy="2314440"/>
          </a:xfrm>
        </p:grpSpPr>
        <p:sp>
          <p:nvSpPr>
            <p:cNvPr id="57" name=""/>
            <p:cNvSpPr/>
            <p:nvPr/>
          </p:nvSpPr>
          <p:spPr>
            <a:xfrm>
              <a:off x="2438280" y="5562720"/>
              <a:ext cx="2210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heckered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hi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rcRect l="12291" t="0" r="0" b="0"/>
            <a:stretch/>
          </p:blipFill>
          <p:spPr>
            <a:xfrm>
              <a:off x="228600" y="4343400"/>
              <a:ext cx="2376360" cy="23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" descr=""/>
          <p:cNvPicPr/>
          <p:nvPr/>
        </p:nvPicPr>
        <p:blipFill>
          <a:blip r:embed="rId5"/>
          <a:srcRect l="0" t="17686" r="0" b="16016"/>
          <a:stretch/>
        </p:blipFill>
        <p:spPr>
          <a:xfrm>
            <a:off x="5943600" y="228600"/>
            <a:ext cx="2647800" cy="907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05480" y="6477120"/>
            <a:ext cx="446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s: http://www.chias.org/online/thebutterflylab/fieldguide/native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52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lfurs (Alfalfa/Or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3276720"/>
            <a:ext cx="58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ange has orange in the wing color, while Clouded is purely yellow.  Cloudless sulfurs do not have black edging on upperside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362320" y="228600"/>
            <a:ext cx="6476760" cy="2952720"/>
            <a:chOff x="2362320" y="228600"/>
            <a:chExt cx="6476760" cy="29527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0" t="10037" r="0" b="0"/>
            <a:stretch/>
          </p:blipFill>
          <p:spPr>
            <a:xfrm>
              <a:off x="5486400" y="228600"/>
              <a:ext cx="3352680" cy="27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rcRect l="0" t="9162" r="0" b="0"/>
            <a:stretch/>
          </p:blipFill>
          <p:spPr>
            <a:xfrm>
              <a:off x="2362320" y="914400"/>
              <a:ext cx="3333600" cy="226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380880" y="2514600"/>
            <a:ext cx="7620120" cy="2532600"/>
            <a:chOff x="380880" y="2514600"/>
            <a:chExt cx="7620120" cy="253260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380880" y="2514600"/>
              <a:ext cx="163836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85800" y="4648320"/>
              <a:ext cx="731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les have solid black coloring, while females have white patch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143000" y="5105520"/>
            <a:ext cx="6552720" cy="977760"/>
            <a:chOff x="1143000" y="5105520"/>
            <a:chExt cx="6552720" cy="977760"/>
          </a:xfrm>
        </p:grpSpPr>
        <p:pic>
          <p:nvPicPr>
            <p:cNvPr id="70" name="" descr=""/>
            <p:cNvPicPr/>
            <p:nvPr/>
          </p:nvPicPr>
          <p:blipFill>
            <a:blip r:embed="rId4"/>
            <a:srcRect l="0" t="16254" r="0" b="32239"/>
            <a:stretch/>
          </p:blipFill>
          <p:spPr>
            <a:xfrm>
              <a:off x="4647960" y="5105520"/>
              <a:ext cx="304776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5"/>
            <a:srcRect l="1697" t="15448" r="0" b="34062"/>
            <a:stretch/>
          </p:blipFill>
          <p:spPr>
            <a:xfrm>
              <a:off x="1143000" y="5105520"/>
              <a:ext cx="335268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762120" y="617220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le/Female Image: http://www.nsf.gov/news/mmg/mmg_disp.cfm?med_id=59762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 (Left): http://www.whatsthiscaterpillar.co.uk/america/smooth.htm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 (Right): http://www.discoverlife.org/20/q?search=Colias+philo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100400" y="409680"/>
            <a:ext cx="4510080" cy="3019320"/>
            <a:chOff x="4100400" y="409680"/>
            <a:chExt cx="4510080" cy="3019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17983" t="12589" r="0" b="0"/>
            <a:stretch/>
          </p:blipFill>
          <p:spPr>
            <a:xfrm>
              <a:off x="4100400" y="409680"/>
              <a:ext cx="2833920" cy="30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858000" y="1247760"/>
              <a:ext cx="175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ainty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lf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114800" y="3692520"/>
            <a:ext cx="4800600" cy="2802240"/>
            <a:chOff x="4114800" y="3692520"/>
            <a:chExt cx="4800600" cy="280224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5943600" y="3692520"/>
              <a:ext cx="2895480" cy="24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114800" y="4454640"/>
              <a:ext cx="2133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ogface 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ulf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38680" y="6248520"/>
              <a:ext cx="327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ttp://www.laspilitas.com/butterflylist_files/Dog_face_2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52280" y="1066680"/>
            <a:ext cx="3962520" cy="5351760"/>
            <a:chOff x="152280" y="1066680"/>
            <a:chExt cx="3962520" cy="5351760"/>
          </a:xfrm>
        </p:grpSpPr>
        <p:grpSp>
          <p:nvGrpSpPr>
            <p:cNvPr id="81" name=""/>
            <p:cNvGrpSpPr/>
            <p:nvPr/>
          </p:nvGrpSpPr>
          <p:grpSpPr>
            <a:xfrm>
              <a:off x="152280" y="1066680"/>
              <a:ext cx="3581640" cy="4997520"/>
              <a:chOff x="152280" y="1066680"/>
              <a:chExt cx="3581640" cy="4997520"/>
            </a:xfrm>
          </p:grpSpPr>
          <p:pic>
            <p:nvPicPr>
              <p:cNvPr id="82" name="" descr=""/>
              <p:cNvPicPr/>
              <p:nvPr/>
            </p:nvPicPr>
            <p:blipFill>
              <a:blip r:embed="rId3"/>
              <a:srcRect l="12248" t="0" r="0" b="0"/>
              <a:stretch/>
            </p:blipFill>
            <p:spPr>
              <a:xfrm>
                <a:off x="457200" y="3002040"/>
                <a:ext cx="3276720" cy="306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685800" y="1066680"/>
                <a:ext cx="2743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ittle Yellow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" descr=""/>
              <p:cNvPicPr/>
              <p:nvPr/>
            </p:nvPicPr>
            <p:blipFill>
              <a:blip r:embed="rId4"/>
              <a:srcRect l="0" t="12121" r="0" b="11109"/>
              <a:stretch/>
            </p:blipFill>
            <p:spPr>
              <a:xfrm>
                <a:off x="152280" y="1859040"/>
                <a:ext cx="3048120" cy="144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" name=""/>
            <p:cNvSpPr/>
            <p:nvPr/>
          </p:nvSpPr>
          <p:spPr>
            <a:xfrm>
              <a:off x="228600" y="6172200"/>
              <a:ext cx="388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aterpillars: http://www.discoverlife.org/mp/20q?guide=Butterfl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71800" y="22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2864" t="17287" r="29150" b="28403"/>
          <a:stretch/>
        </p:blipFill>
        <p:spPr>
          <a:xfrm>
            <a:off x="6226200" y="228600"/>
            <a:ext cx="2255760" cy="2362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19520" y="99072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ed Wh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bage Wh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Yell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uded Sulf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udless Sulf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nty Sulf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gface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12248" t="0" r="0" b="0"/>
          <a:stretch/>
        </p:blipFill>
        <p:spPr>
          <a:xfrm>
            <a:off x="6210360" y="4495680"/>
            <a:ext cx="2286000" cy="2136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17983" t="12589" r="0" b="0"/>
          <a:stretch/>
        </p:blipFill>
        <p:spPr>
          <a:xfrm>
            <a:off x="534960" y="228600"/>
            <a:ext cx="235908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2361960" cy="1551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172200" y="2819520"/>
            <a:ext cx="2362320" cy="148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200400" y="4419720"/>
            <a:ext cx="2647800" cy="166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71680" y="4495680"/>
            <a:ext cx="2286000" cy="2190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2514600" y="380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396252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617220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43400" y="6095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24480" y="380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191440" y="382284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324480" y="6095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71800" y="228600"/>
            <a:ext cx="312408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2864" t="17287" r="29150" b="28403"/>
          <a:stretch/>
        </p:blipFill>
        <p:spPr>
          <a:xfrm>
            <a:off x="6226200" y="254160"/>
            <a:ext cx="2384280" cy="2361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12248" t="0" r="0" b="0"/>
          <a:stretch/>
        </p:blipFill>
        <p:spPr>
          <a:xfrm>
            <a:off x="6210360" y="4495680"/>
            <a:ext cx="2400120" cy="213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17983" t="12589" r="0" b="0"/>
          <a:stretch/>
        </p:blipFill>
        <p:spPr>
          <a:xfrm>
            <a:off x="534960" y="228600"/>
            <a:ext cx="235908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33520" y="2895480"/>
            <a:ext cx="2361960" cy="1551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172200" y="2819520"/>
            <a:ext cx="2362320" cy="148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571680" y="4495680"/>
            <a:ext cx="2286000" cy="2190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2514600" y="380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396252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38280" y="617220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324480" y="380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191440" y="382284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324480" y="6095880"/>
            <a:ext cx="252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4038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gface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12193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inty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60357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tle 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2193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bbage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6035760"/>
            <a:ext cx="165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ere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8954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ed 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2895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udlessSulf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200400" y="4419720"/>
            <a:ext cx="2647800" cy="166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276720" y="5105520"/>
            <a:ext cx="252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47:13Z</dcterms:modified>
  <cp:revision>198</cp:revision>
  <dc:subject/>
  <dc:title>Slide 1</dc:title>
</cp:coreProperties>
</file>