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BF4-733B-4557-BE29-ADDA3C88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C58-78AE-4891-868C-715121F3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A33-3F17-43A3-AB49-052C968C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89C-BD21-4235-AAAF-3497CE2B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099-378F-4E9E-80DC-3B36CF50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BB3-F87B-40D2-9F29-83542626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B55-E461-4E33-827C-966503F5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675-1146-4EF5-9381-7467F25A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9E38-3BB5-451C-9F72-41CAF2A4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8FB-6320-4998-8B44-362D8BE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88F-41FF-45F7-8620-0818FAC9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84E-BDB4-4DDF-98CF-5C5A00D7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3A9D-BC31-4925-AE5C-169678EC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04760" y="57913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created by Tracy Tri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 Spot -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62320" y="380880"/>
            <a:ext cx="4038480" cy="609840"/>
            <a:chOff x="2362320" y="380880"/>
            <a:chExt cx="4038480" cy="609840"/>
          </a:xfrm>
        </p:grpSpPr>
        <p:sp>
          <p:nvSpPr>
            <p:cNvPr id="44" name=""/>
            <p:cNvSpPr txBox="1"/>
            <p:nvPr/>
          </p:nvSpPr>
          <p:spPr>
            <a:xfrm>
              <a:off x="3354120" y="491040"/>
              <a:ext cx="3046680" cy="44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oper Black"/>
                </a:rPr>
                <a:t>Butterfly Brigade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  <a:ea typeface="Cooper Black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362320" y="380880"/>
              <a:ext cx="920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28600" y="6508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s from http://www.bfly.org/galleries.html unless otherwise no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2627400">
            <a:off x="2285640" y="4200480"/>
            <a:ext cx="1803240" cy="159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133720" y="1219320"/>
            <a:ext cx="4752720" cy="276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2520" y="4267080"/>
            <a:ext cx="2971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Gossamer Wing Butterflie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(Family Lycaenid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19051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dia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ir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2765520" cy="2981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16680" y="3581280"/>
            <a:ext cx="2824200" cy="224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91320" y="59436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y Hair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13368" t="0" r="0" b="0"/>
          <a:stretch/>
        </p:blipFill>
        <p:spPr>
          <a:xfrm>
            <a:off x="6029280" y="304920"/>
            <a:ext cx="2962440" cy="2867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43280" y="533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-banded Hair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rcRect l="0" t="0" r="27336" b="23745"/>
          <a:stretch/>
        </p:blipFill>
        <p:spPr>
          <a:xfrm>
            <a:off x="3238560" y="3365640"/>
            <a:ext cx="2514600" cy="174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57680" y="504180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dward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ir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14280" y="3581280"/>
            <a:ext cx="2648160" cy="2451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019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al Hair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90840" y="6146640"/>
            <a:ext cx="2210040" cy="58140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irst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762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stern-Tailed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71960" y="1295280"/>
            <a:ext cx="3333960" cy="295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3333600" cy="272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333960" cy="249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629400" y="44956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 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dark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914400" y="3505320"/>
            <a:ext cx="2514600" cy="1770480"/>
            <a:chOff x="914400" y="3505320"/>
            <a:chExt cx="2514600" cy="1770480"/>
          </a:xfrm>
        </p:grpSpPr>
        <p:sp>
          <p:nvSpPr>
            <p:cNvPr id="67" name=""/>
            <p:cNvSpPr/>
            <p:nvPr/>
          </p:nvSpPr>
          <p:spPr>
            <a:xfrm>
              <a:off x="914400" y="457200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wo orange spots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 hindw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1752120" y="3505320"/>
              <a:ext cx="228600" cy="114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038480" y="10666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Az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46483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 blue top, but no colored spots on underside and no 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25143" t="0" r="0" b="0"/>
          <a:stretch/>
        </p:blipFill>
        <p:spPr>
          <a:xfrm>
            <a:off x="457200" y="1066680"/>
            <a:ext cx="3429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3809880" y="2133720"/>
            <a:ext cx="5334120" cy="4391280"/>
            <a:chOff x="3809880" y="2133720"/>
            <a:chExt cx="5334120" cy="439128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4095720" y="2133720"/>
              <a:ext cx="4762440" cy="39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809880" y="6248520"/>
              <a:ext cx="5334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ttp://www.butterfly-guide.co.uk/species/blues/pics/argio.jp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9880" y="9144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lvery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20003" t="17776" r="25332" b="18221"/>
          <a:stretch/>
        </p:blipFill>
        <p:spPr>
          <a:xfrm>
            <a:off x="533520" y="609480"/>
            <a:ext cx="312408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4343400"/>
            <a:ext cx="2514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 blue top and a line of spots on underside of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28600" y="4173480"/>
            <a:ext cx="3886200" cy="2151000"/>
            <a:chOff x="228600" y="4173480"/>
            <a:chExt cx="3886200" cy="2151000"/>
          </a:xfrm>
        </p:grpSpPr>
        <p:sp>
          <p:nvSpPr>
            <p:cNvPr id="80" name=""/>
            <p:cNvSpPr/>
            <p:nvPr/>
          </p:nvSpPr>
          <p:spPr>
            <a:xfrm>
              <a:off x="228600" y="417348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merican Copp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123920" y="4752720"/>
              <a:ext cx="209556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380880" y="271440"/>
            <a:ext cx="4038480" cy="3538080"/>
            <a:chOff x="380880" y="271440"/>
            <a:chExt cx="4038480" cy="3538080"/>
          </a:xfrm>
        </p:grpSpPr>
        <p:pic>
          <p:nvPicPr>
            <p:cNvPr id="83" name="" descr=""/>
            <p:cNvPicPr/>
            <p:nvPr/>
          </p:nvPicPr>
          <p:blipFill>
            <a:blip r:embed="rId2"/>
            <a:srcRect l="37252" t="35070" r="0" b="0"/>
            <a:stretch/>
          </p:blipFill>
          <p:spPr>
            <a:xfrm>
              <a:off x="533160" y="1490400"/>
              <a:ext cx="3000240" cy="23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80880" y="271440"/>
              <a:ext cx="1676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Karner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3"/>
            <a:srcRect l="29020" t="25428" r="29536" b="20343"/>
            <a:stretch/>
          </p:blipFill>
          <p:spPr>
            <a:xfrm>
              <a:off x="2133360" y="728280"/>
              <a:ext cx="2286000" cy="24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4352760" y="1380960"/>
            <a:ext cx="4791240" cy="5019840"/>
            <a:chOff x="4352760" y="1380960"/>
            <a:chExt cx="4791240" cy="5019840"/>
          </a:xfrm>
        </p:grpSpPr>
        <p:sp>
          <p:nvSpPr>
            <p:cNvPr id="87" name=""/>
            <p:cNvSpPr/>
            <p:nvPr/>
          </p:nvSpPr>
          <p:spPr>
            <a:xfrm>
              <a:off x="6553080" y="4809960"/>
              <a:ext cx="2590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urplish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pp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4"/>
            <a:srcRect l="5172" t="0" r="0" b="0"/>
            <a:stretch/>
          </p:blipFill>
          <p:spPr>
            <a:xfrm>
              <a:off x="4800600" y="1380960"/>
              <a:ext cx="4191120" cy="29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5"/>
            <a:srcRect l="0" t="3046" r="22573" b="0"/>
            <a:stretch/>
          </p:blipFill>
          <p:spPr>
            <a:xfrm>
              <a:off x="4352760" y="3971880"/>
              <a:ext cx="2581560" cy="242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286000" y="51814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 Butterfl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-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038480" y="609480"/>
            <a:ext cx="2590920" cy="2197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438280" y="2133720"/>
            <a:ext cx="4191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Cooper Black"/>
              </a:rPr>
              <a:t>Quiz Ti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19520" y="593640"/>
            <a:ext cx="34290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entify each butterf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ian Hairstrea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-banded Hairstrea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 Hairstrea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al Hairstrea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wards Hairstrea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ing Az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Copp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ern-Tailed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52280" y="228600"/>
            <a:ext cx="8839440" cy="6095880"/>
            <a:chOff x="152280" y="228600"/>
            <a:chExt cx="8839440" cy="6095880"/>
          </a:xfrm>
        </p:grpSpPr>
        <p:pic>
          <p:nvPicPr>
            <p:cNvPr id="96" name="" descr=""/>
            <p:cNvPicPr/>
            <p:nvPr/>
          </p:nvPicPr>
          <p:blipFill>
            <a:blip r:embed="rId1"/>
            <a:srcRect l="0" t="10227" r="6317" b="13103"/>
            <a:stretch/>
          </p:blipFill>
          <p:spPr>
            <a:xfrm>
              <a:off x="152280" y="228600"/>
              <a:ext cx="2133720" cy="18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2"/>
            <a:srcRect l="13604" t="10164" r="8150" b="0"/>
            <a:stretch/>
          </p:blipFill>
          <p:spPr>
            <a:xfrm>
              <a:off x="6705720" y="4303800"/>
              <a:ext cx="2209680" cy="20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rcRect l="13368" t="7970" r="17827" b="12297"/>
            <a:stretch/>
          </p:blipFill>
          <p:spPr>
            <a:xfrm>
              <a:off x="6934320" y="2282760"/>
              <a:ext cx="1981080" cy="19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rcRect l="28627" t="0" r="27336" b="23745"/>
            <a:stretch/>
          </p:blipFill>
          <p:spPr>
            <a:xfrm>
              <a:off x="4915080" y="4343400"/>
              <a:ext cx="1523880" cy="17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rcRect l="14386" t="9332" r="10790" b="16062"/>
            <a:stretch/>
          </p:blipFill>
          <p:spPr>
            <a:xfrm>
              <a:off x="152280" y="2286000"/>
              <a:ext cx="19814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6"/>
            <a:srcRect l="21817" t="0" r="16367" b="0"/>
            <a:stretch/>
          </p:blipFill>
          <p:spPr>
            <a:xfrm>
              <a:off x="2743200" y="4343400"/>
              <a:ext cx="14446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7"/>
            <a:srcRect l="4569" t="0" r="0" b="0"/>
            <a:stretch/>
          </p:blipFill>
          <p:spPr>
            <a:xfrm>
              <a:off x="6781680" y="228600"/>
              <a:ext cx="221004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 txBox="1"/>
            <p:nvPr/>
          </p:nvSpPr>
          <p:spPr>
            <a:xfrm>
              <a:off x="1828800" y="304920"/>
              <a:ext cx="3286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1676520" y="3592440"/>
              <a:ext cx="3283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3809880" y="5638680"/>
              <a:ext cx="328680" cy="40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8534520" y="380880"/>
              <a:ext cx="328320" cy="40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6058080" y="4419720"/>
              <a:ext cx="3283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8534520" y="3730680"/>
              <a:ext cx="3283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8458200" y="5799240"/>
              <a:ext cx="3286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8"/>
            <a:srcRect l="16398" t="3835" r="14803" b="11749"/>
            <a:stretch/>
          </p:blipFill>
          <p:spPr>
            <a:xfrm>
              <a:off x="228600" y="4343400"/>
              <a:ext cx="1936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 txBox="1"/>
            <p:nvPr/>
          </p:nvSpPr>
          <p:spPr>
            <a:xfrm>
              <a:off x="1728720" y="4400640"/>
              <a:ext cx="3286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4120" y="28195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-banded Hairst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380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ian Hairst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6248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 Hairst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72736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al Hairst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6004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wards Hairst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0120" y="62737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ing Az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0199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Co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4572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ern-Tailed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52280" y="228600"/>
            <a:ext cx="8839440" cy="6095880"/>
            <a:chOff x="152280" y="228600"/>
            <a:chExt cx="8839440" cy="609588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rcRect l="0" t="10227" r="6317" b="13103"/>
            <a:stretch/>
          </p:blipFill>
          <p:spPr>
            <a:xfrm>
              <a:off x="152280" y="228600"/>
              <a:ext cx="2133720" cy="18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"/>
            <a:srcRect l="13604" t="10164" r="8150" b="0"/>
            <a:stretch/>
          </p:blipFill>
          <p:spPr>
            <a:xfrm>
              <a:off x="6705720" y="4303800"/>
              <a:ext cx="2209680" cy="20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"/>
            <a:srcRect l="13368" t="7970" r="17827" b="12297"/>
            <a:stretch/>
          </p:blipFill>
          <p:spPr>
            <a:xfrm>
              <a:off x="6934320" y="2282760"/>
              <a:ext cx="1981080" cy="19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4"/>
            <a:srcRect l="28627" t="0" r="27336" b="23745"/>
            <a:stretch/>
          </p:blipFill>
          <p:spPr>
            <a:xfrm>
              <a:off x="4915080" y="4343400"/>
              <a:ext cx="1523880" cy="17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5"/>
            <a:srcRect l="14386" t="9332" r="10790" b="16062"/>
            <a:stretch/>
          </p:blipFill>
          <p:spPr>
            <a:xfrm>
              <a:off x="152280" y="2286000"/>
              <a:ext cx="19814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6"/>
            <a:srcRect l="21817" t="0" r="16367" b="0"/>
            <a:stretch/>
          </p:blipFill>
          <p:spPr>
            <a:xfrm>
              <a:off x="2743200" y="4343400"/>
              <a:ext cx="14446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7"/>
            <a:srcRect l="4569" t="0" r="0" b="0"/>
            <a:stretch/>
          </p:blipFill>
          <p:spPr>
            <a:xfrm>
              <a:off x="6781680" y="228600"/>
              <a:ext cx="221004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1828800" y="304920"/>
              <a:ext cx="3286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1676520" y="3592440"/>
              <a:ext cx="3283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3809880" y="5638680"/>
              <a:ext cx="328680" cy="40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8534520" y="380880"/>
              <a:ext cx="328320" cy="40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6058080" y="4419720"/>
              <a:ext cx="3283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8534520" y="3730680"/>
              <a:ext cx="32832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8458200" y="5799240"/>
              <a:ext cx="3286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8"/>
            <a:srcRect l="16398" t="3835" r="14803" b="11749"/>
            <a:stretch/>
          </p:blipFill>
          <p:spPr>
            <a:xfrm>
              <a:off x="228600" y="4343400"/>
              <a:ext cx="1936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 txBox="1"/>
            <p:nvPr/>
          </p:nvSpPr>
          <p:spPr>
            <a:xfrm>
              <a:off x="1728720" y="4400640"/>
              <a:ext cx="328680" cy="39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048120" y="1812960"/>
            <a:ext cx="3047760" cy="3988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43:02Z</dcterms:created>
  <dc:creator>Tracy Trimpe</dc:creator>
  <dc:description/>
  <dc:language>en-US</dc:language>
  <cp:lastModifiedBy>Tracy Trimpe</cp:lastModifiedBy>
  <dcterms:modified xsi:type="dcterms:W3CDTF">2008-07-22T23:35:52Z</dcterms:modified>
  <cp:revision>197</cp:revision>
  <dc:subject/>
  <dc:title>Slide 1</dc:title>
</cp:coreProperties>
</file>