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100-80D1-4D5C-98F3-BDDAD42C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FFF-656B-446A-8BB6-7ED4FED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615-78CF-4D8B-B483-E20BE860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843-3CFA-4552-AC0D-B3E0A503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2B1-5DF2-413D-ACD4-664A4ED4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982-B994-4617-BC2D-8125116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731-82BE-402D-B319-AD732DE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06B-ACE5-4D7B-9D3C-5F4151C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030-A419-46DF-A5E5-6A37EBB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AFC-1B25-4A4D-9BC4-D864885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B00-1A49-4678-A709-A4ACA62B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FC1-F28A-4BF5-8AD7-9F69EC4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36E-8C1C-49B2-956E-E5DB28DC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4343400"/>
            <a:ext cx="297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atyr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oper Black"/>
              </a:rPr>
              <a:t>(Family Satyrin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90720" y="3124080"/>
            <a:ext cx="7934040" cy="3513240"/>
            <a:chOff x="990720" y="3124080"/>
            <a:chExt cx="7934040" cy="35132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124080" y="3962520"/>
              <a:ext cx="2971800" cy="26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rcRect l="0" t="4288" r="0" b="0"/>
            <a:stretch/>
          </p:blipFill>
          <p:spPr>
            <a:xfrm>
              <a:off x="5791320" y="3124080"/>
              <a:ext cx="31334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90720" y="4465800"/>
              <a:ext cx="144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ittle Wood Saty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00400" y="15228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3333960" cy="293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4572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Wood Ny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304920"/>
            <a:ext cx="7391160" cy="2847960"/>
            <a:chOff x="304920" y="304920"/>
            <a:chExt cx="7391160" cy="28479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333360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29000" y="3348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rthern Pearly-Ey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886200" y="1371600"/>
            <a:ext cx="4951440" cy="4019400"/>
            <a:chOff x="3886200" y="1371600"/>
            <a:chExt cx="4951440" cy="40194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rcRect l="1682" t="0" r="0" b="0"/>
            <a:stretch/>
          </p:blipFill>
          <p:spPr>
            <a:xfrm>
              <a:off x="5867280" y="1371600"/>
              <a:ext cx="297036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86200" y="2847960"/>
              <a:ext cx="2362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yed-Brow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3505320"/>
            <a:ext cx="7543800" cy="2943000"/>
            <a:chOff x="228600" y="3505320"/>
            <a:chExt cx="7543800" cy="29430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rcRect l="0" t="0" r="17999" b="0"/>
            <a:stretch/>
          </p:blipFill>
          <p:spPr>
            <a:xfrm>
              <a:off x="228600" y="3505320"/>
              <a:ext cx="3657600" cy="29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33920" y="579132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ppalachian Brow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133720" y="449568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ty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5400" b="0"/>
          <a:stretch/>
        </p:blipFill>
        <p:spPr>
          <a:xfrm>
            <a:off x="6324480" y="3429000"/>
            <a:ext cx="2667240" cy="253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24240" y="15228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074600"/>
            <a:ext cx="2666880" cy="227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1682" t="7148" r="0" b="19048"/>
          <a:stretch/>
        </p:blipFill>
        <p:spPr>
          <a:xfrm>
            <a:off x="3427560" y="4419720"/>
            <a:ext cx="236520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1802" t="0" r="17999" b="0"/>
          <a:stretch/>
        </p:blipFill>
        <p:spPr>
          <a:xfrm>
            <a:off x="225360" y="3429000"/>
            <a:ext cx="2683080" cy="2208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rcRect l="12726" t="7275" r="23638" b="12727"/>
          <a:stretch/>
        </p:blipFill>
        <p:spPr>
          <a:xfrm>
            <a:off x="6324480" y="83808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54400" y="23893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Wood Nymp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yed-Br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ern Pearly Ey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alachian Br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Wood Sat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90920" y="11430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90920" y="35053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29000" y="2286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10080" y="45720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77120" y="9907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77120" y="3581280"/>
            <a:ext cx="19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5400" b="0"/>
          <a:stretch/>
        </p:blipFill>
        <p:spPr>
          <a:xfrm>
            <a:off x="6324480" y="3429000"/>
            <a:ext cx="2667240" cy="25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24240" y="15228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" y="1074600"/>
            <a:ext cx="2666880" cy="227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1682" t="7148" r="0" b="19048"/>
          <a:stretch/>
        </p:blipFill>
        <p:spPr>
          <a:xfrm>
            <a:off x="3427560" y="4419720"/>
            <a:ext cx="2365200" cy="2361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rcRect l="1802" t="0" r="17999" b="0"/>
          <a:stretch/>
        </p:blipFill>
        <p:spPr>
          <a:xfrm>
            <a:off x="225360" y="3429000"/>
            <a:ext cx="2683080" cy="220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rcRect l="12726" t="7275" r="23638" b="12727"/>
          <a:stretch/>
        </p:blipFill>
        <p:spPr>
          <a:xfrm>
            <a:off x="6324480" y="83808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6920" y="60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ern Pearly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90920" y="11430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90920" y="35053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29000" y="2286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10080" y="45720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77120" y="9907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77120" y="3581280"/>
            <a:ext cx="19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65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362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Wood Ny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3962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yed-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5715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alachian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004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Wood Sat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124080"/>
            <a:ext cx="32767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27:59Z</dcterms:modified>
  <cp:revision>240</cp:revision>
  <dc:subject/>
  <dc:title>Slide 1</dc:title>
</cp:coreProperties>
</file>