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A54E-55EC-4952-872B-F5C83028B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A304-5AE7-4FFC-A9DD-745558D16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D025-793A-46B8-9965-28DF1B1FA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B96A-4EA9-4715-9D7F-F1D7A00F9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576F-DF94-4EFB-A2B3-46E435584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44E8-6FE5-4460-8EB6-B32BE47D7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DCB2-E415-4456-9A4E-28BE4CE59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AEB5-D508-4997-AAFA-ED5CE9935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F2CA-C2DD-4048-AE0A-95AB7DE88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BA78-D313-4CC3-AA23-F64F6B09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DA82-99BD-4720-ADD2-64995C88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5204-ECC8-449E-9239-764AA362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7260B-34F5-41F7-858B-D16E880A0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001000" cy="62481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904760" y="5791320"/>
            <a:ext cx="5181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entation created by Tracy Trim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Science Spot - http://sciencespot.ne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362320" y="380880"/>
            <a:ext cx="4038480" cy="609840"/>
            <a:chOff x="2362320" y="380880"/>
            <a:chExt cx="4038480" cy="609840"/>
          </a:xfrm>
        </p:grpSpPr>
        <p:sp>
          <p:nvSpPr>
            <p:cNvPr id="44" name=""/>
            <p:cNvSpPr txBox="1"/>
            <p:nvPr/>
          </p:nvSpPr>
          <p:spPr>
            <a:xfrm>
              <a:off x="3354120" y="491040"/>
              <a:ext cx="3046680" cy="440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oper Black"/>
                </a:rPr>
                <a:t>Butterfly Brigade</a:t>
              </a:r>
              <a:endPara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  <a:ea typeface="Cooper Black"/>
              </a:endParaRPr>
            </a:p>
          </p:txBody>
        </p:sp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2362320" y="380880"/>
              <a:ext cx="920880" cy="60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"/>
          <p:cNvSpPr/>
          <p:nvPr/>
        </p:nvSpPr>
        <p:spPr>
          <a:xfrm>
            <a:off x="228600" y="65088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mages from http://www.bfly.org/galleries.html unless otherwise no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 rot="2627400">
            <a:off x="2285640" y="4200480"/>
            <a:ext cx="1803240" cy="1590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2133720" y="1219320"/>
            <a:ext cx="4752720" cy="2765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038480" y="4343400"/>
            <a:ext cx="2971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Satyrs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Cooper Black"/>
              </a:rPr>
              <a:t>(Family Satyrina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90720" y="3124080"/>
            <a:ext cx="7934040" cy="3513240"/>
            <a:chOff x="990720" y="3124080"/>
            <a:chExt cx="7934040" cy="351324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3124080" y="3962520"/>
              <a:ext cx="2971800" cy="267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2"/>
            <a:srcRect l="0" t="4288" r="0" b="0"/>
            <a:stretch/>
          </p:blipFill>
          <p:spPr>
            <a:xfrm>
              <a:off x="5791320" y="3124080"/>
              <a:ext cx="3133440" cy="319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990720" y="4465800"/>
              <a:ext cx="14475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Little Wood Saty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200400" y="152280"/>
            <a:ext cx="3333600" cy="2743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380880" y="609480"/>
            <a:ext cx="3333960" cy="2934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629400" y="457200"/>
            <a:ext cx="2209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mon Wood Nym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304920" y="304920"/>
            <a:ext cx="7391160" cy="2847960"/>
            <a:chOff x="304920" y="304920"/>
            <a:chExt cx="7391160" cy="2847960"/>
          </a:xfrm>
        </p:grpSpPr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304920" y="304920"/>
              <a:ext cx="3333600" cy="28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3429000" y="334800"/>
              <a:ext cx="426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Northern Pearly-Ey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3886200" y="1371600"/>
            <a:ext cx="4951440" cy="4019400"/>
            <a:chOff x="3886200" y="1371600"/>
            <a:chExt cx="4951440" cy="4019400"/>
          </a:xfrm>
        </p:grpSpPr>
        <p:pic>
          <p:nvPicPr>
            <p:cNvPr id="61" name="" descr=""/>
            <p:cNvPicPr/>
            <p:nvPr/>
          </p:nvPicPr>
          <p:blipFill>
            <a:blip r:embed="rId2"/>
            <a:srcRect l="1682" t="0" r="0" b="0"/>
            <a:stretch/>
          </p:blipFill>
          <p:spPr>
            <a:xfrm>
              <a:off x="5867280" y="1371600"/>
              <a:ext cx="2970360" cy="401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3886200" y="2847960"/>
              <a:ext cx="23623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yed-Brow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228600" y="3505320"/>
            <a:ext cx="7543800" cy="2943000"/>
            <a:chOff x="228600" y="3505320"/>
            <a:chExt cx="7543800" cy="2943000"/>
          </a:xfrm>
        </p:grpSpPr>
        <p:pic>
          <p:nvPicPr>
            <p:cNvPr id="64" name="" descr=""/>
            <p:cNvPicPr/>
            <p:nvPr/>
          </p:nvPicPr>
          <p:blipFill>
            <a:blip r:embed="rId3"/>
            <a:srcRect l="0" t="0" r="17999" b="0"/>
            <a:stretch/>
          </p:blipFill>
          <p:spPr>
            <a:xfrm>
              <a:off x="228600" y="3505320"/>
              <a:ext cx="3657600" cy="29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733920" y="5791320"/>
              <a:ext cx="4038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ppalachian Brow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001000" cy="6248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2133720" y="4495680"/>
            <a:ext cx="464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atyr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 Butterflie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- 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038480" y="609480"/>
            <a:ext cx="2590920" cy="21970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2438280" y="2133720"/>
            <a:ext cx="419112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6600"/>
                </a:solidFill>
                <a:latin typeface="Cooper Black"/>
              </a:rPr>
              <a:t>Quiz Tim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6600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0" t="0" r="5400" b="0"/>
          <a:stretch/>
        </p:blipFill>
        <p:spPr>
          <a:xfrm>
            <a:off x="6324480" y="3429000"/>
            <a:ext cx="2667240" cy="2538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324240" y="152280"/>
            <a:ext cx="2571840" cy="2116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228600" y="1074600"/>
            <a:ext cx="2666880" cy="2278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rcRect l="1682" t="7148" r="0" b="19048"/>
          <a:stretch/>
        </p:blipFill>
        <p:spPr>
          <a:xfrm>
            <a:off x="3427560" y="4419720"/>
            <a:ext cx="2365200" cy="23619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rcRect l="1802" t="0" r="17999" b="0"/>
          <a:stretch/>
        </p:blipFill>
        <p:spPr>
          <a:xfrm>
            <a:off x="225360" y="3429000"/>
            <a:ext cx="2683080" cy="22082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rcRect l="12726" t="7275" r="23638" b="12727"/>
          <a:stretch/>
        </p:blipFill>
        <p:spPr>
          <a:xfrm>
            <a:off x="6324480" y="838080"/>
            <a:ext cx="2667240" cy="25146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254400" y="2389320"/>
            <a:ext cx="2743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n Wood Nymp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yed-Brow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thern Pearly Ey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ckber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alachian Brow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ttle Wood Saty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590920" y="1143000"/>
            <a:ext cx="199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590920" y="3505320"/>
            <a:ext cx="199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429000" y="228600"/>
            <a:ext cx="200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410080" y="4572000"/>
            <a:ext cx="200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477120" y="990720"/>
            <a:ext cx="199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477120" y="3581280"/>
            <a:ext cx="1998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3" name=""/>
          <p:cNvSpPr/>
          <p:nvPr/>
        </p:nvSpPr>
        <p:spPr>
          <a:xfrm>
            <a:off x="0" y="3049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dentify each butterf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rcRect l="0" t="0" r="5400" b="0"/>
          <a:stretch/>
        </p:blipFill>
        <p:spPr>
          <a:xfrm>
            <a:off x="6324480" y="3429000"/>
            <a:ext cx="2667240" cy="25383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324240" y="152280"/>
            <a:ext cx="2571840" cy="21160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228600" y="1074600"/>
            <a:ext cx="2666880" cy="22780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rcRect l="1682" t="7148" r="0" b="19048"/>
          <a:stretch/>
        </p:blipFill>
        <p:spPr>
          <a:xfrm>
            <a:off x="3427560" y="4419720"/>
            <a:ext cx="2365200" cy="2361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rcRect l="1802" t="0" r="17999" b="0"/>
          <a:stretch/>
        </p:blipFill>
        <p:spPr>
          <a:xfrm>
            <a:off x="225360" y="3429000"/>
            <a:ext cx="2683080" cy="22082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rcRect l="12726" t="7275" r="23638" b="12727"/>
          <a:stretch/>
        </p:blipFill>
        <p:spPr>
          <a:xfrm>
            <a:off x="6324480" y="838080"/>
            <a:ext cx="2667240" cy="25146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96920" y="6094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thern Pearly E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590920" y="1143000"/>
            <a:ext cx="199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590920" y="3505320"/>
            <a:ext cx="199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429000" y="228600"/>
            <a:ext cx="200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410080" y="4572000"/>
            <a:ext cx="200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477120" y="990720"/>
            <a:ext cx="199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477120" y="3581280"/>
            <a:ext cx="1998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7" name=""/>
          <p:cNvSpPr/>
          <p:nvPr/>
        </p:nvSpPr>
        <p:spPr>
          <a:xfrm>
            <a:off x="6248520" y="3650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ckber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76720" y="23623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n Wood Nym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00400" y="39625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yed-Br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57150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alachian Br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60040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ttle Wood Saty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971800" y="3124080"/>
            <a:ext cx="3276720" cy="45972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9T16:43:02Z</dcterms:created>
  <dc:creator>Tracy Trimpe</dc:creator>
  <dc:description/>
  <dc:language>en-US</dc:language>
  <cp:lastModifiedBy>Tracy Trimpe</cp:lastModifiedBy>
  <dcterms:modified xsi:type="dcterms:W3CDTF">2008-07-22T23:27:59Z</dcterms:modified>
  <cp:revision>240</cp:revision>
  <dc:subject/>
  <dc:title>Slide 1</dc:title>
</cp:coreProperties>
</file>