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3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7E79-1964-47E8-8937-D079FFCE8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65CD-AF88-45DF-AFAC-A02BE132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F061-5CBD-4872-971B-D5A338C3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2B59-842C-4290-A2F2-8243E097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A3CE-5BFD-4CEA-9023-3CFA691A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5FEA-DC54-4048-A759-2C56041B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C1E4-75E2-49FF-A76C-0B7C63D2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E972-FA7C-4BA4-B61C-0E573ABE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80E3-14C5-469E-9BB8-8335245B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EAD5-5B6F-4B8D-A7B0-4D65BBC9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E514-84F3-4282-91C1-AF9CA8DA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E7A1-25A5-4F12-A0E7-C6895C1C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CB38-8120-4866-AC8B-48B27D2E9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22.png"/><Relationship Id="rId4" Type="http://schemas.openxmlformats.org/officeDocument/2006/relationships/image" Target="../media/image17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22.png"/><Relationship Id="rId4" Type="http://schemas.openxmlformats.org/officeDocument/2006/relationships/image" Target="../media/image17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01000" cy="6324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904760" y="57146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ation created by Tracy Trim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cience Spot - http://sciencespot.ne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362320" y="380880"/>
            <a:ext cx="4038480" cy="609840"/>
            <a:chOff x="2362320" y="380880"/>
            <a:chExt cx="4038480" cy="609840"/>
          </a:xfrm>
        </p:grpSpPr>
        <p:sp>
          <p:nvSpPr>
            <p:cNvPr id="44" name=""/>
            <p:cNvSpPr txBox="1"/>
            <p:nvPr/>
          </p:nvSpPr>
          <p:spPr>
            <a:xfrm>
              <a:off x="3354120" y="491040"/>
              <a:ext cx="3046680" cy="440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oper Black"/>
                </a:rPr>
                <a:t>Butterfly Brigade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  <a:ea typeface="Cooper Black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2362320" y="380880"/>
              <a:ext cx="92088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/>
          <p:cNvSpPr/>
          <p:nvPr/>
        </p:nvSpPr>
        <p:spPr>
          <a:xfrm>
            <a:off x="228600" y="65530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mages from http://www.bfly.org/galleries.html unless otherwise no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133720" y="1447920"/>
            <a:ext cx="4752720" cy="4698360"/>
            <a:chOff x="2133720" y="1447920"/>
            <a:chExt cx="4752720" cy="469836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 rot="1999800">
              <a:off x="3581280" y="4191120"/>
              <a:ext cx="1803600" cy="159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2133720" y="1447920"/>
              <a:ext cx="4752720" cy="2765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800600" y="2286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stern Com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434340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ce the white “comma” mark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edge pattern of 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3333600" cy="2523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3333960" cy="293364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5114880" y="914400"/>
            <a:ext cx="2495520" cy="3333600"/>
            <a:chOff x="5114880" y="914400"/>
            <a:chExt cx="2495520" cy="333360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5114880" y="914400"/>
              <a:ext cx="2495520" cy="33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V="1">
              <a:off x="6257880" y="3047760"/>
              <a:ext cx="0" cy="9144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523520" y="6613560"/>
            <a:ext cx="562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terpillar: http://www.discoverlife.org/IM/I_DLW/0001/320/Polygonia_comma,_larva,I_DLW145_1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rcRect l="0" t="13441" r="0" b="19892"/>
          <a:stretch/>
        </p:blipFill>
        <p:spPr>
          <a:xfrm>
            <a:off x="4495680" y="5029200"/>
            <a:ext cx="3733920" cy="1446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257800" y="2057400"/>
            <a:ext cx="5335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0" y="3200400"/>
            <a:ext cx="4038480" cy="3162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3943440" cy="3943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181480" y="4572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y Com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67652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ce the white “comma” mark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edge pattern of 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2819160" y="2895120"/>
            <a:ext cx="228600" cy="228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1560" y="6477120"/>
            <a:ext cx="492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terpillar: http://pick5.pick.uga.edu/mp/20q?search=Polygonia+progne&amp;guide=Caterpill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762120" y="4267080"/>
            <a:ext cx="3047760" cy="1886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H="1">
            <a:off x="3352680" y="2057400"/>
            <a:ext cx="6098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2120" y="3808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Ma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417528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ce the white “comma” mark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ith a small d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edge pattern of 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114880" y="3429000"/>
            <a:ext cx="3333960" cy="2924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3352680" cy="2627280"/>
          </a:xfrm>
          <a:prstGeom prst="rect">
            <a:avLst/>
          </a:prstGeom>
          <a:ln w="0">
            <a:noFill/>
          </a:ln>
        </p:spPr>
      </p:pic>
      <p:grpSp>
        <p:nvGrpSpPr>
          <p:cNvPr id="72" name=""/>
          <p:cNvGrpSpPr/>
          <p:nvPr/>
        </p:nvGrpSpPr>
        <p:grpSpPr>
          <a:xfrm>
            <a:off x="723960" y="990720"/>
            <a:ext cx="3963960" cy="3047400"/>
            <a:chOff x="723960" y="990720"/>
            <a:chExt cx="3963960" cy="3047400"/>
          </a:xfrm>
        </p:grpSpPr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723960" y="990720"/>
              <a:ext cx="3333960" cy="27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 flipV="1">
              <a:off x="2086200" y="2590200"/>
              <a:ext cx="0" cy="914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" descr=""/>
            <p:cNvPicPr/>
            <p:nvPr/>
          </p:nvPicPr>
          <p:blipFill>
            <a:blip r:embed="rId4"/>
            <a:srcRect l="32001" t="35997" r="45145" b="33564"/>
            <a:stretch/>
          </p:blipFill>
          <p:spPr>
            <a:xfrm>
              <a:off x="3372120" y="2590560"/>
              <a:ext cx="1315800" cy="14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 flipV="1">
              <a:off x="2076480" y="3352680"/>
              <a:ext cx="1600200" cy="151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28600" y="6477120"/>
            <a:ext cx="396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terpillar: http://www.thebutterflysite.com/create-butterfly-garden.s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rcRect l="0" t="19653" r="0" b="5865"/>
          <a:stretch/>
        </p:blipFill>
        <p:spPr>
          <a:xfrm>
            <a:off x="1143000" y="4952880"/>
            <a:ext cx="23623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2400" r="5602" b="0"/>
          <a:stretch/>
        </p:blipFill>
        <p:spPr>
          <a:xfrm>
            <a:off x="228600" y="457200"/>
            <a:ext cx="4495680" cy="3105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rcRect l="8700" t="13743" r="0" b="0"/>
          <a:stretch/>
        </p:blipFill>
        <p:spPr>
          <a:xfrm>
            <a:off x="4876920" y="2286000"/>
            <a:ext cx="4000320" cy="4305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838080" y="3886200"/>
            <a:ext cx="3333960" cy="25052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105520" y="4572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erican Sn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95720" y="158436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s a snout-like head 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124080" y="22860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04920" y="3352680"/>
            <a:ext cx="4190760" cy="31435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4920" y="6858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ckbe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1676520"/>
            <a:ext cx="289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a row of small eyespots on undersid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hind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802480" y="4659480"/>
            <a:ext cx="1790640" cy="1647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420080" y="6477120"/>
            <a:ext cx="453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terpillar: http://www.oznet.ksu.edu/johnson/hort/Butterfly/HackberryButterfly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01000" cy="6248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286000" y="51814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 Butterfli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- 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038480" y="609480"/>
            <a:ext cx="2590920" cy="2197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2438280" y="2133720"/>
            <a:ext cx="41911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6600"/>
                </a:solidFill>
                <a:latin typeface="Cooper Black"/>
              </a:rPr>
              <a:t>Quiz Tim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6600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2853000" cy="3809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rcRect l="13533" t="0" r="13047" b="5314"/>
          <a:stretch/>
        </p:blipFill>
        <p:spPr>
          <a:xfrm>
            <a:off x="6095880" y="2895480"/>
            <a:ext cx="2895840" cy="3733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rcRect l="8306" t="0" r="0" b="0"/>
          <a:stretch/>
        </p:blipFill>
        <p:spPr>
          <a:xfrm>
            <a:off x="3343320" y="3124080"/>
            <a:ext cx="2523960" cy="3333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rcRect l="8700" t="20026" r="16522" b="12978"/>
          <a:stretch/>
        </p:blipFill>
        <p:spPr>
          <a:xfrm>
            <a:off x="6400800" y="228600"/>
            <a:ext cx="2389320" cy="2438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429000" y="457200"/>
            <a:ext cx="23623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ick Quiz 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tern Comm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y Comm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rican Snou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stion Mar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ckber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5"/>
          <a:srcRect l="23638" t="7275" r="12726" b="12727"/>
          <a:stretch/>
        </p:blipFill>
        <p:spPr>
          <a:xfrm>
            <a:off x="228600" y="152280"/>
            <a:ext cx="2666880" cy="2514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590920" y="304920"/>
            <a:ext cx="199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553080" y="304920"/>
            <a:ext cx="200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520" y="2971800"/>
            <a:ext cx="199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486400" y="3200400"/>
            <a:ext cx="200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534520" y="3048120"/>
            <a:ext cx="199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2853000" cy="3498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rcRect l="13533" t="0" r="13047" b="5314"/>
          <a:stretch/>
        </p:blipFill>
        <p:spPr>
          <a:xfrm>
            <a:off x="6095880" y="2895480"/>
            <a:ext cx="2895840" cy="3429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rcRect l="8306" t="0" r="0" b="0"/>
          <a:stretch/>
        </p:blipFill>
        <p:spPr>
          <a:xfrm>
            <a:off x="3343320" y="3124080"/>
            <a:ext cx="2523960" cy="3333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rcRect l="8700" t="20026" r="16522" b="12978"/>
          <a:stretch/>
        </p:blipFill>
        <p:spPr>
          <a:xfrm>
            <a:off x="6400800" y="228600"/>
            <a:ext cx="2389320" cy="2438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63244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tern Co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rcRect l="23638" t="7275" r="12726" b="12727"/>
          <a:stretch/>
        </p:blipFill>
        <p:spPr>
          <a:xfrm>
            <a:off x="228600" y="152280"/>
            <a:ext cx="2666880" cy="2514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2590920" y="304920"/>
            <a:ext cx="199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629400" y="380880"/>
            <a:ext cx="2001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2971800"/>
            <a:ext cx="199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486400" y="3200400"/>
            <a:ext cx="200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34520" y="3048120"/>
            <a:ext cx="199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6094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ckber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63244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y Co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65104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stion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14479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rican Sn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16:43:02Z</dcterms:created>
  <dc:creator>Tracy Trimpe</dc:creator>
  <dc:description/>
  <dc:language>en-US</dc:language>
  <cp:lastModifiedBy>Tracy Trimpe</cp:lastModifiedBy>
  <dcterms:modified xsi:type="dcterms:W3CDTF">2008-07-23T00:01:50Z</dcterms:modified>
  <cp:revision>232</cp:revision>
  <dc:subject/>
  <dc:title>Slide 1</dc:title>
</cp:coreProperties>
</file>