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5EE-B2C5-4626-A996-7048C6E0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DC6-B3D1-4EC0-AD61-B9A993A4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53D-FE04-4893-85CD-2537CF25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993-A159-496F-8489-7AD0F7A1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C1E-E37A-4DC9-8882-E1EBC546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E89-6B6C-4D17-92D5-58EA0746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4E1-03C4-404A-BEB2-EA80C065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219-0E2B-4599-A8BF-3AEB1014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B94-7770-4384-A86F-6553BCC4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9BE-FCFD-498C-8387-4333A211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8FC-77C0-41F8-83D9-A5897C32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CCA-0DE3-473D-81CE-C240DA04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919A-BCF1-4343-927B-E43D39200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22.png"/><Relationship Id="rId4" Type="http://schemas.openxmlformats.org/officeDocument/2006/relationships/image" Target="../media/image1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22.png"/><Relationship Id="rId4" Type="http://schemas.openxmlformats.org/officeDocument/2006/relationships/image" Target="../media/image1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32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53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133720" y="1447920"/>
            <a:ext cx="4752720" cy="4698360"/>
            <a:chOff x="2133720" y="1447920"/>
            <a:chExt cx="4752720" cy="469836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 rot="1999800">
              <a:off x="3581280" y="4191120"/>
              <a:ext cx="1803600" cy="15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2133720" y="1447920"/>
              <a:ext cx="4752720" cy="27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00600" y="228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stern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43434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e white “comma” mar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dge pattern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333600" cy="252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333960" cy="29336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5114880" y="914400"/>
            <a:ext cx="2495520" cy="3333600"/>
            <a:chOff x="5114880" y="914400"/>
            <a:chExt cx="2495520" cy="333360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5114880" y="914400"/>
              <a:ext cx="249552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V="1">
              <a:off x="6257880" y="3047760"/>
              <a:ext cx="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523520" y="6613560"/>
            <a:ext cx="56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discoverlife.org/IM/I_DLW/0001/320/Polygonia_comma,_larva,I_DLW145_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rcRect l="0" t="13441" r="0" b="19892"/>
          <a:stretch/>
        </p:blipFill>
        <p:spPr>
          <a:xfrm>
            <a:off x="4495680" y="5029200"/>
            <a:ext cx="3733920" cy="1446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57800" y="2057400"/>
            <a:ext cx="533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038480" cy="3162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3943440" cy="3943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81480" y="457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y Co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67652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e white “comma” mar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edge pattern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819160" y="2895120"/>
            <a:ext cx="22860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1560" y="6477120"/>
            <a:ext cx="492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pick5.pick.uga.edu/mp/20q?search=Polygonia+progne&amp;guide=Caterpil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3047760" cy="1886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3352680" y="205740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380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Ma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1752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e white “comma” mark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ith a small d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edge pattern of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14880" y="3429000"/>
            <a:ext cx="3333960" cy="2924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3352680" cy="262728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723960" y="990720"/>
            <a:ext cx="3963960" cy="3047400"/>
            <a:chOff x="723960" y="990720"/>
            <a:chExt cx="3963960" cy="3047400"/>
          </a:xfrm>
        </p:grpSpPr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723960" y="990720"/>
              <a:ext cx="3333960" cy="27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2086200" y="2590200"/>
              <a:ext cx="0" cy="91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4"/>
            <a:srcRect l="32001" t="35997" r="45145" b="33564"/>
            <a:stretch/>
          </p:blipFill>
          <p:spPr>
            <a:xfrm>
              <a:off x="3372120" y="2590560"/>
              <a:ext cx="131580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flipV="1">
              <a:off x="2076480" y="3352680"/>
              <a:ext cx="1600200" cy="151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28600" y="647712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thebutterflysite.com/create-butterfly-garden.s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rcRect l="0" t="19653" r="0" b="5865"/>
          <a:stretch/>
        </p:blipFill>
        <p:spPr>
          <a:xfrm>
            <a:off x="1143000" y="4952880"/>
            <a:ext cx="2362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2400" r="5602" b="0"/>
          <a:stretch/>
        </p:blipFill>
        <p:spPr>
          <a:xfrm>
            <a:off x="228600" y="457200"/>
            <a:ext cx="4495680" cy="310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rcRect l="8700" t="13743" r="0" b="0"/>
          <a:stretch/>
        </p:blipFill>
        <p:spPr>
          <a:xfrm>
            <a:off x="4876920" y="2286000"/>
            <a:ext cx="4000320" cy="4305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3333960" cy="2505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05520" y="457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n S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95720" y="15843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s a snout-like head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685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167652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a row of small eyespots on undersi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ind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802480" y="4659480"/>
            <a:ext cx="1790640" cy="16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0080" y="6477120"/>
            <a:ext cx="45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terpillar: http://www.oznet.ksu.edu/johnson/hort/Butterfly/HackberryButterfly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286000" y="51814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285300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13533" t="0" r="13047" b="5314"/>
          <a:stretch/>
        </p:blipFill>
        <p:spPr>
          <a:xfrm>
            <a:off x="6095880" y="2895480"/>
            <a:ext cx="2895840" cy="3733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8306" t="0" r="0" b="0"/>
          <a:stretch/>
        </p:blipFill>
        <p:spPr>
          <a:xfrm>
            <a:off x="3343320" y="3124080"/>
            <a:ext cx="2523960" cy="3333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rcRect l="8700" t="20026" r="16522" b="12978"/>
          <a:stretch/>
        </p:blipFill>
        <p:spPr>
          <a:xfrm>
            <a:off x="6400800" y="228600"/>
            <a:ext cx="238932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29000" y="457200"/>
            <a:ext cx="23623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Quiz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ern Com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 Comm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Sn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 Ma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rcRect l="23638" t="7275" r="12726" b="12727"/>
          <a:stretch/>
        </p:blipFill>
        <p:spPr>
          <a:xfrm>
            <a:off x="228600" y="1522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590920" y="3049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30492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297180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86400" y="32004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534520" y="30481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2853000" cy="349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13533" t="0" r="13047" b="5314"/>
          <a:stretch/>
        </p:blipFill>
        <p:spPr>
          <a:xfrm>
            <a:off x="6095880" y="2895480"/>
            <a:ext cx="289584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8306" t="0" r="0" b="0"/>
          <a:stretch/>
        </p:blipFill>
        <p:spPr>
          <a:xfrm>
            <a:off x="3343320" y="3124080"/>
            <a:ext cx="2523960" cy="3333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8700" t="20026" r="16522" b="12978"/>
          <a:stretch/>
        </p:blipFill>
        <p:spPr>
          <a:xfrm>
            <a:off x="6400800" y="228600"/>
            <a:ext cx="238932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6324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ern Co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3638" t="7275" r="12726" b="12727"/>
          <a:stretch/>
        </p:blipFill>
        <p:spPr>
          <a:xfrm>
            <a:off x="228600" y="1522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590920" y="3049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29400" y="380880"/>
            <a:ext cx="200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297180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86400" y="32004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34520" y="30481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609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6324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 Co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6510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ion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1447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S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3T00:01:50Z</dcterms:modified>
  <cp:revision>232</cp:revision>
  <dc:subject/>
  <dc:title>Slide 1</dc:title>
</cp:coreProperties>
</file>