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73C-2E15-4760-A2D7-265276F7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19F-0C2B-45D8-9DA9-4B48A60E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5CB-18EC-4A78-8DCA-8CE020C2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689-FBFE-4284-AC53-1548914D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D80-F1CC-42D3-8C72-C97D22E0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793-7C6B-418E-9A88-FFC810F5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D06-3BC5-4042-B220-5E5A85E8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C4B-9F1E-4C27-8F0A-96D056A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EA0-B925-4EE8-AB49-1D88529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721-E573-47EB-BF2D-79430CAD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079-20E0-4790-8AD9-4B7AA4B2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784-4C79-4807-BE45-3A87AFF8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1C50-1818-44DE-A485-2D77F834B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267080"/>
            <a:ext cx="2971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rushfoo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rt #2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oper Black"/>
              </a:rPr>
              <a:t>(Family Nymphali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33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 Admi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257800"/>
            <a:ext cx="426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ed or orange band on upp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yespots on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14800" cy="4032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609480"/>
            <a:ext cx="3657600" cy="4572000"/>
            <a:chOff x="533520" y="609480"/>
            <a:chExt cx="3657600" cy="45720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33520" y="609480"/>
              <a:ext cx="36576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1727280" y="1104840"/>
              <a:ext cx="76320" cy="762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38040" y="6400800"/>
            <a:ext cx="446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chias.org/online/thebutterflylab/fieldguide/nat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78440" y="4724280"/>
            <a:ext cx="33336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15000" y="6094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urn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1905120"/>
            <a:ext cx="3352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, light band 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ouflaged und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8920" cy="3819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6858" t="27543" r="0" b="0"/>
          <a:stretch/>
        </p:blipFill>
        <p:spPr>
          <a:xfrm>
            <a:off x="990720" y="4495680"/>
            <a:ext cx="310500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19720" y="762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-Spotted 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96524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swallowtail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no “tai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&amp; blue color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op, red spo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nd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333600" cy="2638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1165" r="0" b="0"/>
          <a:stretch/>
        </p:blipFill>
        <p:spPr>
          <a:xfrm>
            <a:off x="2743200" y="1828800"/>
            <a:ext cx="3333600" cy="323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8040" y="640080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rcRect l="8766" t="0" r="0" b="32614"/>
          <a:stretch/>
        </p:blipFill>
        <p:spPr>
          <a:xfrm>
            <a:off x="723960" y="4889520"/>
            <a:ext cx="3100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5257800" y="3962520"/>
            <a:ext cx="3333600" cy="2428920"/>
            <a:chOff x="5257800" y="3962520"/>
            <a:chExt cx="3333600" cy="24289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257800" y="3962520"/>
              <a:ext cx="333360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flipH="1" flipV="1">
              <a:off x="7518240" y="5511960"/>
              <a:ext cx="60912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33360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4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ce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809880"/>
            <a:ext cx="426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ic of the monarch, but is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black line on the hind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6976" t="6858" r="0" b="0"/>
          <a:stretch/>
        </p:blipFill>
        <p:spPr>
          <a:xfrm>
            <a:off x="3765600" y="717480"/>
            <a:ext cx="3048120" cy="31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6248520"/>
            <a:ext cx="39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17396" t="27141" r="15219" b="17343"/>
          <a:stretch/>
        </p:blipFill>
        <p:spPr>
          <a:xfrm>
            <a:off x="1562040" y="4800600"/>
            <a:ext cx="2362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05240" cy="3333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019600" cy="33336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200400" y="533520"/>
            <a:ext cx="3352680" cy="2913480"/>
            <a:chOff x="3200400" y="533520"/>
            <a:chExt cx="3352680" cy="2913480"/>
          </a:xfrm>
        </p:grpSpPr>
        <p:grpSp>
          <p:nvGrpSpPr>
            <p:cNvPr id="82" name=""/>
            <p:cNvGrpSpPr/>
            <p:nvPr/>
          </p:nvGrpSpPr>
          <p:grpSpPr>
            <a:xfrm>
              <a:off x="3200400" y="533520"/>
              <a:ext cx="3352680" cy="2913480"/>
              <a:chOff x="3200400" y="533520"/>
              <a:chExt cx="3352680" cy="2913480"/>
            </a:xfrm>
          </p:grpSpPr>
          <p:pic>
            <p:nvPicPr>
              <p:cNvPr id="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533520"/>
                <a:ext cx="3333600" cy="20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3200400" y="2743200"/>
                <a:ext cx="335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les have two scent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tches on hindwing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5029200" y="1981080"/>
              <a:ext cx="15228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4"/>
          <a:srcRect l="19198" t="16976" r="6137" b="0"/>
          <a:stretch/>
        </p:blipFill>
        <p:spPr>
          <a:xfrm>
            <a:off x="304920" y="3733920"/>
            <a:ext cx="2666880" cy="260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0" y="6400800"/>
            <a:ext cx="335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erpillar: http://www.mlmp.org/art/k_durb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572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7760" y="4038480"/>
            <a:ext cx="4334760" cy="2683080"/>
            <a:chOff x="4577760" y="4038480"/>
            <a:chExt cx="4334760" cy="26830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5334120" y="4038480"/>
              <a:ext cx="333360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flipH="1" flipV="1">
              <a:off x="6857640" y="5943600"/>
              <a:ext cx="68580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0080" y="4114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cero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34120" y="6248160"/>
              <a:ext cx="38088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86320" y="6445080"/>
              <a:ext cx="172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ack lines on hindw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7760" y="64450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fferent white marks on ed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5105520"/>
            <a:ext cx="2286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ubfamily Danaina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28353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304920"/>
            <a:ext cx="2514600" cy="1639800"/>
            <a:chOff x="304920" y="304920"/>
            <a:chExt cx="2514600" cy="16398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7549" t="13058" r="5659" b="8651"/>
            <a:stretch/>
          </p:blipFill>
          <p:spPr>
            <a:xfrm>
              <a:off x="30492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457200" y="3808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248520" y="228600"/>
            <a:ext cx="2666880" cy="1774800"/>
            <a:chOff x="6248520" y="228600"/>
            <a:chExt cx="2666880" cy="17748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248520" y="228600"/>
              <a:ext cx="26668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6324480" y="304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124080" y="3124080"/>
            <a:ext cx="2666880" cy="2743200"/>
            <a:chOff x="3124080" y="3124080"/>
            <a:chExt cx="2666880" cy="274320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rcRect l="6976" t="6858" r="11624" b="10854"/>
            <a:stretch/>
          </p:blipFill>
          <p:spPr>
            <a:xfrm>
              <a:off x="3124080" y="3124080"/>
              <a:ext cx="26668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3276360" y="54100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280" y="4495680"/>
            <a:ext cx="2743200" cy="2057400"/>
            <a:chOff x="152280" y="4495680"/>
            <a:chExt cx="2743200" cy="205740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rcRect l="0" t="3638" r="0" b="30910"/>
            <a:stretch/>
          </p:blipFill>
          <p:spPr>
            <a:xfrm>
              <a:off x="152280" y="4495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228600" y="464832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95880" y="4464000"/>
            <a:ext cx="2819520" cy="2152800"/>
            <a:chOff x="6095880" y="4464000"/>
            <a:chExt cx="2819520" cy="2152800"/>
          </a:xfrm>
        </p:grpSpPr>
        <p:pic>
          <p:nvPicPr>
            <p:cNvPr id="115" name="" descr=""/>
            <p:cNvPicPr/>
            <p:nvPr/>
          </p:nvPicPr>
          <p:blipFill>
            <a:blip r:embed="rId5"/>
            <a:srcRect l="9075" t="5984" r="7753" b="10225"/>
            <a:stretch/>
          </p:blipFill>
          <p:spPr>
            <a:xfrm>
              <a:off x="6095880" y="4464000"/>
              <a:ext cx="28195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8534520" y="4648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71800" y="990720"/>
            <a:ext cx="2971800" cy="1909800"/>
            <a:chOff x="2971800" y="990720"/>
            <a:chExt cx="2971800" cy="1909800"/>
          </a:xfrm>
        </p:grpSpPr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2971800" y="990720"/>
              <a:ext cx="29718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 txBox="1"/>
            <p:nvPr/>
          </p:nvSpPr>
          <p:spPr>
            <a:xfrm>
              <a:off x="3200400" y="2362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95880" y="228600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ero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rning Clo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Admir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Spotted Pur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04920" y="304920"/>
            <a:ext cx="2514600" cy="1639800"/>
            <a:chOff x="304920" y="304920"/>
            <a:chExt cx="2514600" cy="163980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7549" t="13058" r="5659" b="8651"/>
            <a:stretch/>
          </p:blipFill>
          <p:spPr>
            <a:xfrm>
              <a:off x="30492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457200" y="3808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8120" y="5943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e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022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Adm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rning Cl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057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Spotted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981080"/>
            <a:ext cx="281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22640" y="1112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228600"/>
            <a:ext cx="2666880" cy="1774800"/>
            <a:chOff x="6248520" y="228600"/>
            <a:chExt cx="2666880" cy="17748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248520" y="228600"/>
              <a:ext cx="26668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6324480" y="304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124080" y="3124080"/>
            <a:ext cx="2666880" cy="2743200"/>
            <a:chOff x="3124080" y="3124080"/>
            <a:chExt cx="2666880" cy="274320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rcRect l="6976" t="6858" r="11624" b="10854"/>
            <a:stretch/>
          </p:blipFill>
          <p:spPr>
            <a:xfrm>
              <a:off x="3124080" y="3124080"/>
              <a:ext cx="26668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3276360" y="54100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4495680"/>
            <a:ext cx="2743200" cy="2057400"/>
            <a:chOff x="152280" y="4495680"/>
            <a:chExt cx="2743200" cy="205740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rcRect l="0" t="3638" r="0" b="30910"/>
            <a:stretch/>
          </p:blipFill>
          <p:spPr>
            <a:xfrm>
              <a:off x="152280" y="4495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228600" y="464832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095880" y="4464000"/>
            <a:ext cx="2819520" cy="2152800"/>
            <a:chOff x="6095880" y="4464000"/>
            <a:chExt cx="2819520" cy="215280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rcRect l="9075" t="5984" r="7753" b="10225"/>
            <a:stretch/>
          </p:blipFill>
          <p:spPr>
            <a:xfrm>
              <a:off x="6095880" y="4464000"/>
              <a:ext cx="28195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8534520" y="4648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71800" y="990720"/>
            <a:ext cx="2971800" cy="1909800"/>
            <a:chOff x="2971800" y="990720"/>
            <a:chExt cx="2971800" cy="1909800"/>
          </a:xfrm>
        </p:grpSpPr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2971800" y="990720"/>
              <a:ext cx="29718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3200400" y="2362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24080" y="533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17:53Z</dcterms:modified>
  <cp:revision>227</cp:revision>
  <dc:subject/>
  <dc:title>Slide 1</dc:title>
</cp:coreProperties>
</file>