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EE7-824B-4C7E-B81D-7BB7E324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851-E0DD-4A36-8412-3AEC2D57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B9F-33F2-4765-A11A-00BF3847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D67-D795-4E0E-9249-311FCBAC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09D-19CB-46C8-AAE0-C24F1C93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CE6-2352-486A-AEA7-A8016813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A70-2171-470B-B6DF-3C9E8918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7EA-BADF-4588-AD52-7556E162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1CBD-0119-4E48-9D2A-06524DF2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41D-D708-4AAE-B747-99F975C4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D08-28B4-408B-9970-56A9DB23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0D5-CBA1-43F1-8C1D-EAE392C6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E9F2-AA58-46C8-B9E6-3863A8D75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04760" y="57913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created by Tracy Trim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cience Spot -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362320" y="380880"/>
            <a:ext cx="4038480" cy="609840"/>
            <a:chOff x="2362320" y="380880"/>
            <a:chExt cx="4038480" cy="609840"/>
          </a:xfrm>
        </p:grpSpPr>
        <p:sp>
          <p:nvSpPr>
            <p:cNvPr id="44" name=""/>
            <p:cNvSpPr txBox="1"/>
            <p:nvPr/>
          </p:nvSpPr>
          <p:spPr>
            <a:xfrm>
              <a:off x="3354120" y="491040"/>
              <a:ext cx="3046680" cy="44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oper Black"/>
                </a:rPr>
                <a:t>Butterfly Brigade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  <a:ea typeface="Cooper Black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362320" y="380880"/>
              <a:ext cx="920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228600" y="6508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ages from http://www.bfly.org/galleries.html unless otherwise no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2627400">
            <a:off x="2285640" y="4200480"/>
            <a:ext cx="1803240" cy="1590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133720" y="1219320"/>
            <a:ext cx="4752720" cy="276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62520" y="4267080"/>
            <a:ext cx="2971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Brushfoo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art #2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Cooper Black"/>
              </a:rPr>
              <a:t>(Family Nymphalida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05520" y="3348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 Admi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5257800"/>
            <a:ext cx="426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red or orange band on upper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yespots on 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4114800" cy="40323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33520" y="609480"/>
            <a:ext cx="3657600" cy="4572000"/>
            <a:chOff x="533520" y="609480"/>
            <a:chExt cx="3657600" cy="45720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533520" y="609480"/>
              <a:ext cx="36576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flipH="1">
              <a:off x="1727280" y="1104840"/>
              <a:ext cx="76320" cy="7621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38040" y="6400800"/>
            <a:ext cx="446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www.chias.org/online/thebutterflylab/fieldguide/nativ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978440" y="4724280"/>
            <a:ext cx="33336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715000" y="60948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urn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o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1905120"/>
            <a:ext cx="33526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, light band a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 of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ouflaged under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038920" cy="3819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3809880" cy="293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6858" t="27543" r="0" b="0"/>
          <a:stretch/>
        </p:blipFill>
        <p:spPr>
          <a:xfrm>
            <a:off x="990720" y="4495680"/>
            <a:ext cx="310500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19720" y="762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-Spotted Pur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196524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swallowtail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no “tai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ck &amp; blue color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op, red spo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under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333600" cy="2219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62720" y="3962520"/>
            <a:ext cx="3333600" cy="2638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rcRect l="0" t="1165" r="0" b="0"/>
          <a:stretch/>
        </p:blipFill>
        <p:spPr>
          <a:xfrm>
            <a:off x="2743200" y="1828800"/>
            <a:ext cx="3333600" cy="3238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38040" y="640080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www.thebutterflysite.com/create-butterfly-garden.s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rcRect l="8766" t="0" r="0" b="32614"/>
          <a:stretch/>
        </p:blipFill>
        <p:spPr>
          <a:xfrm>
            <a:off x="723960" y="4889520"/>
            <a:ext cx="3100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5257800" y="3962520"/>
            <a:ext cx="3333600" cy="2428920"/>
            <a:chOff x="5257800" y="3962520"/>
            <a:chExt cx="3333600" cy="242892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257800" y="3962520"/>
              <a:ext cx="3333600" cy="24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flipH="1" flipV="1">
              <a:off x="7518240" y="5511960"/>
              <a:ext cx="60912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333600" cy="292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2940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cer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3809880"/>
            <a:ext cx="426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mic of the monarch, but is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a black line on the hind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rcRect l="6976" t="6858" r="0" b="0"/>
          <a:stretch/>
        </p:blipFill>
        <p:spPr>
          <a:xfrm>
            <a:off x="3765600" y="717480"/>
            <a:ext cx="3048120" cy="3105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2120" y="6248520"/>
            <a:ext cx="396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www.thebutterflysite.com/create-butterfly-garden.s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rcRect l="17396" t="27141" r="15219" b="17343"/>
          <a:stretch/>
        </p:blipFill>
        <p:spPr>
          <a:xfrm>
            <a:off x="1562040" y="4800600"/>
            <a:ext cx="23623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505240" cy="3333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2019600" cy="33336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3200400" y="533520"/>
            <a:ext cx="3352680" cy="2913480"/>
            <a:chOff x="3200400" y="533520"/>
            <a:chExt cx="3352680" cy="2913480"/>
          </a:xfrm>
        </p:grpSpPr>
        <p:grpSp>
          <p:nvGrpSpPr>
            <p:cNvPr id="82" name=""/>
            <p:cNvGrpSpPr/>
            <p:nvPr/>
          </p:nvGrpSpPr>
          <p:grpSpPr>
            <a:xfrm>
              <a:off x="3200400" y="533520"/>
              <a:ext cx="3352680" cy="2913480"/>
              <a:chOff x="3200400" y="533520"/>
              <a:chExt cx="3352680" cy="2913480"/>
            </a:xfrm>
          </p:grpSpPr>
          <p:pic>
            <p:nvPicPr>
              <p:cNvPr id="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0400" y="533520"/>
                <a:ext cx="3333600" cy="207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3200400" y="2743200"/>
                <a:ext cx="335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les have two scent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tches on hindwing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5029200" y="1981080"/>
              <a:ext cx="152280" cy="457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4"/>
          <a:srcRect l="19198" t="16976" r="6137" b="0"/>
          <a:stretch/>
        </p:blipFill>
        <p:spPr>
          <a:xfrm>
            <a:off x="304920" y="3733920"/>
            <a:ext cx="2666880" cy="260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40" y="6400800"/>
            <a:ext cx="335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erpillar: http://www.mlmp.org/art/k_durbi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457200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7760" y="4038480"/>
            <a:ext cx="4334760" cy="2683080"/>
            <a:chOff x="4577760" y="4038480"/>
            <a:chExt cx="4334760" cy="2683080"/>
          </a:xfrm>
        </p:grpSpPr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5334120" y="4038480"/>
              <a:ext cx="3333600" cy="24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 flipH="1" flipV="1">
              <a:off x="6857640" y="5943600"/>
              <a:ext cx="685800" cy="5335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10080" y="4114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icero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334120" y="6248160"/>
              <a:ext cx="380880" cy="152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86320" y="6445080"/>
              <a:ext cx="172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ack lines on hindw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7760" y="6445080"/>
              <a:ext cx="20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fferent white marks on edg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8120" y="5105520"/>
            <a:ext cx="22860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ubfamily Danaina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286000" y="51814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 Butterfl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038480" y="609480"/>
            <a:ext cx="2590920" cy="219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438280" y="2133720"/>
            <a:ext cx="4191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Cooper Black"/>
              </a:rPr>
              <a:t>Quiz Tim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283536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each butterf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04920" y="304920"/>
            <a:ext cx="2514600" cy="1639800"/>
            <a:chOff x="304920" y="304920"/>
            <a:chExt cx="2514600" cy="16398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rcRect l="7549" t="13058" r="5659" b="8651"/>
            <a:stretch/>
          </p:blipFill>
          <p:spPr>
            <a:xfrm>
              <a:off x="304920" y="304920"/>
              <a:ext cx="251460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 txBox="1"/>
            <p:nvPr/>
          </p:nvSpPr>
          <p:spPr>
            <a:xfrm>
              <a:off x="457200" y="380880"/>
              <a:ext cx="20016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248520" y="228600"/>
            <a:ext cx="2666880" cy="1774800"/>
            <a:chOff x="6248520" y="228600"/>
            <a:chExt cx="2666880" cy="177480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6248520" y="228600"/>
              <a:ext cx="266688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 txBox="1"/>
            <p:nvPr/>
          </p:nvSpPr>
          <p:spPr>
            <a:xfrm>
              <a:off x="6324480" y="3049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124080" y="3124080"/>
            <a:ext cx="2666880" cy="2743200"/>
            <a:chOff x="3124080" y="3124080"/>
            <a:chExt cx="2666880" cy="2743200"/>
          </a:xfrm>
        </p:grpSpPr>
        <p:pic>
          <p:nvPicPr>
            <p:cNvPr id="109" name="" descr=""/>
            <p:cNvPicPr/>
            <p:nvPr/>
          </p:nvPicPr>
          <p:blipFill>
            <a:blip r:embed="rId3"/>
            <a:srcRect l="6976" t="6858" r="11624" b="10854"/>
            <a:stretch/>
          </p:blipFill>
          <p:spPr>
            <a:xfrm>
              <a:off x="3124080" y="3124080"/>
              <a:ext cx="26668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 txBox="1"/>
            <p:nvPr/>
          </p:nvSpPr>
          <p:spPr>
            <a:xfrm>
              <a:off x="3276360" y="5410080"/>
              <a:ext cx="20016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52280" y="4495680"/>
            <a:ext cx="2743200" cy="2057400"/>
            <a:chOff x="152280" y="4495680"/>
            <a:chExt cx="2743200" cy="2057400"/>
          </a:xfrm>
        </p:grpSpPr>
        <p:pic>
          <p:nvPicPr>
            <p:cNvPr id="112" name="" descr=""/>
            <p:cNvPicPr/>
            <p:nvPr/>
          </p:nvPicPr>
          <p:blipFill>
            <a:blip r:embed="rId4"/>
            <a:srcRect l="0" t="3638" r="0" b="30910"/>
            <a:stretch/>
          </p:blipFill>
          <p:spPr>
            <a:xfrm>
              <a:off x="152280" y="4495680"/>
              <a:ext cx="274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228600" y="4648320"/>
              <a:ext cx="200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095880" y="4464000"/>
            <a:ext cx="2819520" cy="2152800"/>
            <a:chOff x="6095880" y="4464000"/>
            <a:chExt cx="2819520" cy="2152800"/>
          </a:xfrm>
        </p:grpSpPr>
        <p:pic>
          <p:nvPicPr>
            <p:cNvPr id="115" name="" descr=""/>
            <p:cNvPicPr/>
            <p:nvPr/>
          </p:nvPicPr>
          <p:blipFill>
            <a:blip r:embed="rId5"/>
            <a:srcRect l="9075" t="5984" r="7753" b="10225"/>
            <a:stretch/>
          </p:blipFill>
          <p:spPr>
            <a:xfrm>
              <a:off x="6095880" y="4464000"/>
              <a:ext cx="281952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 txBox="1"/>
            <p:nvPr/>
          </p:nvSpPr>
          <p:spPr>
            <a:xfrm>
              <a:off x="8534520" y="46483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971800" y="990720"/>
            <a:ext cx="2971800" cy="1909800"/>
            <a:chOff x="2971800" y="990720"/>
            <a:chExt cx="2971800" cy="1909800"/>
          </a:xfrm>
        </p:grpSpPr>
        <p:pic>
          <p:nvPicPr>
            <p:cNvPr id="118" name="" descr=""/>
            <p:cNvPicPr/>
            <p:nvPr/>
          </p:nvPicPr>
          <p:blipFill>
            <a:blip r:embed="rId6"/>
            <a:stretch/>
          </p:blipFill>
          <p:spPr>
            <a:xfrm>
              <a:off x="2971800" y="990720"/>
              <a:ext cx="2971800" cy="19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 txBox="1"/>
            <p:nvPr/>
          </p:nvSpPr>
          <p:spPr>
            <a:xfrm>
              <a:off x="3200400" y="23623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095880" y="2286000"/>
            <a:ext cx="281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cero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urning Cloa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 Admir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-Spotted Purp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arl Cresc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04920" y="304920"/>
            <a:ext cx="2514600" cy="1639800"/>
            <a:chOff x="304920" y="304920"/>
            <a:chExt cx="2514600" cy="163980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rcRect l="7549" t="13058" r="5659" b="8651"/>
            <a:stretch/>
          </p:blipFill>
          <p:spPr>
            <a:xfrm>
              <a:off x="304920" y="304920"/>
              <a:ext cx="251460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 txBox="1"/>
            <p:nvPr/>
          </p:nvSpPr>
          <p:spPr>
            <a:xfrm>
              <a:off x="457200" y="380880"/>
              <a:ext cx="20016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048120" y="59436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cer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022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 Adm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40384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urning Clo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2057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-Spotted Pur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1981080"/>
            <a:ext cx="2819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arl Cre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22640" y="11124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248520" y="228600"/>
            <a:ext cx="2666880" cy="1774800"/>
            <a:chOff x="6248520" y="228600"/>
            <a:chExt cx="2666880" cy="177480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6248520" y="228600"/>
              <a:ext cx="266688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 txBox="1"/>
            <p:nvPr/>
          </p:nvSpPr>
          <p:spPr>
            <a:xfrm>
              <a:off x="6324480" y="3049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124080" y="3124080"/>
            <a:ext cx="2666880" cy="2743200"/>
            <a:chOff x="3124080" y="3124080"/>
            <a:chExt cx="2666880" cy="2743200"/>
          </a:xfrm>
        </p:grpSpPr>
        <p:pic>
          <p:nvPicPr>
            <p:cNvPr id="134" name="" descr=""/>
            <p:cNvPicPr/>
            <p:nvPr/>
          </p:nvPicPr>
          <p:blipFill>
            <a:blip r:embed="rId3"/>
            <a:srcRect l="6976" t="6858" r="11624" b="10854"/>
            <a:stretch/>
          </p:blipFill>
          <p:spPr>
            <a:xfrm>
              <a:off x="3124080" y="3124080"/>
              <a:ext cx="26668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3276360" y="5410080"/>
              <a:ext cx="20016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280" y="4495680"/>
            <a:ext cx="2743200" cy="2057400"/>
            <a:chOff x="152280" y="4495680"/>
            <a:chExt cx="2743200" cy="2057400"/>
          </a:xfrm>
        </p:grpSpPr>
        <p:pic>
          <p:nvPicPr>
            <p:cNvPr id="137" name="" descr=""/>
            <p:cNvPicPr/>
            <p:nvPr/>
          </p:nvPicPr>
          <p:blipFill>
            <a:blip r:embed="rId4"/>
            <a:srcRect l="0" t="3638" r="0" b="30910"/>
            <a:stretch/>
          </p:blipFill>
          <p:spPr>
            <a:xfrm>
              <a:off x="152280" y="4495680"/>
              <a:ext cx="274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 txBox="1"/>
            <p:nvPr/>
          </p:nvSpPr>
          <p:spPr>
            <a:xfrm>
              <a:off x="228600" y="4648320"/>
              <a:ext cx="200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095880" y="4464000"/>
            <a:ext cx="2819520" cy="2152800"/>
            <a:chOff x="6095880" y="4464000"/>
            <a:chExt cx="2819520" cy="2152800"/>
          </a:xfrm>
        </p:grpSpPr>
        <p:pic>
          <p:nvPicPr>
            <p:cNvPr id="140" name="" descr=""/>
            <p:cNvPicPr/>
            <p:nvPr/>
          </p:nvPicPr>
          <p:blipFill>
            <a:blip r:embed="rId5"/>
            <a:srcRect l="9075" t="5984" r="7753" b="10225"/>
            <a:stretch/>
          </p:blipFill>
          <p:spPr>
            <a:xfrm>
              <a:off x="6095880" y="4464000"/>
              <a:ext cx="281952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 txBox="1"/>
            <p:nvPr/>
          </p:nvSpPr>
          <p:spPr>
            <a:xfrm>
              <a:off x="8534520" y="46483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971800" y="990720"/>
            <a:ext cx="2971800" cy="1909800"/>
            <a:chOff x="2971800" y="990720"/>
            <a:chExt cx="2971800" cy="1909800"/>
          </a:xfrm>
        </p:grpSpPr>
        <p:pic>
          <p:nvPicPr>
            <p:cNvPr id="143" name="" descr=""/>
            <p:cNvPicPr/>
            <p:nvPr/>
          </p:nvPicPr>
          <p:blipFill>
            <a:blip r:embed="rId6"/>
            <a:stretch/>
          </p:blipFill>
          <p:spPr>
            <a:xfrm>
              <a:off x="2971800" y="990720"/>
              <a:ext cx="2971800" cy="19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3200400" y="23623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124080" y="533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43:02Z</dcterms:created>
  <dc:creator>Tracy Trimpe</dc:creator>
  <dc:description/>
  <dc:language>en-US</dc:language>
  <cp:lastModifiedBy>Tracy Trimpe</cp:lastModifiedBy>
  <dcterms:modified xsi:type="dcterms:W3CDTF">2008-07-22T23:17:53Z</dcterms:modified>
  <cp:revision>227</cp:revision>
  <dc:subject/>
  <dc:title>Slide 1</dc:title>
</cp:coreProperties>
</file>