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27E-1026-4A29-B8C8-25DBA961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4B7-8494-4C98-8742-0C9639FA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EC2-1334-46BC-9F88-EE8AF7E8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A44-531B-435F-92FA-1AFC95A3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6FD-513E-408A-B9CF-B2B48F9D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20C-A69C-43B9-8AF4-B2B56896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4C4-97B0-4378-A1B2-3B2F66D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0B9-3215-4E66-BF6E-824847B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539-43DB-494D-A8DA-2E258493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E9F-26C5-49DE-BEB3-97FB87B6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D41-432A-4F0A-8881-FAEDB054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755-95AE-4E3E-9605-90A93623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8F50-931D-4D36-B0F6-3C5BBECF0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913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08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627400">
            <a:off x="2285640" y="4200480"/>
            <a:ext cx="180324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33720" y="1219320"/>
            <a:ext cx="4752720" cy="276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2520" y="4267080"/>
            <a:ext cx="2971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rushfoo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rt #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ooper Black"/>
              </a:rPr>
              <a:t>(Family Nymphalid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304920"/>
            <a:ext cx="8839440" cy="6352920"/>
            <a:chOff x="152280" y="304920"/>
            <a:chExt cx="8839440" cy="63529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26990" t="19705" r="11114" b="15268"/>
            <a:stretch/>
          </p:blipFill>
          <p:spPr>
            <a:xfrm>
              <a:off x="3276720" y="4362480"/>
              <a:ext cx="259056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rcRect l="13047" t="0" r="4353" b="4527"/>
            <a:stretch/>
          </p:blipFill>
          <p:spPr>
            <a:xfrm>
              <a:off x="6095880" y="914400"/>
              <a:ext cx="289584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rcRect l="6815" t="0" r="6815" b="0"/>
            <a:stretch/>
          </p:blipFill>
          <p:spPr>
            <a:xfrm>
              <a:off x="152280" y="995400"/>
              <a:ext cx="2895840" cy="25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rcRect l="0" t="0" r="25143" b="0"/>
            <a:stretch/>
          </p:blipFill>
          <p:spPr>
            <a:xfrm>
              <a:off x="552600" y="3733920"/>
              <a:ext cx="2495520" cy="29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rcRect l="0" t="0" r="7369" b="16421"/>
            <a:stretch/>
          </p:blipFill>
          <p:spPr>
            <a:xfrm>
              <a:off x="6095880" y="3657600"/>
              <a:ext cx="251460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rcRect l="7549" t="13058" r="5659" b="8651"/>
            <a:stretch/>
          </p:blipFill>
          <p:spPr>
            <a:xfrm>
              <a:off x="3314880" y="304920"/>
              <a:ext cx="25146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2666880" y="114300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505320" y="45720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6248520" y="9907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685960" y="388620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6248520" y="37339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5562720" y="443880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124080" y="19810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rl Cr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335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5335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ted 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6248520"/>
            <a:ext cx="2895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al Fritil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6308640"/>
            <a:ext cx="2895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-spangled Fritil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39466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43828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52880" y="3049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n 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378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4572000" cy="3435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1279440"/>
            <a:ext cx="373392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– Inner mark 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– Large eye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81280" y="1066320"/>
            <a:ext cx="144792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2971800"/>
            <a:ext cx="7632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580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320" y="6477120"/>
            <a:ext cx="41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s: http://www.terrain.org/articles/18/hillso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00600" y="12952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ted 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962520"/>
            <a:ext cx="37339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– Inner white 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Small eye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419720" cy="3308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4572000" cy="348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609480" y="1143000"/>
            <a:ext cx="106704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5638680"/>
            <a:ext cx="1523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47712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thebutterflysite.com/create-butterfly-garden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16215" t="0" r="21627" b="0"/>
          <a:stretch/>
        </p:blipFill>
        <p:spPr>
          <a:xfrm>
            <a:off x="304920" y="4495680"/>
            <a:ext cx="175248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81480" y="1295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ck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4240" y="1981080"/>
            <a:ext cx="34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eyespots on upp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800600" cy="3867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10080" y="2895480"/>
            <a:ext cx="3200400" cy="333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7574" r="0" b="28794"/>
          <a:stretch/>
        </p:blipFill>
        <p:spPr>
          <a:xfrm>
            <a:off x="914400" y="457200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647712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thebutterflysite.com/create-butterfly-garden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838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at-Spangled Fritil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1523880"/>
            <a:ext cx="4495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utterflies that fly ver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light band near edge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004" t="23767" r="18004" b="29021"/>
          <a:stretch/>
        </p:blipFill>
        <p:spPr>
          <a:xfrm>
            <a:off x="380880" y="609480"/>
            <a:ext cx="3429000" cy="2205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0" r="25143" b="0"/>
          <a:stretch/>
        </p:blipFill>
        <p:spPr>
          <a:xfrm>
            <a:off x="3067200" y="2590920"/>
            <a:ext cx="2495520" cy="292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76880" y="3581280"/>
            <a:ext cx="3333600" cy="2800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7200" y="4343400"/>
            <a:ext cx="2209680" cy="187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8680" y="6537240"/>
            <a:ext cx="424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fcps.edu/islandcreekes/ecology/quickidcaterpillar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14074" b="0"/>
          <a:stretch/>
        </p:blipFill>
        <p:spPr>
          <a:xfrm>
            <a:off x="4419720" y="2514600"/>
            <a:ext cx="4419360" cy="385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19720" y="2286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al Fritil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914400"/>
            <a:ext cx="3733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angered butterfly in Illin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great-spangled, but with more white on undersides and white on top hind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0" r="0" b="16421"/>
          <a:stretch/>
        </p:blipFill>
        <p:spPr>
          <a:xfrm>
            <a:off x="304920" y="304920"/>
            <a:ext cx="400032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1066680" y="4724280"/>
          <a:ext cx="2438640" cy="16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724280"/>
                    <a:ext cx="243864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09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arl Cresc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572000"/>
            <a:ext cx="3124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fore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ly” patterns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 lines near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333600" cy="2505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16006" t="27672" r="24571" b="17006"/>
          <a:stretch/>
        </p:blipFill>
        <p:spPr>
          <a:xfrm>
            <a:off x="3581280" y="358128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495680" y="762120"/>
            <a:ext cx="4038840" cy="291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172200" y="4267080"/>
            <a:ext cx="2190600" cy="2190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38040" y="6400800"/>
            <a:ext cx="446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s: http://www.chias.org/online/thebutterflylab/fieldguide/nat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0" y="5181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24080" y="2193840"/>
            <a:ext cx="289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Lad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ted Lad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rl Cresc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y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al Fritill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-spangled Fritil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each butter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304920"/>
            <a:ext cx="8839440" cy="6352920"/>
            <a:chOff x="152280" y="304920"/>
            <a:chExt cx="8839440" cy="6352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rcRect l="26990" t="19705" r="11114" b="15268"/>
            <a:stretch/>
          </p:blipFill>
          <p:spPr>
            <a:xfrm>
              <a:off x="3276720" y="4362480"/>
              <a:ext cx="259056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rcRect l="13047" t="0" r="4353" b="4527"/>
            <a:stretch/>
          </p:blipFill>
          <p:spPr>
            <a:xfrm>
              <a:off x="6095880" y="914400"/>
              <a:ext cx="289584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rcRect l="6815" t="0" r="6815" b="0"/>
            <a:stretch/>
          </p:blipFill>
          <p:spPr>
            <a:xfrm>
              <a:off x="152280" y="995400"/>
              <a:ext cx="2895840" cy="25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rcRect l="0" t="0" r="25143" b="0"/>
            <a:stretch/>
          </p:blipFill>
          <p:spPr>
            <a:xfrm>
              <a:off x="552600" y="3733920"/>
              <a:ext cx="2495520" cy="29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rcRect l="0" t="0" r="7369" b="16421"/>
            <a:stretch/>
          </p:blipFill>
          <p:spPr>
            <a:xfrm>
              <a:off x="6095880" y="3657600"/>
              <a:ext cx="251460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rcRect l="7549" t="13058" r="5659" b="8651"/>
            <a:stretch/>
          </p:blipFill>
          <p:spPr>
            <a:xfrm>
              <a:off x="3314880" y="304920"/>
              <a:ext cx="25146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2666880" y="114300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505320" y="45720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6248520" y="9907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685960" y="388620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248520" y="37339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562720" y="443880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2T23:05:18Z</dcterms:modified>
  <cp:revision>225</cp:revision>
  <dc:subject/>
  <dc:title>Slide 1</dc:title>
</cp:coreProperties>
</file>