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4A9-49DC-480E-8179-796498E3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AE32-A109-4120-BBD0-2561A5AB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7A9-BA3F-4647-A43A-80E4DBB2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B8C-FE9F-49E4-9D01-B6A47628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7049-0DA9-4C17-A80E-2EBDC9D2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446A-31CE-4B4F-94C0-B4C33156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D9A-F549-4AFD-A8A6-D4B09F41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20C-B8A8-4A04-B35C-AF5D67A9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E05-CCE0-49ED-AB78-77455705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1A1-10EA-4E33-8E90-F6BEFB85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5EF0-1DC4-456B-807E-03F0DA0B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1DA-C346-49AD-8154-7FF08B78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B322-0DE9-4433-9DCA-114C809B3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9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9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04760" y="57913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created by Tracy Trim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cience Spot -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362320" y="380880"/>
            <a:ext cx="4038480" cy="609840"/>
            <a:chOff x="2362320" y="380880"/>
            <a:chExt cx="4038480" cy="609840"/>
          </a:xfrm>
        </p:grpSpPr>
        <p:sp>
          <p:nvSpPr>
            <p:cNvPr id="44" name=""/>
            <p:cNvSpPr txBox="1"/>
            <p:nvPr/>
          </p:nvSpPr>
          <p:spPr>
            <a:xfrm>
              <a:off x="3354120" y="491040"/>
              <a:ext cx="3046680" cy="44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oper Black"/>
                </a:rPr>
                <a:t>Butterfly Brigade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  <a:ea typeface="Cooper Black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362320" y="380880"/>
              <a:ext cx="920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228600" y="6508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ages from http://www.bfly.org/galleries.html unless otherwise no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2627400">
            <a:off x="2285640" y="4200480"/>
            <a:ext cx="1803240" cy="1590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133720" y="1219320"/>
            <a:ext cx="4752720" cy="276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62520" y="4267080"/>
            <a:ext cx="2971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Brushfoo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art #1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Cooper Black"/>
              </a:rPr>
              <a:t>(Family Nymphalida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52280" y="304920"/>
            <a:ext cx="8839440" cy="6352920"/>
            <a:chOff x="152280" y="304920"/>
            <a:chExt cx="8839440" cy="635292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rcRect l="26990" t="19705" r="11114" b="15268"/>
            <a:stretch/>
          </p:blipFill>
          <p:spPr>
            <a:xfrm>
              <a:off x="3276720" y="4362480"/>
              <a:ext cx="2590560" cy="21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rcRect l="13047" t="0" r="4353" b="4527"/>
            <a:stretch/>
          </p:blipFill>
          <p:spPr>
            <a:xfrm>
              <a:off x="6095880" y="914400"/>
              <a:ext cx="289584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rcRect l="6815" t="0" r="6815" b="0"/>
            <a:stretch/>
          </p:blipFill>
          <p:spPr>
            <a:xfrm>
              <a:off x="152280" y="995400"/>
              <a:ext cx="2895840" cy="250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rcRect l="0" t="0" r="25143" b="0"/>
            <a:stretch/>
          </p:blipFill>
          <p:spPr>
            <a:xfrm>
              <a:off x="552600" y="3733920"/>
              <a:ext cx="2495520" cy="29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5"/>
            <a:srcRect l="0" t="0" r="7369" b="16421"/>
            <a:stretch/>
          </p:blipFill>
          <p:spPr>
            <a:xfrm>
              <a:off x="6095880" y="3657600"/>
              <a:ext cx="251460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6"/>
            <a:srcRect l="7549" t="13058" r="5659" b="8651"/>
            <a:stretch/>
          </p:blipFill>
          <p:spPr>
            <a:xfrm>
              <a:off x="3314880" y="304920"/>
              <a:ext cx="251460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 txBox="1"/>
            <p:nvPr/>
          </p:nvSpPr>
          <p:spPr>
            <a:xfrm>
              <a:off x="2666880" y="1143000"/>
              <a:ext cx="200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505320" y="45720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6248520" y="9907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2685960" y="3886200"/>
              <a:ext cx="200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6248520" y="37339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5562720" y="443880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124080" y="19810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arl Cre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5335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5335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nted 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6248520"/>
            <a:ext cx="2895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al Fritil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6308640"/>
            <a:ext cx="2895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-spangled Fritil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39466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ck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2438280"/>
            <a:ext cx="289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952880" y="3049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n 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495680" cy="3378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4572000" cy="3435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52880" y="1279440"/>
            <a:ext cx="3733920" cy="17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– Inner mark 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tom – Large eye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581280" y="1066320"/>
            <a:ext cx="1447920" cy="381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2971800"/>
            <a:ext cx="76320" cy="1219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5800" y="3962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320" y="6477120"/>
            <a:ext cx="41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s: http://www.terrain.org/articles/18/hillson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800600" y="12952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ted 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962520"/>
            <a:ext cx="37339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– Inner white 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tom 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Small eye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419720" cy="3308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43400" y="3048120"/>
            <a:ext cx="4572000" cy="3487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609480" y="1143000"/>
            <a:ext cx="106704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5638680"/>
            <a:ext cx="15238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647712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www.thebutterflysite.com/create-butterfly-garden.s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16215" t="0" r="21627" b="0"/>
          <a:stretch/>
        </p:blipFill>
        <p:spPr>
          <a:xfrm>
            <a:off x="304920" y="4495680"/>
            <a:ext cx="175248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181480" y="1295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ck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4240" y="1981080"/>
            <a:ext cx="34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eyespots on upp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800600" cy="3867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410080" y="2895480"/>
            <a:ext cx="3200400" cy="333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7574" r="0" b="28794"/>
          <a:stretch/>
        </p:blipFill>
        <p:spPr>
          <a:xfrm>
            <a:off x="914400" y="457200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" y="647712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www.thebutterflysite.com/create-butterfly-garden.s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38480" y="8380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eat-Spangled Fritil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1523880"/>
            <a:ext cx="4495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butterflies that fly very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 light band near edge of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8004" t="23767" r="18004" b="29021"/>
          <a:stretch/>
        </p:blipFill>
        <p:spPr>
          <a:xfrm>
            <a:off x="380880" y="609480"/>
            <a:ext cx="3429000" cy="2205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0" t="0" r="25143" b="0"/>
          <a:stretch/>
        </p:blipFill>
        <p:spPr>
          <a:xfrm>
            <a:off x="3067200" y="2590920"/>
            <a:ext cx="2495520" cy="2923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276880" y="3581280"/>
            <a:ext cx="3333600" cy="2800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57200" y="4343400"/>
            <a:ext cx="2209680" cy="1871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8680" y="6537240"/>
            <a:ext cx="424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www.fcps.edu/islandcreekes/ecology/quickidcaterpillar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14074" b="0"/>
          <a:stretch/>
        </p:blipFill>
        <p:spPr>
          <a:xfrm>
            <a:off x="4419720" y="2514600"/>
            <a:ext cx="4419360" cy="3857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19720" y="2286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al Fritil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914400"/>
            <a:ext cx="3733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angered butterfly in Illin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great-spangled, but with more white on undersides and white on top hind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0" t="0" r="0" b="16421"/>
          <a:stretch/>
        </p:blipFill>
        <p:spPr>
          <a:xfrm>
            <a:off x="304920" y="304920"/>
            <a:ext cx="4000320" cy="42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1066680" y="4724280"/>
          <a:ext cx="2438640" cy="166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724280"/>
                    <a:ext cx="243864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6094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arl Cresc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572000"/>
            <a:ext cx="3124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fore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ly” patterns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ck lines near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333600" cy="2505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rcRect l="16006" t="27672" r="24571" b="17006"/>
          <a:stretch/>
        </p:blipFill>
        <p:spPr>
          <a:xfrm>
            <a:off x="3581280" y="3581280"/>
            <a:ext cx="198144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495680" y="762120"/>
            <a:ext cx="4038840" cy="291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172200" y="4267080"/>
            <a:ext cx="2190600" cy="2190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38040" y="6400800"/>
            <a:ext cx="446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s: http://www.chias.org/online/thebutterflylab/fieldguide/nativ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286000" y="51814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 Butterfl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38480" y="609480"/>
            <a:ext cx="2590920" cy="219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438280" y="2133720"/>
            <a:ext cx="4191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Cooper Black"/>
              </a:rPr>
              <a:t>Quiz Tim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124080" y="2193840"/>
            <a:ext cx="2895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Lad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nted Lad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arl Cresc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ckey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al Fritill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-spangled Fritil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04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each butterf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280" y="304920"/>
            <a:ext cx="8839440" cy="6352920"/>
            <a:chOff x="152280" y="304920"/>
            <a:chExt cx="8839440" cy="6352920"/>
          </a:xfrm>
        </p:grpSpPr>
        <p:pic>
          <p:nvPicPr>
            <p:cNvPr id="99" name="" descr=""/>
            <p:cNvPicPr/>
            <p:nvPr/>
          </p:nvPicPr>
          <p:blipFill>
            <a:blip r:embed="rId1"/>
            <a:srcRect l="26990" t="19705" r="11114" b="15268"/>
            <a:stretch/>
          </p:blipFill>
          <p:spPr>
            <a:xfrm>
              <a:off x="3276720" y="4362480"/>
              <a:ext cx="2590560" cy="21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rcRect l="13047" t="0" r="4353" b="4527"/>
            <a:stretch/>
          </p:blipFill>
          <p:spPr>
            <a:xfrm>
              <a:off x="6095880" y="914400"/>
              <a:ext cx="289584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rcRect l="6815" t="0" r="6815" b="0"/>
            <a:stretch/>
          </p:blipFill>
          <p:spPr>
            <a:xfrm>
              <a:off x="152280" y="995400"/>
              <a:ext cx="2895840" cy="250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rcRect l="0" t="0" r="25143" b="0"/>
            <a:stretch/>
          </p:blipFill>
          <p:spPr>
            <a:xfrm>
              <a:off x="552600" y="3733920"/>
              <a:ext cx="2495520" cy="29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rcRect l="0" t="0" r="7369" b="16421"/>
            <a:stretch/>
          </p:blipFill>
          <p:spPr>
            <a:xfrm>
              <a:off x="6095880" y="3657600"/>
              <a:ext cx="251460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rcRect l="7549" t="13058" r="5659" b="8651"/>
            <a:stretch/>
          </p:blipFill>
          <p:spPr>
            <a:xfrm>
              <a:off x="3314880" y="304920"/>
              <a:ext cx="251460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 txBox="1"/>
            <p:nvPr/>
          </p:nvSpPr>
          <p:spPr>
            <a:xfrm>
              <a:off x="2666880" y="1143000"/>
              <a:ext cx="200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505320" y="45720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6248520" y="9907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685960" y="3886200"/>
              <a:ext cx="200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6248520" y="373392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5562720" y="4438800"/>
              <a:ext cx="1998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43:02Z</dcterms:created>
  <dc:creator>Tracy Trimpe</dc:creator>
  <dc:description/>
  <dc:language>en-US</dc:language>
  <cp:lastModifiedBy>Tracy Trimpe</cp:lastModifiedBy>
  <dcterms:modified xsi:type="dcterms:W3CDTF">2008-07-22T23:05:18Z</dcterms:modified>
  <cp:revision>225</cp:revision>
  <dc:subject/>
  <dc:title>Slide 1</dc:title>
</cp:coreProperties>
</file>